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9.xml.rels" ContentType="application/vnd.openxmlformats-package.relationships+xml"/>
  <Override PartName="/ppt/notesSlides/_rels/notesSlide230.xml.rels" ContentType="application/vnd.openxmlformats-package.relationships+xml"/>
  <Override PartName="/ppt/notesSlides/notesSlide19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230.xml" ContentType="application/vnd.openxmlformats-officedocument.presentationml.notesSlide+xml"/>
  <Override PartName="/ppt/notesSlides/notesSlide229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33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233.xml.rels" ContentType="application/vnd.openxmlformats-package.relationships+xml"/>
  <Override PartName="/ppt/slides/_rels/slide228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74.xml.rels" ContentType="application/vnd.openxmlformats-package.relationships+xml"/>
  <Override PartName="/ppt/slides/_rels/slide254.xml.rels" ContentType="application/vnd.openxmlformats-package.relationships+xml"/>
  <Override PartName="/ppt/slides/_rels/slide130.xml.rels" ContentType="application/vnd.openxmlformats-package.relationships+xml"/>
  <Override PartName="/ppt/slides/_rels/slide11.xml.rels" ContentType="application/vnd.openxmlformats-package.relationships+xml"/>
  <Override PartName="/ppt/slides/_rels/slide6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263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14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28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46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52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0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131.xml.rels" ContentType="application/vnd.openxmlformats-package.relationships+xml"/>
  <Override PartName="/ppt/slides/_rels/slide127.xml.rels" ContentType="application/vnd.openxmlformats-package.relationships+xml"/>
  <Override PartName="/ppt/slides/_rels/slide60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12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102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60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24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141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26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63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34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32.xml.rels" ContentType="application/vnd.openxmlformats-package.relationships+xml"/>
  <Override PartName="/ppt/slides/_rels/slide143.xml.rels" ContentType="application/vnd.openxmlformats-package.relationships+xml"/>
  <Override PartName="/ppt/slides/_rels/slide97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54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120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3.xml.rels" ContentType="application/vnd.openxmlformats-package.relationships+xml"/>
  <Override PartName="/ppt/slides/_rels/slide16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2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251.xml.rels" ContentType="application/vnd.openxmlformats-package.relationships+xml"/>
  <Override PartName="/ppt/slides/_rels/slide212.xml.rels" ContentType="application/vnd.openxmlformats-package.relationships+xml"/>
  <Override PartName="/ppt/slides/_rels/slide1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52.xml.rels" ContentType="application/vnd.openxmlformats-package.relationships+xml"/>
  <Override PartName="/ppt/slides/_rels/slide171.xml.rels" ContentType="application/vnd.openxmlformats-package.relationships+xml"/>
  <Override PartName="/ppt/slides/_rels/slide170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68.xml.rels" ContentType="application/vnd.openxmlformats-package.relationships+xml"/>
  <Override PartName="/ppt/slides/_rels/slide248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8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242.xml" ContentType="application/vnd.openxmlformats-officedocument.presentationml.slide+xml"/>
  <Override PartName="/ppt/slides/slide6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60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91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61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118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263.xml" ContentType="application/vnd.openxmlformats-officedocument.presentationml.slide+xml"/>
  <Override PartName="/ppt/slides/slide262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81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22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70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101.xml" ContentType="application/vnd.openxmlformats-officedocument.presentationml.slide+xml"/>
  <Override PartName="/ppt/slides/slide100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166.xml" ContentType="application/vnd.openxmlformats-officedocument.presentationml.slide+xml"/>
  <Override PartName="/ppt/slides/slide204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6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43.xml" ContentType="application/vnd.openxmlformats-officedocument.presentationml.slide+xml"/>
  <Override PartName="/ppt/slides/slide209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7.xml" ContentType="application/vnd.openxmlformats-officedocument.presentationml.slide+xml"/>
  <Override PartName="/ppt/slides/slide72.xml" ContentType="application/vnd.openxmlformats-officedocument.presentationml.slide+xml"/>
  <Override PartName="/ppt/slides/slide238.xml" ContentType="application/vnd.openxmlformats-officedocument.presentationml.slide+xml"/>
  <Override PartName="/ppt/slides/slide73.xml" ContentType="application/vnd.openxmlformats-officedocument.presentationml.slide+xml"/>
  <Override PartName="/ppt/slides/slide239.xml" ContentType="application/vnd.openxmlformats-officedocument.presentationml.slide+xml"/>
  <Override PartName="/ppt/slides/slide80.xml" ContentType="application/vnd.openxmlformats-officedocument.presentationml.slide+xml"/>
  <Override PartName="/ppt/slides/slide246.xml" ContentType="application/vnd.openxmlformats-officedocument.presentationml.slide+xml"/>
  <Override PartName="/ppt/slides/slide81.xml" ContentType="application/vnd.openxmlformats-officedocument.presentationml.slide+xml"/>
  <Override PartName="/ppt/slides/slide247.xml" ContentType="application/vnd.openxmlformats-officedocument.presentationml.slide+xml"/>
  <Override PartName="/ppt/slides/slide82.xml" ContentType="application/vnd.openxmlformats-officedocument.presentationml.slide+xml"/>
  <Override PartName="/ppt/slides/slide248.xml" ContentType="application/vnd.openxmlformats-officedocument.presentationml.slide+xml"/>
  <Override PartName="/ppt/slides/slide83.xml" ContentType="application/vnd.openxmlformats-officedocument.presentationml.slide+xml"/>
  <Override PartName="/ppt/slides/slide249.xml" ContentType="application/vnd.openxmlformats-officedocument.presentationml.slide+xml"/>
  <Override PartName="/ppt/slides/slide250.xml" ContentType="application/vnd.openxmlformats-officedocument.presentationml.slide+xml"/>
  <Override PartName="/ppt/slides/slide251.xml" ContentType="application/vnd.openxmlformats-officedocument.presentationml.slide+xml"/>
  <Override PartName="/ppt/slides/slide252.xml" ContentType="application/vnd.openxmlformats-officedocument.presentationml.slide+xml"/>
  <Override PartName="/ppt/slides/slide2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</p:sldIdLst>
  <p:sldSz cx="9144000" cy="6858000"/>
  <p:notesSz cx="91440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E024-A2E7-4A30-AA63-FB6D793ECAD4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18112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7E2E-81F6-49A3-AAA0-4C0985E79E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34080" y="660564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B5800A-9576-4BE7-9E54-1C34EAAA1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29.xml.rels><?xml version="1.0" encoding="UTF-8"?>
<Relationships xmlns="http://schemas.openxmlformats.org/package/2006/relationships"><Relationship Id="rId1" Type="http://schemas.openxmlformats.org/officeDocument/2006/relationships/slide" Target="../slides/slide229.xml"/><Relationship Id="rId2" Type="http://schemas.openxmlformats.org/officeDocument/2006/relationships/notesMaster" Target="../notesMasters/notesMaster1.xml"/>
</Relationships>
</file>

<file path=ppt/notesSlides/_rels/notesSlide230.xml.rels><?xml version="1.0" encoding="UTF-8"?>
<Relationships xmlns="http://schemas.openxmlformats.org/package/2006/relationships"><Relationship Id="rId1" Type="http://schemas.openxmlformats.org/officeDocument/2006/relationships/slide" Target="../slides/slide230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4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2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2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3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7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4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2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3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6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4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6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9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0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0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2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3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3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8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9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2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4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4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5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7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7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8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8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8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9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1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9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0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956-5E88-412E-80B7-F2A020D0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DB8-5724-41FC-8DE2-1576C40C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925-0BEC-4B0C-8D5F-2DAE75A9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B95-1AC6-4F91-8A09-BB9DA795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38F-9A93-4292-9896-3C5B0E8D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72D-EB09-414B-9D4E-271B2E73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6E7-BF8F-4B85-87DA-7174BAA9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8A0-1EAA-4004-950A-49FF3B6B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09440" y="76320"/>
            <a:ext cx="708660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CC2-E52B-47A8-8BD0-E6BCE825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259-25B4-4BE5-880A-D5C95579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050-68ED-4382-88DF-E8E89204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A87-4EB7-4458-B7DC-9FFFF1CB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1201-FD07-4DFD-80FD-B0065C0D17BD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75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581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EFE7-023A-401E-86CF-493C93106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slideLayout" Target="../slideLayouts/slideLayout3.xml"/><Relationship Id="rId46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slideLayout" Target="../slideLayouts/slideLayout3.xml"/><Relationship Id="rId5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3.xml"/><Relationship Id="rId58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8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0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3.xml"/><Relationship Id="rId7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1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1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1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1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1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2.wmf"/><Relationship Id="rId85" Type="http://schemas.openxmlformats.org/officeDocument/2006/relationships/slideLayout" Target="../slideLayouts/slideLayout3.xml"/><Relationship Id="rId86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69240" y="914400"/>
            <a:ext cx="72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71600" y="34909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4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113360" y="1128600"/>
          <a:ext cx="47124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3360" y="1128600"/>
                    <a:ext cx="47124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343400" y="128124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AUROR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09360" y="32767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01360" y="1371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00400" y="24382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24382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99520" y="32544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5672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12256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atter Product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238880" y="234000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2340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341784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34120" y="2438280"/>
            <a:ext cx="1904760" cy="5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505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3066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il-M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5800" y="22240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238880" y="344016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8880" y="34401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238880" y="451800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8880" y="4518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H="1" flipV="1">
            <a:off x="5181120" y="3962160"/>
            <a:ext cx="213372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3876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6160" y="321480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5800" y="41911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AEF-6C00-44AA-9B6E-B36DB3F8279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CAB47-8133-4DD5-AA5D-91B04A63F57E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320" y="50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Corporat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38880" y="4510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320" y="38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320" y="1600200"/>
            <a:ext cx="182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umbauersville, PA (Sul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981080" y="508320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083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6921360" y="507528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1360" y="5075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 flipV="1">
            <a:off x="2209680" y="47242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981080" y="545616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456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6934320" y="54561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54561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 flipV="1">
            <a:off x="2209680" y="5333760"/>
            <a:ext cx="1676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4572000"/>
            <a:ext cx="15238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5638320" y="3962520"/>
            <a:ext cx="129564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981080" y="167652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1676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2209680" y="3581280"/>
            <a:ext cx="1371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209680" y="4419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39720" y="4952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23880" y="4221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39360" y="5288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49600" y="44956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981080" y="4724280"/>
          <a:ext cx="24156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47242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6934320" y="38782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3878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6310080" y="3763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152388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23880" y="3429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24600" y="4572000"/>
            <a:ext cx="5324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49600" y="34290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3505320" y="3124080"/>
          <a:ext cx="2286000" cy="297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3124080"/>
                    <a:ext cx="2286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4204080" y="4251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238880" y="412920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238880" y="3808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ite City, OR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3457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320" y="54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aring River, NC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2209680" y="5029200"/>
            <a:ext cx="160020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6781680" y="4191120"/>
          <a:ext cx="470160" cy="17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41911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6781680" y="4572000"/>
          <a:ext cx="470160" cy="173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81680" y="457200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6195960" y="4114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53280" y="121932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4419720" y="1676520"/>
          <a:ext cx="469800" cy="17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19720" y="16765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4648320" y="18288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29960" y="24526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800600" y="182880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38880" y="213372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ris, France (CS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6769080" y="213372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69080" y="21337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 flipH="1">
            <a:off x="2209320" y="17524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6769080" y="1122480"/>
          <a:ext cx="46980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69080" y="1122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"/>
          <p:cNvSpPr/>
          <p:nvPr/>
        </p:nvSpPr>
        <p:spPr>
          <a:xfrm>
            <a:off x="6164280" y="99072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24 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5181480" y="990720"/>
          <a:ext cx="121932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990720"/>
                    <a:ext cx="1219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5334480" y="10587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5181480" y="1981080"/>
          <a:ext cx="1219320" cy="609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181480" y="1981080"/>
                    <a:ext cx="1219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/>
          <p:cNvSpPr/>
          <p:nvPr/>
        </p:nvSpPr>
        <p:spPr>
          <a:xfrm>
            <a:off x="5334480" y="2049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24480" y="2209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800600" y="1294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238880" y="10666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 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92680" y="182880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 (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08440" y="1295280"/>
            <a:ext cx="5493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981080" y="388620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3886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921360" y="3110040"/>
          <a:ext cx="24156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21360" y="3110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7238880" y="30481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San Francisco, CA (As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284520" y="3078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410080" y="32004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38880" y="4967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320" y="4662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09680" y="396252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5638320" y="426708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6320" y="3062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3200400"/>
            <a:ext cx="14475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24240" y="3048120"/>
            <a:ext cx="5522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1968480" y="3103560"/>
          <a:ext cx="469800" cy="173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68480" y="310356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6934320" y="3535200"/>
          <a:ext cx="24120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35352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 flipH="1">
            <a:off x="5562720" y="3581280"/>
            <a:ext cx="13716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5333760" y="5257440"/>
            <a:ext cx="1600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49960" y="5211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84520" y="4906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562720" y="5029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81080" y="3484440"/>
          <a:ext cx="470160" cy="1731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3484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1981080" y="4267080"/>
          <a:ext cx="470160" cy="1731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26708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76320" y="34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 (B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320" y="4205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 (Quartz Int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39720" y="38098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981080" y="5770440"/>
          <a:ext cx="47016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981080" y="5770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76320" y="57294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 (SGTF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9720" y="55926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362320" y="5562720"/>
            <a:ext cx="167616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26E-31DF-48B1-904D-7B6493F04A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FB536-3A15-4253-A0D5-00B8838BE92C}" type="datetime1">
              <a:rPr lang="en-US"/>
              <a:t>07/30/26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0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329760" y="5113440"/>
            <a:ext cx="112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ANSAS_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44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7450920" y="6526080"/>
            <a:ext cx="1390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0 NE Kimbal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issouri  64161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52-1896…Dwayne Fu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7F6-8D74-4F75-844D-0AA40DFE6323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2F40B-2D9A-4009-AB26-C475D3AEF4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 Charles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6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Charles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82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 Char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0 Pete Manena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lake, Louisiana  706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882-1441…Rick Comeaux x-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7692480" y="6526080"/>
            <a:ext cx="1137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 Char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265320" y="5189400"/>
            <a:ext cx="116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CHAR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A2D-BF61-4038-9FFF-32C2898A515F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7941E-8FB2-4243-A1D5-2A2BF30468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52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2-7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North Loga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  626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7) 735-1511…Chris B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4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5" name=""/>
          <p:cNvSpPr/>
          <p:nvPr/>
        </p:nvSpPr>
        <p:spPr>
          <a:xfrm>
            <a:off x="664848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6" name=""/>
          <p:cNvSpPr/>
          <p:nvPr/>
        </p:nvSpPr>
        <p:spPr>
          <a:xfrm>
            <a:off x="3844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267840" y="4037040"/>
            <a:ext cx="873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9FB-9959-4BB1-9961-15ECB4476D39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2C4E0-94F2-45FB-8E5D-46C2AEFE32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t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2" name=""/>
          <p:cNvSpPr/>
          <p:nvPr/>
        </p:nvSpPr>
        <p:spPr>
          <a:xfrm>
            <a:off x="7467480" y="652608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-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80 South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orth Carolina  28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735-0224…Eddie G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5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4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28116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4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5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3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4" name=""/>
          <p:cNvSpPr/>
          <p:nvPr/>
        </p:nvSpPr>
        <p:spPr>
          <a:xfrm>
            <a:off x="6224760" y="1781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8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9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0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378360" y="5113440"/>
            <a:ext cx="1078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AFC-939F-49A1-B0D7-1B1E5A2FBD7D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08371-E9B9-4117-91C9-F213154B86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Rock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6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01 E. Roosevel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kansas  722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1) 375-9173…Marie Jord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2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573-EF5C-4108-8D85-B9126B2554C0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F11B1-B5B1-459B-9B86-CEA92E9427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ton, New Hampsh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7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0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8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9" name=""/>
          <p:cNvSpPr/>
          <p:nvPr/>
        </p:nvSpPr>
        <p:spPr>
          <a:xfrm>
            <a:off x="31240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312408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4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171360" y="190440"/>
            <a:ext cx="262908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265320" y="216000"/>
            <a:ext cx="253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0 Highland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  035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09…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977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5DB-43CD-4B98-B54A-072308A31C80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6B9C4-35C7-4747-8EF8-54A7EEBB05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ings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8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6789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7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5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6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3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4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5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6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4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5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6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8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9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0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1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2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4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5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6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3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994-71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4" name=""/>
          <p:cNvSpPr/>
          <p:nvPr/>
        </p:nvSpPr>
        <p:spPr>
          <a:xfrm>
            <a:off x="2484720" y="48150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3-422-1310 / 973--422-1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675360" y="51055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43.4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2041920" y="280512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3" name=""/>
          <p:cNvSpPr/>
          <p:nvPr/>
        </p:nvSpPr>
        <p:spPr>
          <a:xfrm>
            <a:off x="26676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.T. Super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3 Dors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ew Jersey  070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994-4344…Tom Benne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4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ing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8F0-B5DE-4878-BF64-8347929D572C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131E5-1D98-49A7-8489-33CD051412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kland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85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ck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171360" y="171360"/>
            <a:ext cx="2876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190440" y="216000"/>
            <a:ext cx="2933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 S. Wayn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io  45215-63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3) 948-2289…Micelle Kwiatkowsk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9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91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5F0-4A85-449D-A30E-D586EC080E65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CACE7-9DDA-4C4E-B1C5-F94BE3B729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S-G Containers - Vaz Broth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91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3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4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4" name=""/>
          <p:cNvSpPr/>
          <p:nvPr/>
        </p:nvSpPr>
        <p:spPr>
          <a:xfrm>
            <a:off x="6629400" y="6507000"/>
            <a:ext cx="220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BFG - Vaz Br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5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6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z Brothers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60 South Guil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30…Charles Bardak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>
            <a:off x="532800" y="5257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543-33BA-414C-9B27-6685CC27A11F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BC21D-6C97-4C13-B4B0-C69798DEB7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97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4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6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2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5EB-A0B1-4A94-9D5E-4C6370313D1C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ED3A2-16C3-4B25-8F9E-1FC3229A66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47080" y="80640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1981080" y="297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7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1981080" y="338292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382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2209680" y="3809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2209680" y="41148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6934320" y="413856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41385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1968480" y="416880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8480" y="4168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6934320" y="5319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6934320" y="493092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"/>
          <p:cNvGraphicFramePr/>
          <p:nvPr/>
        </p:nvGraphicFramePr>
        <p:xfrm>
          <a:off x="6934320" y="4549680"/>
          <a:ext cx="241200" cy="98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549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"/>
          <p:cNvGraphicFramePr/>
          <p:nvPr/>
        </p:nvGraphicFramePr>
        <p:xfrm>
          <a:off x="1981080" y="2239920"/>
          <a:ext cx="24156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2239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 flipV="1">
            <a:off x="2209680" y="4343040"/>
            <a:ext cx="19814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209680" y="46483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209680" y="5028840"/>
            <a:ext cx="16765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57800" y="5029200"/>
            <a:ext cx="1676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472428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441972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5486400" y="41148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5714640" y="3809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5562720" y="3429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6934320" y="22176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217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6934320" y="25988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2598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6934320" y="297972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34320" y="297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1981080" y="2620800"/>
          <a:ext cx="241560" cy="98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2620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"/>
          <p:cNvGraphicFramePr/>
          <p:nvPr/>
        </p:nvGraphicFramePr>
        <p:xfrm>
          <a:off x="4419720" y="609480"/>
          <a:ext cx="469800" cy="173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419720" y="6094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76320" y="3276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nis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981080" y="147780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1477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1981080" y="1859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1859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1981080" y="4551480"/>
          <a:ext cx="470160" cy="17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981080" y="455148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209680" y="3048120"/>
            <a:ext cx="1371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09680" y="269712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5029200" y="15238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952880" y="1905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333760" y="228600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105520" y="2666880"/>
            <a:ext cx="1828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48320" y="7621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2209680" y="3429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63400" y="43736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423520" y="3657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23520" y="47545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423880" y="50594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309720" y="5448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10080" y="3962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309720" y="4343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309720" y="32608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3097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309720" y="178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09680" y="2286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RP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981080" y="3763800"/>
          <a:ext cx="24156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81080" y="3763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209680" y="1905120"/>
            <a:ext cx="17528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5" name=""/>
          <p:cNvGraphicFramePr/>
          <p:nvPr/>
        </p:nvGraphicFramePr>
        <p:xfrm>
          <a:off x="1981080" y="4952880"/>
          <a:ext cx="24156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4952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"/>
          <p:cNvGraphicFramePr/>
          <p:nvPr/>
        </p:nvGraphicFramePr>
        <p:xfrm>
          <a:off x="1981080" y="5342040"/>
          <a:ext cx="24156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5342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"/>
          <p:cNvGraphicFramePr/>
          <p:nvPr/>
        </p:nvGraphicFramePr>
        <p:xfrm>
          <a:off x="6934320" y="1455840"/>
          <a:ext cx="24120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934320" y="145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6934320" y="336060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3360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6934320" y="3741840"/>
          <a:ext cx="24120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34320" y="3741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6309720" y="364176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72200" y="2163600"/>
            <a:ext cx="6174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42352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346480" y="178272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23520" y="2163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4235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23520" y="3276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23520" y="4038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309720" y="50594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629960" y="927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32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an (Avery), OH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6320" y="217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leston, SC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7760" y="1405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C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6320" y="1782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ue Bell, PA (Insulation/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238880" y="1415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 Lexington, OH (Ludiwic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5342040"/>
            <a:ext cx="17528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09720" y="4724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238880" y="1774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wood, MA (Bi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0972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238880" y="2155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xford, NC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638320" y="3048120"/>
            <a:ext cx="1295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320" y="25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, P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320" y="3657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enwood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320" y="40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mond, IN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320" y="44355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6320" y="4846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 Rock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238880" y="2522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achtree City, G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238880" y="291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iedmont, M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38880" y="329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238880" y="3657600"/>
            <a:ext cx="2133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ncho Cordova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238880" y="56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238880" y="40449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kopee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238880" y="442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reveport, L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238880" y="4815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gate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23888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mington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6934320" y="183672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1836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3505320" y="1371600"/>
          <a:ext cx="2286000" cy="4724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05320" y="13716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4204080" y="34131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32556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09680" y="1523880"/>
            <a:ext cx="17528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320" y="29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ver, CO (CertainTeed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39360" y="2895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172-4D8E-4EC7-BD7A-FE24CC9E3A1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CBA0B-F28F-43A1-ACDB-5AA242319FD2}" type="datetime1">
              <a:rPr lang="en-US"/>
              <a:t>07/30/26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Angele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7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s Ange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171360" y="171360"/>
            <a:ext cx="2648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32 N. San Pablo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33-45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221-1101…Wayne Selway x-30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94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77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3C3-E0C5-4A1B-BF86-53AD20E4E04A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46EC2-8EFD-4E28-B531-ABFDF3C0A8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uisville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3" name=""/>
          <p:cNvGrpSpPr/>
          <p:nvPr/>
        </p:nvGrpSpPr>
        <p:grpSpPr>
          <a:xfrm>
            <a:off x="3278160" y="1219320"/>
            <a:ext cx="2133000" cy="3275640"/>
            <a:chOff x="3278160" y="1219320"/>
            <a:chExt cx="2133000" cy="3275640"/>
          </a:xfrm>
        </p:grpSpPr>
        <p:sp>
          <p:nvSpPr>
            <p:cNvPr id="7084" name=""/>
            <p:cNvSpPr/>
            <p:nvPr/>
          </p:nvSpPr>
          <p:spPr>
            <a:xfrm>
              <a:off x="4404960" y="1428480"/>
              <a:ext cx="45540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3278160" y="1483560"/>
              <a:ext cx="586440" cy="95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813120" y="1219320"/>
              <a:ext cx="590040" cy="948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3303360" y="2355480"/>
              <a:ext cx="589320" cy="95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3622680" y="3092040"/>
              <a:ext cx="587520" cy="95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135320" y="3545640"/>
              <a:ext cx="587160" cy="94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696200" y="3150720"/>
              <a:ext cx="586440" cy="9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762440" y="1851480"/>
              <a:ext cx="648720" cy="13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5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6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9" name=""/>
          <p:cNvSpPr/>
          <p:nvPr/>
        </p:nvSpPr>
        <p:spPr>
          <a:xfrm>
            <a:off x="1301760" y="2438280"/>
            <a:ext cx="596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0" name=""/>
          <p:cNvSpPr/>
          <p:nvPr/>
        </p:nvSpPr>
        <p:spPr>
          <a:xfrm>
            <a:off x="1203120" y="2438280"/>
            <a:ext cx="79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n-SG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 flipV="1">
            <a:off x="1600200" y="32763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2046960" y="3138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221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5334120" y="2438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799740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3387600" y="29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4572000" y="32623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>
            <a:off x="152280" y="190440"/>
            <a:ext cx="2590920" cy="13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>
            <a:off x="252360" y="216000"/>
            <a:ext cx="2567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00 West Le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 40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3…Garry Goetsch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9…Anthony Thomp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7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51…Pam Sheehan (Q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2…Nancy Heid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>
            <a:off x="3432600" y="160020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"/>
          <p:cNvSpPr/>
          <p:nvPr/>
        </p:nvSpPr>
        <p:spPr>
          <a:xfrm>
            <a:off x="6392520" y="787320"/>
            <a:ext cx="95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1" name=""/>
          <p:cNvSpPr/>
          <p:nvPr/>
        </p:nvSpPr>
        <p:spPr>
          <a:xfrm>
            <a:off x="648828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2" name=""/>
          <p:cNvSpPr/>
          <p:nvPr/>
        </p:nvSpPr>
        <p:spPr>
          <a:xfrm>
            <a:off x="595728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 flipV="1">
            <a:off x="6858000" y="1600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5626440" y="26956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( 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457200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6120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7" name=""/>
          <p:cNvSpPr/>
          <p:nvPr/>
        </p:nvSpPr>
        <p:spPr>
          <a:xfrm>
            <a:off x="609480" y="388620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8" name=""/>
          <p:cNvSpPr/>
          <p:nvPr/>
        </p:nvSpPr>
        <p:spPr>
          <a:xfrm>
            <a:off x="45720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7489800" y="78732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>
            <a:off x="801936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>
            <a:off x="458928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2" name=""/>
          <p:cNvSpPr/>
          <p:nvPr/>
        </p:nvSpPr>
        <p:spPr>
          <a:xfrm>
            <a:off x="5640840" y="36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3" name=""/>
          <p:cNvSpPr/>
          <p:nvPr/>
        </p:nvSpPr>
        <p:spPr>
          <a:xfrm>
            <a:off x="6342480" y="589284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4" name=""/>
          <p:cNvSpPr/>
          <p:nvPr/>
        </p:nvSpPr>
        <p:spPr>
          <a:xfrm>
            <a:off x="59428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68580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ver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5615640" y="24382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235( 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"/>
          <p:cNvSpPr/>
          <p:nvPr/>
        </p:nvSpPr>
        <p:spPr>
          <a:xfrm>
            <a:off x="5650560" y="2209680"/>
            <a:ext cx="10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9" name=""/>
          <p:cNvSpPr/>
          <p:nvPr/>
        </p:nvSpPr>
        <p:spPr>
          <a:xfrm flipH="1">
            <a:off x="5257800" y="34290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0" name=""/>
          <p:cNvSpPr/>
          <p:nvPr/>
        </p:nvSpPr>
        <p:spPr>
          <a:xfrm>
            <a:off x="7637400" y="11430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5562720" y="32004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"/>
          <p:cNvSpPr/>
          <p:nvPr/>
        </p:nvSpPr>
        <p:spPr>
          <a:xfrm>
            <a:off x="5410080" y="34434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5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6" name=""/>
          <p:cNvSpPr/>
          <p:nvPr/>
        </p:nvSpPr>
        <p:spPr>
          <a:xfrm>
            <a:off x="505080" y="5265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 flipV="1">
            <a:off x="182880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831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137160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6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7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>
            <a:off x="3165480" y="44956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775-47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9" name=""/>
          <p:cNvSpPr/>
          <p:nvPr/>
        </p:nvSpPr>
        <p:spPr>
          <a:xfrm>
            <a:off x="1905120" y="46483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3161160" y="51814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391 / 502-775-8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 flipV="1"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 flipV="1"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 flipH="1">
            <a:off x="5257440" y="3886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 flipH="1">
            <a:off x="5334120" y="28954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1905120" y="3124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1923480" y="2895480"/>
            <a:ext cx="1355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-SGC CIRCUIT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8" name=""/>
          <p:cNvSpPr/>
          <p:nvPr/>
        </p:nvSpPr>
        <p:spPr>
          <a:xfrm flipV="1">
            <a:off x="1600200" y="205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9" name=""/>
          <p:cNvSpPr/>
          <p:nvPr/>
        </p:nvSpPr>
        <p:spPr>
          <a:xfrm>
            <a:off x="1288080" y="1828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0" name=""/>
          <p:cNvSpPr/>
          <p:nvPr/>
        </p:nvSpPr>
        <p:spPr>
          <a:xfrm>
            <a:off x="3150360" y="54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603 / 502-775-83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1" name=""/>
          <p:cNvSpPr/>
          <p:nvPr/>
        </p:nvSpPr>
        <p:spPr>
          <a:xfrm>
            <a:off x="3165480" y="47242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>
            <a:off x="3165480" y="49528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3" name=""/>
          <p:cNvSpPr/>
          <p:nvPr/>
        </p:nvSpPr>
        <p:spPr>
          <a:xfrm>
            <a:off x="190512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4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5" name=""/>
          <p:cNvSpPr/>
          <p:nvPr/>
        </p:nvSpPr>
        <p:spPr>
          <a:xfrm>
            <a:off x="1905120" y="5334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6" name=""/>
          <p:cNvSpPr/>
          <p:nvPr/>
        </p:nvSpPr>
        <p:spPr>
          <a:xfrm>
            <a:off x="1828800" y="5562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190512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A11-870D-4BEE-B112-ABC00D5C6B23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88A65-1B20-4C56-8771-D1CCE1FD12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er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1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5-4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4-6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5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441 Avenue 12 and Road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lifornia  936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0) 675-4724…Mike Chmielew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d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9" name=""/>
          <p:cNvSpPr/>
          <p:nvPr/>
        </p:nvSpPr>
        <p:spPr>
          <a:xfrm>
            <a:off x="231840" y="4159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0" name=""/>
          <p:cNvSpPr/>
          <p:nvPr/>
        </p:nvSpPr>
        <p:spPr>
          <a:xfrm>
            <a:off x="39996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2" name=""/>
          <p:cNvSpPr/>
          <p:nvPr/>
        </p:nvSpPr>
        <p:spPr>
          <a:xfrm>
            <a:off x="663264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de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385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BE0-7C23-40D8-8E26-2805ADBEFB20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5EF05-7D1B-4813-91FA-DAC4BDA514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ion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23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East Charles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diana  46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661-2442…Roger Gilli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ion - BF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460440" y="521028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304560" y="4037040"/>
            <a:ext cx="842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7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r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D2E-B477-4A94-83DE-F871C84A7523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D0755-0D25-4B7F-9774-D46A704D8A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ume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29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UM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1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10 Briarfield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io  435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868-7813…Chris Daunha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E2A-B2F1-4AB8-A799-23D39200C3CD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4D50D-E72E-4483-999C-5AAFE00754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woo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3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9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1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2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55 East 52nd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562-510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3" name=""/>
          <p:cNvSpPr/>
          <p:nvPr/>
        </p:nvSpPr>
        <p:spPr>
          <a:xfrm>
            <a:off x="380160" y="5181480"/>
            <a:ext cx="97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YWO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7" name=""/>
          <p:cNvSpPr/>
          <p:nvPr/>
        </p:nvSpPr>
        <p:spPr>
          <a:xfrm>
            <a:off x="6708240" y="3200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y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257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236-84D4-4FC2-AC1A-D5FE4F8A3A93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4FC3C-6033-4685-9606-D297E72AA4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Mold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6" name=""/>
          <p:cNvGrpSpPr/>
          <p:nvPr/>
        </p:nvGrpSpPr>
        <p:grpSpPr>
          <a:xfrm>
            <a:off x="3278160" y="1144440"/>
            <a:ext cx="2284200" cy="3732120"/>
            <a:chOff x="3278160" y="1144440"/>
            <a:chExt cx="2284200" cy="3732120"/>
          </a:xfrm>
        </p:grpSpPr>
        <p:sp>
          <p:nvSpPr>
            <p:cNvPr id="7407" name=""/>
            <p:cNvSpPr/>
            <p:nvPr/>
          </p:nvSpPr>
          <p:spPr>
            <a:xfrm>
              <a:off x="4485960" y="138276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278160" y="144468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3852720" y="114444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305160" y="243900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649680" y="327744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4197240" y="379512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4798800" y="334548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4868280" y="186516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5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6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8" name=""/>
          <p:cNvSpPr/>
          <p:nvPr/>
        </p:nvSpPr>
        <p:spPr>
          <a:xfrm>
            <a:off x="-12600" y="3990960"/>
            <a:ext cx="1321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arehou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9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0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1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2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3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5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6" name=""/>
          <p:cNvSpPr/>
          <p:nvPr/>
        </p:nvSpPr>
        <p:spPr>
          <a:xfrm>
            <a:off x="5486400" y="31240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7" name=""/>
          <p:cNvSpPr/>
          <p:nvPr/>
        </p:nvSpPr>
        <p:spPr>
          <a:xfrm flipV="1">
            <a:off x="7848720" y="31237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8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9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0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1" name=""/>
          <p:cNvSpPr/>
          <p:nvPr/>
        </p:nvSpPr>
        <p:spPr>
          <a:xfrm>
            <a:off x="5635080" y="2909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2" name=""/>
          <p:cNvSpPr/>
          <p:nvPr/>
        </p:nvSpPr>
        <p:spPr>
          <a:xfrm>
            <a:off x="5571720" y="31384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5" name=""/>
          <p:cNvSpPr/>
          <p:nvPr/>
        </p:nvSpPr>
        <p:spPr>
          <a:xfrm>
            <a:off x="8038800" y="414324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6" name=""/>
          <p:cNvSpPr/>
          <p:nvPr/>
        </p:nvSpPr>
        <p:spPr>
          <a:xfrm>
            <a:off x="78487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7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8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9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0" name=""/>
          <p:cNvSpPr/>
          <p:nvPr/>
        </p:nvSpPr>
        <p:spPr>
          <a:xfrm>
            <a:off x="7426440" y="558720"/>
            <a:ext cx="8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1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2" name=""/>
          <p:cNvSpPr/>
          <p:nvPr/>
        </p:nvSpPr>
        <p:spPr>
          <a:xfrm>
            <a:off x="7848720" y="1447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3" name=""/>
          <p:cNvSpPr/>
          <p:nvPr/>
        </p:nvSpPr>
        <p:spPr>
          <a:xfrm flipH="1">
            <a:off x="7543440" y="1905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4" name=""/>
          <p:cNvSpPr/>
          <p:nvPr/>
        </p:nvSpPr>
        <p:spPr>
          <a:xfrm flipV="1">
            <a:off x="7848720" y="14475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5" name=""/>
          <p:cNvSpPr/>
          <p:nvPr/>
        </p:nvSpPr>
        <p:spPr>
          <a:xfrm>
            <a:off x="478296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6" name=""/>
          <p:cNvSpPr/>
          <p:nvPr/>
        </p:nvSpPr>
        <p:spPr>
          <a:xfrm>
            <a:off x="556272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7" name=""/>
          <p:cNvSpPr/>
          <p:nvPr/>
        </p:nvSpPr>
        <p:spPr>
          <a:xfrm>
            <a:off x="8002440" y="16286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8" name=""/>
          <p:cNvSpPr/>
          <p:nvPr/>
        </p:nvSpPr>
        <p:spPr>
          <a:xfrm>
            <a:off x="430200" y="33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9" name=""/>
          <p:cNvSpPr/>
          <p:nvPr/>
        </p:nvSpPr>
        <p:spPr>
          <a:xfrm flipH="1">
            <a:off x="159984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204516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1" name=""/>
          <p:cNvSpPr/>
          <p:nvPr/>
        </p:nvSpPr>
        <p:spPr>
          <a:xfrm>
            <a:off x="5410080" y="37339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2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3" name=""/>
          <p:cNvSpPr/>
          <p:nvPr/>
        </p:nvSpPr>
        <p:spPr>
          <a:xfrm>
            <a:off x="6478920" y="5816520"/>
            <a:ext cx="95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5" name=""/>
          <p:cNvSpPr/>
          <p:nvPr/>
        </p:nvSpPr>
        <p:spPr>
          <a:xfrm flipV="1">
            <a:off x="6934320" y="37335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8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9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0" name=""/>
          <p:cNvSpPr/>
          <p:nvPr/>
        </p:nvSpPr>
        <p:spPr>
          <a:xfrm>
            <a:off x="1850760" y="368604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7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5" name=""/>
          <p:cNvSpPr/>
          <p:nvPr/>
        </p:nvSpPr>
        <p:spPr>
          <a:xfrm>
            <a:off x="5625000" y="351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6" name=""/>
          <p:cNvSpPr/>
          <p:nvPr/>
        </p:nvSpPr>
        <p:spPr>
          <a:xfrm>
            <a:off x="5603040" y="2529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Mol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8" name=""/>
          <p:cNvSpPr/>
          <p:nvPr/>
        </p:nvSpPr>
        <p:spPr>
          <a:xfrm>
            <a:off x="6346440" y="17049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9" name=""/>
          <p:cNvSpPr/>
          <p:nvPr/>
        </p:nvSpPr>
        <p:spPr>
          <a:xfrm>
            <a:off x="5432040" y="42195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2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Moulde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73 North Hicko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8191…Andy Stout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3" name=""/>
          <p:cNvSpPr/>
          <p:nvPr/>
        </p:nvSpPr>
        <p:spPr>
          <a:xfrm>
            <a:off x="5639760" y="23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CE7-7439-443A-992C-754A943A6A3A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DDD31-4D73-4868-9C52-C9E59D4F12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Viny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7" name=""/>
          <p:cNvGrpSpPr/>
          <p:nvPr/>
        </p:nvGrpSpPr>
        <p:grpSpPr>
          <a:xfrm>
            <a:off x="3430440" y="1600200"/>
            <a:ext cx="2133360" cy="3503160"/>
            <a:chOff x="3430440" y="1600200"/>
            <a:chExt cx="2133360" cy="3503160"/>
          </a:xfrm>
        </p:grpSpPr>
        <p:sp>
          <p:nvSpPr>
            <p:cNvPr id="7488" name=""/>
            <p:cNvSpPr/>
            <p:nvPr/>
          </p:nvSpPr>
          <p:spPr>
            <a:xfrm>
              <a:off x="4557600" y="182412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3430440" y="188280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3965400" y="160020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3456000" y="281556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3774960" y="360288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287960" y="408816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848480" y="366588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915080" y="227628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6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388440" y="350532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1301760" y="26035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1375200" y="28036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2053440" y="276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 flipV="1">
            <a:off x="7620120" y="35809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5939640" y="33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5876640" y="35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6551280" y="426708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3540240" y="28400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4782960" y="34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3866040" y="211788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6521040" y="213192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 flipV="1">
            <a:off x="76201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>
            <a:off x="59313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478296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16797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West 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5511…Todd Smith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Viny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2026080" y="299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 flipH="1">
            <a:off x="5562360" y="2971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 flipH="1">
            <a:off x="5409720" y="35812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 flipH="1">
            <a:off x="1905120" y="29718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 flipV="1">
            <a:off x="1600200" y="2209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1288080" y="1965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A68-F83B-43C6-BD30-7BF4B820CFC1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B806B-CEE5-425F-9172-8D2A3EA4D9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55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97920" y="37623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6143400" y="467676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6143400" y="178128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59313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517680" y="5113440"/>
            <a:ext cx="93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Distribution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337 West Kan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0198…Lanny Co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D00-7097-40E8-B0FC-8EF96B68F5B5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F2FEC-DE9B-4548-A398-EAC6594B64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dland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762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171360" y="171360"/>
            <a:ext cx="25718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 Huge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  L4R 4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5) 526-7867…Cathy Ladouc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4ON0005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8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0" name=""/>
          <p:cNvSpPr/>
          <p:nvPr/>
        </p:nvSpPr>
        <p:spPr>
          <a:xfrm>
            <a:off x="3967560" y="504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7E5-102D-49FF-8E56-AD110FE64F76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5E200-0CEE-4F55-BF7B-287A25CF35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7240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78800" y="25909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es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7467480" y="2743200"/>
          <a:ext cx="24156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27432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705200" y="1295280"/>
            <a:ext cx="53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 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07040" y="76212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7240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409720" y="28195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77880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7467480" y="3360600"/>
          <a:ext cx="24156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33606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"/>
          <p:cNvSpPr/>
          <p:nvPr/>
        </p:nvSpPr>
        <p:spPr>
          <a:xfrm flipH="1">
            <a:off x="5638680" y="3429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7467480" y="3956040"/>
          <a:ext cx="24156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67480" y="395604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777384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7467480" y="4572000"/>
          <a:ext cx="24156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67480" y="45720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"/>
          <p:cNvSpPr/>
          <p:nvPr/>
        </p:nvSpPr>
        <p:spPr>
          <a:xfrm>
            <a:off x="777384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5715000" y="4038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486040" y="464652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747252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7252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"/>
          <p:cNvSpPr/>
          <p:nvPr/>
        </p:nvSpPr>
        <p:spPr>
          <a:xfrm>
            <a:off x="7778880" y="4997520"/>
            <a:ext cx="151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5257800" y="5256360"/>
            <a:ext cx="220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78800" y="382428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78800" y="443376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78800" y="50292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E88-F95F-4976-8B13-2CC15511F2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19E78-1FCF-490D-886E-3FA50D1EE79C}" type="datetime1">
              <a:rPr lang="en-US"/>
              <a:t>07/30/26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Massachusetts (S-G Contain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69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82-01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78-88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6400800" y="6507000"/>
            <a:ext cx="243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S-G Contain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>
            <a:off x="239760" y="249120"/>
            <a:ext cx="273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ational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  017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478-2500…reception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34…Debra Pellat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42…John Part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30492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490320" y="5256360"/>
            <a:ext cx="88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776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889-E6EE-486D-9917-A73918950334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43B0C-984C-4B8C-B702-C4F56C9FE6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Meadowbrook Roa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4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7755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3" name=""/>
          <p:cNvSpPr/>
          <p:nvPr/>
        </p:nvSpPr>
        <p:spPr>
          <a:xfrm>
            <a:off x="6836760" y="5892840"/>
            <a:ext cx="159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ord, MH (Powers St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5" name=""/>
          <p:cNvSpPr/>
          <p:nvPr/>
        </p:nvSpPr>
        <p:spPr>
          <a:xfrm>
            <a:off x="519120" y="3886200"/>
            <a:ext cx="100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4" name=""/>
          <p:cNvSpPr/>
          <p:nvPr/>
        </p:nvSpPr>
        <p:spPr>
          <a:xfrm>
            <a:off x="6084720" y="4495680"/>
            <a:ext cx="1230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Meadowbroo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5" name=""/>
          <p:cNvSpPr/>
          <p:nvPr/>
        </p:nvSpPr>
        <p:spPr>
          <a:xfrm>
            <a:off x="3808440" y="1981080"/>
            <a:ext cx="150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3 DHZA 77796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982-5002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65-7800 (te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8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9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0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1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2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(Meadowbrook R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4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5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6" name=""/>
          <p:cNvSpPr/>
          <p:nvPr/>
        </p:nvSpPr>
        <p:spPr>
          <a:xfrm>
            <a:off x="2204640" y="5135400"/>
            <a:ext cx="1091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8" name=""/>
          <p:cNvSpPr/>
          <p:nvPr/>
        </p:nvSpPr>
        <p:spPr>
          <a:xfrm>
            <a:off x="6629400" y="650700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MeadowBrook R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9" name=""/>
          <p:cNvSpPr/>
          <p:nvPr/>
        </p:nvSpPr>
        <p:spPr>
          <a:xfrm>
            <a:off x="152280" y="415800"/>
            <a:ext cx="2514600" cy="80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0" name=""/>
          <p:cNvSpPr/>
          <p:nvPr/>
        </p:nvSpPr>
        <p:spPr>
          <a:xfrm>
            <a:off x="201600" y="441360"/>
            <a:ext cx="246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MeadowBroo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0263…Lori Vallaincourt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A41-D0C9-4EFA-B576-9BF26F92134F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8E743-0B5A-4D97-A9EA-3146606454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Powers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4" name=""/>
          <p:cNvGrpSpPr/>
          <p:nvPr/>
        </p:nvGrpSpPr>
        <p:grpSpPr>
          <a:xfrm>
            <a:off x="3429000" y="914400"/>
            <a:ext cx="2208960" cy="3199680"/>
            <a:chOff x="3429000" y="914400"/>
            <a:chExt cx="2208960" cy="3199680"/>
          </a:xfrm>
        </p:grpSpPr>
        <p:sp>
          <p:nvSpPr>
            <p:cNvPr id="7805" name=""/>
            <p:cNvSpPr/>
            <p:nvPr/>
          </p:nvSpPr>
          <p:spPr>
            <a:xfrm>
              <a:off x="4596120" y="11188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429000" y="11725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982680" y="9144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455280" y="20242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785760" y="27435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4316760" y="31867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4897080" y="28015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4966560" y="15318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3" name=""/>
          <p:cNvSpPr/>
          <p:nvPr/>
        </p:nvSpPr>
        <p:spPr>
          <a:xfrm>
            <a:off x="7095960" y="587700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4" name=""/>
          <p:cNvSpPr/>
          <p:nvPr/>
        </p:nvSpPr>
        <p:spPr>
          <a:xfrm>
            <a:off x="1230480" y="4268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5" name=""/>
          <p:cNvSpPr/>
          <p:nvPr/>
        </p:nvSpPr>
        <p:spPr>
          <a:xfrm>
            <a:off x="708840" y="342900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6" name=""/>
          <p:cNvSpPr/>
          <p:nvPr/>
        </p:nvSpPr>
        <p:spPr>
          <a:xfrm>
            <a:off x="308160" y="502776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7" name=""/>
          <p:cNvSpPr/>
          <p:nvPr/>
        </p:nvSpPr>
        <p:spPr>
          <a:xfrm flipH="1" flipV="1">
            <a:off x="5562360" y="21826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>
            <a:off x="7250040" y="52434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 flipH="1">
            <a:off x="1143000" y="47242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 flipV="1">
            <a:off x="1600200" y="25146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5562720" y="25146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3" name=""/>
          <p:cNvSpPr/>
          <p:nvPr/>
        </p:nvSpPr>
        <p:spPr>
          <a:xfrm flipV="1">
            <a:off x="7620120" y="25142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4" name=""/>
          <p:cNvSpPr/>
          <p:nvPr/>
        </p:nvSpPr>
        <p:spPr>
          <a:xfrm>
            <a:off x="1600200" y="4724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5" name=""/>
          <p:cNvSpPr/>
          <p:nvPr/>
        </p:nvSpPr>
        <p:spPr>
          <a:xfrm>
            <a:off x="6550920" y="3505320"/>
            <a:ext cx="105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6" name=""/>
          <p:cNvSpPr/>
          <p:nvPr/>
        </p:nvSpPr>
        <p:spPr>
          <a:xfrm>
            <a:off x="3487680" y="234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7" name=""/>
          <p:cNvSpPr/>
          <p:nvPr/>
        </p:nvSpPr>
        <p:spPr>
          <a:xfrm>
            <a:off x="493560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8" name=""/>
          <p:cNvSpPr/>
          <p:nvPr/>
        </p:nvSpPr>
        <p:spPr>
          <a:xfrm>
            <a:off x="3913560" y="182880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9" name=""/>
          <p:cNvSpPr/>
          <p:nvPr/>
        </p:nvSpPr>
        <p:spPr>
          <a:xfrm>
            <a:off x="229680" y="4343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0" name=""/>
          <p:cNvSpPr/>
          <p:nvPr/>
        </p:nvSpPr>
        <p:spPr>
          <a:xfrm flipH="1">
            <a:off x="990360" y="4495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1" name=""/>
          <p:cNvSpPr/>
          <p:nvPr/>
        </p:nvSpPr>
        <p:spPr>
          <a:xfrm>
            <a:off x="198108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2" name=""/>
          <p:cNvSpPr/>
          <p:nvPr/>
        </p:nvSpPr>
        <p:spPr>
          <a:xfrm>
            <a:off x="2520000" y="3886200"/>
            <a:ext cx="13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(603) 673-24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3" name=""/>
          <p:cNvSpPr/>
          <p:nvPr/>
        </p:nvSpPr>
        <p:spPr>
          <a:xfrm>
            <a:off x="990720" y="592776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Nor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4" name=""/>
          <p:cNvSpPr/>
          <p:nvPr/>
        </p:nvSpPr>
        <p:spPr>
          <a:xfrm>
            <a:off x="2150280" y="227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184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5" name=""/>
          <p:cNvSpPr/>
          <p:nvPr/>
        </p:nvSpPr>
        <p:spPr>
          <a:xfrm>
            <a:off x="2113560" y="25020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99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820440" y="1920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1600200" y="25146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7238880" y="6526080"/>
            <a:ext cx="163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Powers S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166680" y="139680"/>
            <a:ext cx="2023920" cy="83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219240" y="236520"/>
            <a:ext cx="1885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 Powers 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7560...Ed Kenne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2" name=""/>
          <p:cNvSpPr/>
          <p:nvPr/>
        </p:nvSpPr>
        <p:spPr>
          <a:xfrm>
            <a:off x="4497120" y="4876920"/>
            <a:ext cx="1390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Meadowbrook Ro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3" name=""/>
          <p:cNvSpPr/>
          <p:nvPr/>
        </p:nvSpPr>
        <p:spPr>
          <a:xfrm>
            <a:off x="5939640" y="2286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4" name=""/>
          <p:cNvSpPr/>
          <p:nvPr/>
        </p:nvSpPr>
        <p:spPr>
          <a:xfrm>
            <a:off x="5910840" y="2514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5" name=""/>
          <p:cNvSpPr/>
          <p:nvPr/>
        </p:nvSpPr>
        <p:spPr>
          <a:xfrm>
            <a:off x="18288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6" name=""/>
          <p:cNvSpPr/>
          <p:nvPr/>
        </p:nvSpPr>
        <p:spPr>
          <a:xfrm>
            <a:off x="2522160" y="41911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603-672-4790 / 603-672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7" name=""/>
          <p:cNvSpPr/>
          <p:nvPr/>
        </p:nvSpPr>
        <p:spPr>
          <a:xfrm>
            <a:off x="2522160" y="44956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603-672-4795 / 603-672-47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8" name=""/>
          <p:cNvSpPr/>
          <p:nvPr/>
        </p:nvSpPr>
        <p:spPr>
          <a:xfrm>
            <a:off x="18288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9" name=""/>
          <p:cNvSpPr/>
          <p:nvPr/>
        </p:nvSpPr>
        <p:spPr>
          <a:xfrm>
            <a:off x="1828800" y="4038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0" name=""/>
          <p:cNvSpPr/>
          <p:nvPr/>
        </p:nvSpPr>
        <p:spPr>
          <a:xfrm>
            <a:off x="1828800" y="49528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1" name=""/>
          <p:cNvSpPr/>
          <p:nvPr/>
        </p:nvSpPr>
        <p:spPr>
          <a:xfrm flipH="1">
            <a:off x="28195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2" name=""/>
          <p:cNvSpPr/>
          <p:nvPr/>
        </p:nvSpPr>
        <p:spPr>
          <a:xfrm>
            <a:off x="3048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3" name=""/>
          <p:cNvSpPr/>
          <p:nvPr/>
        </p:nvSpPr>
        <p:spPr>
          <a:xfrm>
            <a:off x="3352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4" name=""/>
          <p:cNvSpPr/>
          <p:nvPr/>
        </p:nvSpPr>
        <p:spPr>
          <a:xfrm flipV="1">
            <a:off x="289548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5" name=""/>
          <p:cNvSpPr/>
          <p:nvPr/>
        </p:nvSpPr>
        <p:spPr>
          <a:xfrm flipV="1">
            <a:off x="35053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0" name=""/>
          <p:cNvSpPr/>
          <p:nvPr/>
        </p:nvSpPr>
        <p:spPr>
          <a:xfrm flipV="1">
            <a:off x="19051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1" name=""/>
          <p:cNvSpPr/>
          <p:nvPr/>
        </p:nvSpPr>
        <p:spPr>
          <a:xfrm flipH="1">
            <a:off x="502884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2" name=""/>
          <p:cNvSpPr/>
          <p:nvPr/>
        </p:nvSpPr>
        <p:spPr>
          <a:xfrm>
            <a:off x="52578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3" name=""/>
          <p:cNvSpPr/>
          <p:nvPr/>
        </p:nvSpPr>
        <p:spPr>
          <a:xfrm>
            <a:off x="55627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4" name=""/>
          <p:cNvSpPr/>
          <p:nvPr/>
        </p:nvSpPr>
        <p:spPr>
          <a:xfrm flipV="1">
            <a:off x="51055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5" name=""/>
          <p:cNvSpPr/>
          <p:nvPr/>
        </p:nvSpPr>
        <p:spPr>
          <a:xfrm flipV="1">
            <a:off x="57150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6" name=""/>
          <p:cNvSpPr/>
          <p:nvPr/>
        </p:nvSpPr>
        <p:spPr>
          <a:xfrm>
            <a:off x="2514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7" name=""/>
          <p:cNvSpPr/>
          <p:nvPr/>
        </p:nvSpPr>
        <p:spPr>
          <a:xfrm>
            <a:off x="4800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shua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8" name=""/>
          <p:cNvSpPr/>
          <p:nvPr/>
        </p:nvSpPr>
        <p:spPr>
          <a:xfrm>
            <a:off x="1905120" y="54864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9" name=""/>
          <p:cNvSpPr/>
          <p:nvPr/>
        </p:nvSpPr>
        <p:spPr>
          <a:xfrm>
            <a:off x="1959120" y="5272200"/>
            <a:ext cx="936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ber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0" name=""/>
          <p:cNvSpPr/>
          <p:nvPr/>
        </p:nvSpPr>
        <p:spPr>
          <a:xfrm>
            <a:off x="3505320" y="5486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1" name=""/>
          <p:cNvSpPr/>
          <p:nvPr/>
        </p:nvSpPr>
        <p:spPr>
          <a:xfrm>
            <a:off x="3651120" y="5272200"/>
            <a:ext cx="130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 &amp; Data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2" name=""/>
          <p:cNvSpPr/>
          <p:nvPr/>
        </p:nvSpPr>
        <p:spPr>
          <a:xfrm>
            <a:off x="11620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3" name=""/>
          <p:cNvSpPr/>
          <p:nvPr/>
        </p:nvSpPr>
        <p:spPr>
          <a:xfrm>
            <a:off x="497196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4" name=""/>
          <p:cNvSpPr/>
          <p:nvPr/>
        </p:nvSpPr>
        <p:spPr>
          <a:xfrm>
            <a:off x="27622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99C-14F1-48A3-8CB8-4BFE6C84C088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7A6F5-F3BA-4FA0-8FA5-AE55CA00CE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pita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8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7879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1" name=""/>
          <p:cNvSpPr/>
          <p:nvPr/>
        </p:nvSpPr>
        <p:spPr>
          <a:xfrm>
            <a:off x="398844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2" name=""/>
          <p:cNvSpPr/>
          <p:nvPr/>
        </p:nvSpPr>
        <p:spPr>
          <a:xfrm>
            <a:off x="48355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3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5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6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7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9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6" name=""/>
          <p:cNvSpPr/>
          <p:nvPr/>
        </p:nvSpPr>
        <p:spPr>
          <a:xfrm>
            <a:off x="369108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5" name=""/>
          <p:cNvSpPr/>
          <p:nvPr/>
        </p:nvSpPr>
        <p:spPr>
          <a:xfrm>
            <a:off x="182808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6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7" name=""/>
          <p:cNvSpPr/>
          <p:nvPr/>
        </p:nvSpPr>
        <p:spPr>
          <a:xfrm>
            <a:off x="171360" y="171360"/>
            <a:ext cx="24955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8" name=""/>
          <p:cNvSpPr/>
          <p:nvPr/>
        </p:nvSpPr>
        <p:spPr>
          <a:xfrm>
            <a:off x="239760" y="249120"/>
            <a:ext cx="235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81 Cadillac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lifornia  950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Rizaldi Celi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Lien Celi x 1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8) 263-64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0" name=""/>
          <p:cNvSpPr/>
          <p:nvPr/>
        </p:nvSpPr>
        <p:spPr>
          <a:xfrm flipH="1">
            <a:off x="5486400" y="28954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3" name=""/>
          <p:cNvSpPr/>
          <p:nvPr/>
        </p:nvSpPr>
        <p:spPr>
          <a:xfrm flipH="1">
            <a:off x="5410080" y="36576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4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408-719-1058 / 408-719-12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5" name=""/>
          <p:cNvSpPr/>
          <p:nvPr/>
        </p:nvSpPr>
        <p:spPr>
          <a:xfrm>
            <a:off x="59436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6" name=""/>
          <p:cNvSpPr/>
          <p:nvPr/>
        </p:nvSpPr>
        <p:spPr>
          <a:xfrm>
            <a:off x="57913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9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1" name=""/>
          <p:cNvSpPr/>
          <p:nvPr/>
        </p:nvSpPr>
        <p:spPr>
          <a:xfrm>
            <a:off x="48355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2" name=""/>
          <p:cNvSpPr/>
          <p:nvPr/>
        </p:nvSpPr>
        <p:spPr>
          <a:xfrm>
            <a:off x="1193400" y="247824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3" name=""/>
          <p:cNvSpPr/>
          <p:nvPr/>
        </p:nvSpPr>
        <p:spPr>
          <a:xfrm>
            <a:off x="1066680" y="2478240"/>
            <a:ext cx="138132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4" name=""/>
          <p:cNvSpPr/>
          <p:nvPr/>
        </p:nvSpPr>
        <p:spPr>
          <a:xfrm>
            <a:off x="1433880" y="287820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5" name=""/>
          <p:cNvSpPr/>
          <p:nvPr/>
        </p:nvSpPr>
        <p:spPr>
          <a:xfrm>
            <a:off x="1265400" y="309240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6" name=""/>
          <p:cNvSpPr/>
          <p:nvPr/>
        </p:nvSpPr>
        <p:spPr>
          <a:xfrm flipV="1">
            <a:off x="1736640" y="2482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7" name=""/>
          <p:cNvSpPr/>
          <p:nvPr/>
        </p:nvSpPr>
        <p:spPr>
          <a:xfrm>
            <a:off x="16765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9907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7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 flipV="1">
            <a:off x="1371600" y="21416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0" name=""/>
          <p:cNvSpPr/>
          <p:nvPr/>
        </p:nvSpPr>
        <p:spPr>
          <a:xfrm>
            <a:off x="2416320" y="24382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5451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1" name=""/>
          <p:cNvSpPr/>
          <p:nvPr/>
        </p:nvSpPr>
        <p:spPr>
          <a:xfrm>
            <a:off x="249912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3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2" name=""/>
          <p:cNvSpPr/>
          <p:nvPr/>
        </p:nvSpPr>
        <p:spPr>
          <a:xfrm>
            <a:off x="1066680" y="3087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3" name=""/>
          <p:cNvSpPr/>
          <p:nvPr/>
        </p:nvSpPr>
        <p:spPr>
          <a:xfrm>
            <a:off x="1066680" y="2859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4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p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6" name=""/>
          <p:cNvSpPr/>
          <p:nvPr/>
        </p:nvSpPr>
        <p:spPr>
          <a:xfrm>
            <a:off x="114300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7" name=""/>
          <p:cNvSpPr/>
          <p:nvPr/>
        </p:nvSpPr>
        <p:spPr>
          <a:xfrm>
            <a:off x="594360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8" name=""/>
          <p:cNvSpPr/>
          <p:nvPr/>
        </p:nvSpPr>
        <p:spPr>
          <a:xfrm>
            <a:off x="579132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697-6DC9-421A-87BA-F697D733E9D6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45A20-52C9-4CE5-B21D-DD2F603F26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ro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2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7953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2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6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7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9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1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7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8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Co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North Bive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orth Carolina  28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289-5413…Bruce McC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0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1" name=""/>
          <p:cNvSpPr/>
          <p:nvPr/>
        </p:nvSpPr>
        <p:spPr>
          <a:xfrm>
            <a:off x="216900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3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4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5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96E-D925-4575-9A50-B93606F239F2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9F470-CF0E-4918-AFE9-A6CA157D18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side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9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020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8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>
            <a:off x="39456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1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2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6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7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8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9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0" name=""/>
          <p:cNvSpPr/>
          <p:nvPr/>
        </p:nvSpPr>
        <p:spPr>
          <a:xfrm>
            <a:off x="1447920" y="27925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1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2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3" name=""/>
          <p:cNvSpPr/>
          <p:nvPr/>
        </p:nvSpPr>
        <p:spPr>
          <a:xfrm flipV="1">
            <a:off x="7620120" y="25146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4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5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7" name=""/>
          <p:cNvSpPr/>
          <p:nvPr/>
        </p:nvSpPr>
        <p:spPr>
          <a:xfrm flipH="1">
            <a:off x="1218960" y="3554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4" name=""/>
          <p:cNvSpPr/>
          <p:nvPr/>
        </p:nvSpPr>
        <p:spPr>
          <a:xfrm>
            <a:off x="1828800" y="4191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6" name=""/>
          <p:cNvSpPr/>
          <p:nvPr/>
        </p:nvSpPr>
        <p:spPr>
          <a:xfrm>
            <a:off x="6318360" y="441972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7" name=""/>
          <p:cNvSpPr/>
          <p:nvPr/>
        </p:nvSpPr>
        <p:spPr>
          <a:xfrm flipH="1">
            <a:off x="7162560" y="46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3" name=""/>
          <p:cNvSpPr/>
          <p:nvPr/>
        </p:nvSpPr>
        <p:spPr>
          <a:xfrm>
            <a:off x="320976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>
            <a:off x="313380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>
            <a:off x="320976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313380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384516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383256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>
            <a:off x="7124040" y="596916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171360" y="19044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252360" y="216000"/>
            <a:ext cx="1957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22 Highway 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  07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8) 654-0660…Lou Chaz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 flipH="1">
            <a:off x="198072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>
            <a:off x="5933160" y="23493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>
            <a:off x="2043360" y="234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ABF-0309-4DF8-BFCC-AEC3265EFD4E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35179-D8B3-47DD-96E9-0057647B36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top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0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-23400" y="511344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92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4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8" name=""/>
          <p:cNvSpPr/>
          <p:nvPr/>
        </p:nvSpPr>
        <p:spPr>
          <a:xfrm>
            <a:off x="2207160" y="5362560"/>
            <a:ext cx="118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0" name=""/>
          <p:cNvSpPr/>
          <p:nvPr/>
        </p:nvSpPr>
        <p:spPr>
          <a:xfrm>
            <a:off x="7774200" y="6507000"/>
            <a:ext cx="109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2" name=""/>
          <p:cNvSpPr/>
          <p:nvPr/>
        </p:nvSpPr>
        <p:spPr>
          <a:xfrm>
            <a:off x="189360" y="216000"/>
            <a:ext cx="224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20 Oak Hi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ennsylvania  18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474-6731…Joe Wayne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3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3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8FF-AAEA-40E5-B9D9-B2EF90ED520F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45385-99D8-4D64-96C2-DCCA467147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(High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9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0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1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2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3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4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5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6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7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0" name=""/>
          <p:cNvSpPr/>
          <p:nvPr/>
        </p:nvSpPr>
        <p:spPr>
          <a:xfrm flipV="1">
            <a:off x="7620120" y="33526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1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6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0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1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6" name=""/>
          <p:cNvSpPr/>
          <p:nvPr/>
        </p:nvSpPr>
        <p:spPr>
          <a:xfrm>
            <a:off x="6705720" y="6507000"/>
            <a:ext cx="211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High Stre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>
            <a:off x="7169040" y="5851440"/>
            <a:ext cx="92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acedon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>
            <a:off x="990720" y="585144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>
            <a:off x="190440" y="28908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sher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South Hig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59…Greg Black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124920" y="4191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>
            <a:off x="234720" y="5257800"/>
            <a:ext cx="113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6285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>
            <a:off x="662184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2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5" name=""/>
          <p:cNvGrpSpPr/>
          <p:nvPr/>
        </p:nvGrpSpPr>
        <p:grpSpPr>
          <a:xfrm>
            <a:off x="3429000" y="1828800"/>
            <a:ext cx="2056680" cy="1676160"/>
            <a:chOff x="3429000" y="1828800"/>
            <a:chExt cx="2056680" cy="1676160"/>
          </a:xfrm>
        </p:grpSpPr>
        <p:sp>
          <p:nvSpPr>
            <p:cNvPr id="8186" name=""/>
            <p:cNvSpPr/>
            <p:nvPr/>
          </p:nvSpPr>
          <p:spPr>
            <a:xfrm>
              <a:off x="4515480" y="1935720"/>
              <a:ext cx="4392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3429000" y="1963800"/>
              <a:ext cx="565560" cy="48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3944520" y="1828800"/>
              <a:ext cx="5691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3453480" y="2410560"/>
              <a:ext cx="56808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3760920" y="2787120"/>
              <a:ext cx="5662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255560" y="3019320"/>
              <a:ext cx="56556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4795920" y="2817000"/>
              <a:ext cx="565920" cy="48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4860360" y="2152080"/>
              <a:ext cx="62532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4" name=""/>
          <p:cNvSpPr/>
          <p:nvPr/>
        </p:nvSpPr>
        <p:spPr>
          <a:xfrm>
            <a:off x="2209680" y="266688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5" name=""/>
          <p:cNvSpPr/>
          <p:nvPr/>
        </p:nvSpPr>
        <p:spPr>
          <a:xfrm>
            <a:off x="3901320" y="2117880"/>
            <a:ext cx="104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72-9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6" name=""/>
          <p:cNvSpPr/>
          <p:nvPr/>
        </p:nvSpPr>
        <p:spPr>
          <a:xfrm>
            <a:off x="3817080" y="2452680"/>
            <a:ext cx="122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DHZC 41304NB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7" name=""/>
          <p:cNvSpPr/>
          <p:nvPr/>
        </p:nvSpPr>
        <p:spPr>
          <a:xfrm>
            <a:off x="9144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8" name=""/>
          <p:cNvSpPr/>
          <p:nvPr/>
        </p:nvSpPr>
        <p:spPr>
          <a:xfrm>
            <a:off x="91728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9" name=""/>
          <p:cNvSpPr/>
          <p:nvPr/>
        </p:nvSpPr>
        <p:spPr>
          <a:xfrm>
            <a:off x="963720" y="251604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>
            <a:off x="14997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963720" y="28209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>
            <a:off x="157320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>
            <a:off x="963720" y="30495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>
            <a:off x="1141200" y="283536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125028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 flipV="1">
            <a:off x="12952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>
            <a:off x="75438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7622640" y="248292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7037280" y="251604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70131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7037280" y="28209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764712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7037280" y="30495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7199280" y="2835360"/>
            <a:ext cx="8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732420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6" name=""/>
          <p:cNvSpPr/>
          <p:nvPr/>
        </p:nvSpPr>
        <p:spPr>
          <a:xfrm flipV="1">
            <a:off x="79246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162-DB3C-4BD6-B357-AA0462CDB84F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3CD99-0C42-48EE-B055-BC80A8257B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158760" y="1758960"/>
            <a:ext cx="5397480" cy="380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>
            <a:off x="7245360" y="160668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>
            <a:off x="7380360" y="1744560"/>
            <a:ext cx="788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S-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4" name=""/>
          <p:cNvGrpSpPr/>
          <p:nvPr/>
        </p:nvGrpSpPr>
        <p:grpSpPr>
          <a:xfrm>
            <a:off x="6707160" y="3125880"/>
            <a:ext cx="2133360" cy="2436480"/>
            <a:chOff x="6707160" y="3125880"/>
            <a:chExt cx="2133360" cy="2436480"/>
          </a:xfrm>
        </p:grpSpPr>
        <p:sp>
          <p:nvSpPr>
            <p:cNvPr id="8225" name=""/>
            <p:cNvSpPr/>
            <p:nvPr/>
          </p:nvSpPr>
          <p:spPr>
            <a:xfrm>
              <a:off x="7832520" y="32846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6707160" y="33210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7243920" y="31258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6734160" y="39726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7051680" y="45187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7564320" y="48549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8128800" y="45604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8191440" y="35956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3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024k Port - DLCI 15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5562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"/>
          <p:cNvSpPr/>
          <p:nvPr/>
        </p:nvSpPr>
        <p:spPr>
          <a:xfrm>
            <a:off x="7772400" y="2209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5638680" y="20718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1024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>
            <a:off x="6400800" y="190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228600" y="23623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omington (DLCI 3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721872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228600" y="3726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lton (DLCI 3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"/>
          <p:cNvSpPr/>
          <p:nvPr/>
        </p:nvSpPr>
        <p:spPr>
          <a:xfrm>
            <a:off x="228600" y="4175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rfield (DLCI 2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2895480" y="2193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(DLCI 2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3" name=""/>
          <p:cNvSpPr/>
          <p:nvPr/>
        </p:nvSpPr>
        <p:spPr>
          <a:xfrm>
            <a:off x="2895480" y="40226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"/>
          <p:cNvSpPr/>
          <p:nvPr/>
        </p:nvSpPr>
        <p:spPr>
          <a:xfrm>
            <a:off x="2895480" y="26510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1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5" name=""/>
          <p:cNvSpPr/>
          <p:nvPr/>
        </p:nvSpPr>
        <p:spPr>
          <a:xfrm>
            <a:off x="228600" y="40226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Monte (DLCI 2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6" name=""/>
          <p:cNvSpPr/>
          <p:nvPr/>
        </p:nvSpPr>
        <p:spPr>
          <a:xfrm>
            <a:off x="2895480" y="204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ra (DLCI 3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"/>
          <p:cNvSpPr/>
          <p:nvPr/>
        </p:nvSpPr>
        <p:spPr>
          <a:xfrm>
            <a:off x="2895480" y="24987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wood (DLCI 2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8" name=""/>
          <p:cNvSpPr/>
          <p:nvPr/>
        </p:nvSpPr>
        <p:spPr>
          <a:xfrm>
            <a:off x="2895480" y="3870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ttle (DLCI 3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9" name=""/>
          <p:cNvSpPr/>
          <p:nvPr/>
        </p:nvSpPr>
        <p:spPr>
          <a:xfrm>
            <a:off x="2895480" y="32688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 Allegany (DLCI 3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"/>
          <p:cNvSpPr/>
          <p:nvPr/>
        </p:nvSpPr>
        <p:spPr>
          <a:xfrm>
            <a:off x="2895480" y="4632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xahachie (DLCI 3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1" name=""/>
          <p:cNvSpPr/>
          <p:nvPr/>
        </p:nvSpPr>
        <p:spPr>
          <a:xfrm>
            <a:off x="5638680" y="14619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2" name=""/>
          <p:cNvSpPr/>
          <p:nvPr/>
        </p:nvSpPr>
        <p:spPr>
          <a:xfrm>
            <a:off x="228600" y="2971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teret (DLCI 3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>
            <a:off x="228600" y="25146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plant) (DLCI 4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>
            <a:off x="228600" y="26668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Whs.) (DLCI 4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5" name=""/>
          <p:cNvSpPr/>
          <p:nvPr/>
        </p:nvSpPr>
        <p:spPr>
          <a:xfrm>
            <a:off x="228600" y="28195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lington (DLCI 3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>
            <a:off x="228600" y="3268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field (DLCI 16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228600" y="43275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. Collins (DLCI 4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228600" y="3878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nkirk (DLCI 2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>
            <a:off x="228600" y="44798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nderson (DLCI 3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>
            <a:off x="2895480" y="28036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ville (DLCI 3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1" name=""/>
          <p:cNvSpPr/>
          <p:nvPr/>
        </p:nvSpPr>
        <p:spPr>
          <a:xfrm>
            <a:off x="2895480" y="3421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pulpa (DLCI 3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>
            <a:off x="228600" y="49370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>
            <a:off x="2895480" y="4327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hington (DLCI 4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>
            <a:off x="2895480" y="3573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ton (DLCI 3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>
            <a:off x="2895480" y="31082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vely (DLCI 3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6" name=""/>
          <p:cNvSpPr/>
          <p:nvPr/>
        </p:nvSpPr>
        <p:spPr>
          <a:xfrm>
            <a:off x="228600" y="47847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 (DLCI 3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>
            <a:off x="2895480" y="41752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n Nuys (DLCI 4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>
            <a:off x="2895480" y="4479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son (DLCI 35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"/>
          <p:cNvSpPr/>
          <p:nvPr/>
        </p:nvSpPr>
        <p:spPr>
          <a:xfrm>
            <a:off x="228600" y="2049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irsville (DLCI 5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>
            <a:off x="228600" y="35733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aware (DLCI 5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3" name=""/>
          <p:cNvSpPr/>
          <p:nvPr/>
        </p:nvSpPr>
        <p:spPr>
          <a:xfrm>
            <a:off x="2895480" y="2346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- Heye (DLCI 5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"/>
          <p:cNvSpPr/>
          <p:nvPr/>
        </p:nvSpPr>
        <p:spPr>
          <a:xfrm>
            <a:off x="2895480" y="3718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. Louis (DLCI 5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5" name=""/>
          <p:cNvSpPr/>
          <p:nvPr/>
        </p:nvSpPr>
        <p:spPr>
          <a:xfrm>
            <a:off x="2895480" y="29559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ark (DLCI 6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6" name=""/>
          <p:cNvSpPr/>
          <p:nvPr/>
        </p:nvSpPr>
        <p:spPr>
          <a:xfrm>
            <a:off x="228600" y="3124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otte (DLCI 11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>
            <a:off x="228600" y="4632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ville (DLCI 9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8" name=""/>
          <p:cNvSpPr/>
          <p:nvPr/>
        </p:nvSpPr>
        <p:spPr>
          <a:xfrm>
            <a:off x="228600" y="22096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erican Canyon (DLCI 9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9" name=""/>
          <p:cNvSpPr/>
          <p:nvPr/>
        </p:nvSpPr>
        <p:spPr>
          <a:xfrm>
            <a:off x="228600" y="3429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ty of Industry (DLCI 9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905-A132-4471-8FDB-4B7749174BF9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DB5E5-8EB8-4898-BE58-D4019BE78C2E}" type="datetime1">
              <a:rPr lang="en-US"/>
              <a:t>07/30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3" name=""/>
          <p:cNvSpPr/>
          <p:nvPr/>
        </p:nvSpPr>
        <p:spPr>
          <a:xfrm>
            <a:off x="3983040" y="2292480"/>
            <a:ext cx="1120680" cy="34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4" name=""/>
          <p:cNvSpPr/>
          <p:nvPr/>
        </p:nvSpPr>
        <p:spPr>
          <a:xfrm>
            <a:off x="4260960" y="591660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5" name=""/>
          <p:cNvSpPr/>
          <p:nvPr/>
        </p:nvSpPr>
        <p:spPr>
          <a:xfrm>
            <a:off x="64771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"/>
          <p:cNvSpPr/>
          <p:nvPr/>
        </p:nvSpPr>
        <p:spPr>
          <a:xfrm>
            <a:off x="6477120" y="3581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7" name=""/>
          <p:cNvSpPr/>
          <p:nvPr/>
        </p:nvSpPr>
        <p:spPr>
          <a:xfrm>
            <a:off x="6477120" y="3733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8" name=""/>
          <p:cNvSpPr/>
          <p:nvPr/>
        </p:nvSpPr>
        <p:spPr>
          <a:xfrm flipH="1">
            <a:off x="5105160" y="35053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"/>
          <p:cNvSpPr/>
          <p:nvPr/>
        </p:nvSpPr>
        <p:spPr>
          <a:xfrm>
            <a:off x="1378080" y="24447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0" name=""/>
          <p:cNvSpPr/>
          <p:nvPr/>
        </p:nvSpPr>
        <p:spPr>
          <a:xfrm flipH="1">
            <a:off x="2590920" y="2743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1" name=""/>
          <p:cNvSpPr/>
          <p:nvPr/>
        </p:nvSpPr>
        <p:spPr>
          <a:xfrm>
            <a:off x="2678040" y="22543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1_CORP_RING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"/>
          <p:cNvSpPr/>
          <p:nvPr/>
        </p:nvSpPr>
        <p:spPr>
          <a:xfrm>
            <a:off x="3809880" y="25909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3" name=""/>
          <p:cNvSpPr/>
          <p:nvPr/>
        </p:nvSpPr>
        <p:spPr>
          <a:xfrm>
            <a:off x="51055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4" name=""/>
          <p:cNvSpPr/>
          <p:nvPr/>
        </p:nvSpPr>
        <p:spPr>
          <a:xfrm>
            <a:off x="4090320" y="418320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"/>
          <p:cNvSpPr/>
          <p:nvPr/>
        </p:nvSpPr>
        <p:spPr>
          <a:xfrm>
            <a:off x="1378080" y="33591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6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7" name=""/>
          <p:cNvSpPr/>
          <p:nvPr/>
        </p:nvSpPr>
        <p:spPr>
          <a:xfrm>
            <a:off x="2654640" y="40831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1_ENGINEER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"/>
          <p:cNvSpPr/>
          <p:nvPr/>
        </p:nvSpPr>
        <p:spPr>
          <a:xfrm>
            <a:off x="3809880" y="3505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9" name=""/>
          <p:cNvSpPr/>
          <p:nvPr/>
        </p:nvSpPr>
        <p:spPr>
          <a:xfrm>
            <a:off x="1378080" y="42735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0" name=""/>
          <p:cNvSpPr/>
          <p:nvPr/>
        </p:nvSpPr>
        <p:spPr>
          <a:xfrm flipH="1">
            <a:off x="25909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"/>
          <p:cNvSpPr/>
          <p:nvPr/>
        </p:nvSpPr>
        <p:spPr>
          <a:xfrm>
            <a:off x="3809880" y="44197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2" name=""/>
          <p:cNvSpPr/>
          <p:nvPr/>
        </p:nvSpPr>
        <p:spPr>
          <a:xfrm>
            <a:off x="2678040" y="31687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2_CORP_RING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5258160" y="3262320"/>
            <a:ext cx="102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>
            <a:off x="647712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>
            <a:off x="6477120" y="4495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>
            <a:off x="647712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 flipH="1">
            <a:off x="5105160" y="4419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>
            <a:off x="51055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>
            <a:off x="5261040" y="41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11_MUNC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>
            <a:off x="2796120" y="5014800"/>
            <a:ext cx="1033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1378080" y="51879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 flipH="1">
            <a:off x="2590920" y="5486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>
            <a:off x="3809880" y="53341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47E-8E43-4EDD-AEAD-4BD5E5ABB6B7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D3D60-B39F-45CB-B754-B0E8C20368FF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39880" y="1690560"/>
            <a:ext cx="99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813800" y="3505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48720" y="29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915960" y="2986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ICHTA FAL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18840" y="3976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706640" y="21477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5410080" y="3123720"/>
            <a:ext cx="22100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848720" y="1766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C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7594560" y="19051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4800600" y="19810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145640" y="176688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1596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620120" y="41911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 flipV="1">
            <a:off x="5638680" y="3733560"/>
            <a:ext cx="198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13800" y="4540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15960" y="4510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7620120" y="47023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7023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"/>
          <p:cNvSpPr/>
          <p:nvPr/>
        </p:nvSpPr>
        <p:spPr>
          <a:xfrm flipH="1" flipV="1">
            <a:off x="5409720" y="4647960"/>
            <a:ext cx="22100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7620120" y="3657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3657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"/>
          <p:cNvGraphicFramePr/>
          <p:nvPr/>
        </p:nvGraphicFramePr>
        <p:xfrm>
          <a:off x="7620120" y="310212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0120" y="3102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5562720" y="42670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1800" y="3581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15240" y="4083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7620120" y="5235480"/>
          <a:ext cx="24120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0120" y="52354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3" name=""/>
          <p:cNvSpPr/>
          <p:nvPr/>
        </p:nvSpPr>
        <p:spPr>
          <a:xfrm>
            <a:off x="7815240" y="507348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cC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257800" y="4952880"/>
            <a:ext cx="23623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1800" y="4967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7620120" y="5769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20120" y="576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7815240" y="560700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4400" y="5424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105520" y="5105520"/>
            <a:ext cx="2514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D62-B834-42A4-A005-0641EFE95F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1E8C7-C757-46ED-B9FA-44A9621EB709}" type="datetime1">
              <a:rPr lang="en-US"/>
              <a:t>07/30/26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0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47307-36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 (LAN 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Alan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>
            <a:off x="6523200" y="5715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5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6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8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8339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7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57135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>
            <a:off x="7008840" y="2895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2970360" y="1752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426564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1066680" y="152388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 (1024 K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GS 6314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17) 752-72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60192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8" name=""/>
          <p:cNvGrpSpPr/>
          <p:nvPr/>
        </p:nvGrpSpPr>
        <p:grpSpPr>
          <a:xfrm>
            <a:off x="228600" y="3809880"/>
            <a:ext cx="3809880" cy="2190960"/>
            <a:chOff x="228600" y="3809880"/>
            <a:chExt cx="3809880" cy="2190960"/>
          </a:xfrm>
        </p:grpSpPr>
        <p:sp>
          <p:nvSpPr>
            <p:cNvPr id="8359" name=""/>
            <p:cNvSpPr/>
            <p:nvPr/>
          </p:nvSpPr>
          <p:spPr>
            <a:xfrm>
              <a:off x="2362320" y="5757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T. Kinghor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1295280" y="5757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228600" y="5757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2362320" y="5514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M. Cru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1295280" y="5514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228600" y="5514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2362320" y="527220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Consulta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1295280" y="52722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228600" y="52722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2362320" y="502920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A. Vicste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1295280" y="50292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228600" y="50292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2362320" y="4781520"/>
              <a:ext cx="16761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S400 - Rav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1295280" y="4781520"/>
              <a:ext cx="1067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228600" y="478152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0.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2362320" y="453852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PN Contivity 1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1295280" y="453852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228600" y="453852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59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2362320" y="429588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ver Ru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1295280" y="429588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228600" y="429588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2362320" y="4052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te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1295280" y="4052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228600" y="4052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2362320" y="3809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1295280" y="3809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228600" y="3809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228600" y="380988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228600" y="4052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228600" y="4295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228600" y="4538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228600" y="4781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228600" y="5029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228600" y="5272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28600" y="5514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28600" y="5757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28600" y="600084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22860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129528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236232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03848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0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1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2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7E0-151E-44B0-94D7-2B9C064EF186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524A0-6C7A-4B9A-A8A6-6327E6FBC9C7}" type="datetime1">
              <a:rPr lang="en-US"/>
              <a:t>07/30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7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8408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6" name=""/>
          <p:cNvSpPr/>
          <p:nvPr/>
        </p:nvSpPr>
        <p:spPr>
          <a:xfrm>
            <a:off x="964800" y="1932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1230480" y="496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>
            <a:off x="175212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 flipH="1" flipV="1">
            <a:off x="5562360" y="25905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 flipV="1">
            <a:off x="1600200" y="3047760"/>
            <a:ext cx="0" cy="19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1600200" y="30481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1801800" y="45864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663192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7041960" y="56642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206136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198360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7828920" y="459900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 flipV="1">
            <a:off x="160020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 flipH="1" flipV="1">
            <a:off x="5638680" y="25905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6015960" y="28335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>
            <a:off x="5952960" y="30621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D4D-4FA5-47A3-88C0-EAB189A0240A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5459C-A0D3-466D-9919-1BAEE62AFB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squehoning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44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9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1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2" name=""/>
          <p:cNvSpPr/>
          <p:nvPr/>
        </p:nvSpPr>
        <p:spPr>
          <a:xfrm>
            <a:off x="378000" y="5113440"/>
            <a:ext cx="10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SQUEH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5960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1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>
            <a:off x="6267600" y="4676760"/>
            <a:ext cx="90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squehon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4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D#1, Route 54 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, Pennsylvania  18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645-2164…Ed Klein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D59-445B-4F91-9B6F-64F5CEE777A5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91D6F-0C5E-464F-9F79-B284E1826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ark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850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7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8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9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0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1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2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3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4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5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6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7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8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9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0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1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2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3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4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8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08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15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832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4" name=""/>
          <p:cNvSpPr/>
          <p:nvPr/>
        </p:nvSpPr>
        <p:spPr>
          <a:xfrm>
            <a:off x="6761880" y="3200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a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5" name=""/>
          <p:cNvSpPr/>
          <p:nvPr/>
        </p:nvSpPr>
        <p:spPr>
          <a:xfrm>
            <a:off x="764280" y="3276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6" name=""/>
          <p:cNvSpPr/>
          <p:nvPr/>
        </p:nvSpPr>
        <p:spPr>
          <a:xfrm>
            <a:off x="476280" y="5257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W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7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1 Doremus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ew Jersey  07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274-9001…Paul Giroux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EF2-C55B-4E7C-A055-66DFB01585C9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47631-96F5-4118-9FF1-7129F2A8F4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>
            <a:off x="7315200" y="6526080"/>
            <a:ext cx="150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b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4" name=""/>
          <p:cNvSpPr/>
          <p:nvPr/>
        </p:nvSpPr>
        <p:spPr>
          <a:xfrm>
            <a:off x="171360" y="190440"/>
            <a:ext cx="29527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5" name=""/>
          <p:cNvSpPr/>
          <p:nvPr/>
        </p:nvSpPr>
        <p:spPr>
          <a:xfrm>
            <a:off x="190440" y="2160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345 Kins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io  440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a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Carl Morley x-51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6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7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9" name=""/>
          <p:cNvSpPr/>
          <p:nvPr/>
        </p:nvSpPr>
        <p:spPr>
          <a:xfrm>
            <a:off x="175212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1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4" name=""/>
          <p:cNvSpPr/>
          <p:nvPr/>
        </p:nvSpPr>
        <p:spPr>
          <a:xfrm>
            <a:off x="130176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5" name=""/>
          <p:cNvSpPr/>
          <p:nvPr/>
        </p:nvSpPr>
        <p:spPr>
          <a:xfrm>
            <a:off x="1386000" y="2639880"/>
            <a:ext cx="43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6" name=""/>
          <p:cNvSpPr/>
          <p:nvPr/>
        </p:nvSpPr>
        <p:spPr>
          <a:xfrm flipV="1">
            <a:off x="160020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6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7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8" name=""/>
          <p:cNvSpPr/>
          <p:nvPr/>
        </p:nvSpPr>
        <p:spPr>
          <a:xfrm>
            <a:off x="663192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859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0" name=""/>
          <p:cNvSpPr/>
          <p:nvPr/>
        </p:nvSpPr>
        <p:spPr>
          <a:xfrm>
            <a:off x="3855960" y="2193840"/>
            <a:ext cx="1303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27-22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1" name=""/>
          <p:cNvSpPr/>
          <p:nvPr/>
        </p:nvSpPr>
        <p:spPr>
          <a:xfrm>
            <a:off x="1905120" y="274320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2" name=""/>
          <p:cNvSpPr/>
          <p:nvPr/>
        </p:nvSpPr>
        <p:spPr>
          <a:xfrm>
            <a:off x="729144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3" name=""/>
          <p:cNvSpPr/>
          <p:nvPr/>
        </p:nvSpPr>
        <p:spPr>
          <a:xfrm>
            <a:off x="7375680" y="2803680"/>
            <a:ext cx="436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4" name=""/>
          <p:cNvSpPr/>
          <p:nvPr/>
        </p:nvSpPr>
        <p:spPr>
          <a:xfrm>
            <a:off x="1905120" y="30481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7CA-B6B0-447B-B3A5-ACE9C7CC77D0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37B4E-7A30-492C-8BF1-BFFA3A8DD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Lexingt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860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 Lex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88640" y="216000"/>
            <a:ext cx="2405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dowici Roof T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7 Tile Plan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io  437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42-1995…Derek Thomas x-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7620120" y="6526080"/>
            <a:ext cx="127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687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9A4-8E9A-410C-B99A-D00FE7D6A954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3D32B-9D55-4D0A-9F36-798ACDB01D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8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8669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7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8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1" name=""/>
          <p:cNvSpPr/>
          <p:nvPr/>
        </p:nvSpPr>
        <p:spPr>
          <a:xfrm flipV="1">
            <a:off x="1600200" y="22856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2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3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4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5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6" name=""/>
          <p:cNvSpPr/>
          <p:nvPr/>
        </p:nvSpPr>
        <p:spPr>
          <a:xfrm>
            <a:off x="6454800" y="60948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8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9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0" name=""/>
          <p:cNvSpPr/>
          <p:nvPr/>
        </p:nvSpPr>
        <p:spPr>
          <a:xfrm>
            <a:off x="612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>
            <a:off x="7584840" y="60948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4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6176520" y="5892840"/>
            <a:ext cx="132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6908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1755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0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2" name=""/>
          <p:cNvSpPr/>
          <p:nvPr/>
        </p:nvSpPr>
        <p:spPr>
          <a:xfrm>
            <a:off x="2460600" y="41911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716) 282-056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>
            <a:off x="2457000" y="51195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716-284-7245 / 716-284-72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1905120" y="2133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6904800" y="14968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>
            <a:off x="8047800" y="1498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>
            <a:off x="80805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>
            <a:off x="5213520" y="589284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5765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171360" y="171360"/>
            <a:ext cx="2876760" cy="127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239760" y="249120"/>
            <a:ext cx="280836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Th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Nancy Weese x-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328-0851…Nancy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Kevin Perks x-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1219320" y="4724280"/>
            <a:ext cx="76176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Baye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>
            <a:off x="5124600" y="609480"/>
            <a:ext cx="112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4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5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6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612000" y="3503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244620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716-284-7225 / 716-284-7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2446200" y="53481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716-284-7260 / 716-284-7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1301760" y="191124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1219320" y="19051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182880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1905120" y="4572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>
            <a:off x="190512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7" name=""/>
          <p:cNvSpPr/>
          <p:nvPr/>
        </p:nvSpPr>
        <p:spPr>
          <a:xfrm>
            <a:off x="1828800" y="4343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8" name=""/>
          <p:cNvSpPr/>
          <p:nvPr/>
        </p:nvSpPr>
        <p:spPr>
          <a:xfrm>
            <a:off x="2438280" y="44337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716) 282-372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9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1:  not installed y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716-0D8C-444B-8837-28C33FF71DBD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36E6C-6B6D-4DEA-8039-FC55C61D79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3" name=""/>
          <p:cNvGrpSpPr/>
          <p:nvPr/>
        </p:nvGrpSpPr>
        <p:grpSpPr>
          <a:xfrm>
            <a:off x="4191120" y="1295280"/>
            <a:ext cx="2208960" cy="1828440"/>
            <a:chOff x="4191120" y="1295280"/>
            <a:chExt cx="2208960" cy="1828440"/>
          </a:xfrm>
        </p:grpSpPr>
        <p:sp>
          <p:nvSpPr>
            <p:cNvPr id="8764" name=""/>
            <p:cNvSpPr/>
            <p:nvPr/>
          </p:nvSpPr>
          <p:spPr>
            <a:xfrm>
              <a:off x="5358240" y="1411920"/>
              <a:ext cx="471600" cy="48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4191120" y="1442520"/>
              <a:ext cx="607320" cy="53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4744800" y="1295280"/>
              <a:ext cx="611280" cy="52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4217400" y="1929960"/>
              <a:ext cx="610200" cy="52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4547880" y="2340720"/>
              <a:ext cx="608400" cy="53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5078880" y="2594160"/>
              <a:ext cx="607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5659200" y="2373480"/>
              <a:ext cx="60768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5728680" y="1648080"/>
              <a:ext cx="671400" cy="75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2" name=""/>
          <p:cNvSpPr/>
          <p:nvPr/>
        </p:nvSpPr>
        <p:spPr>
          <a:xfrm>
            <a:off x="74768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2301840" y="3352680"/>
            <a:ext cx="744480" cy="16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>
            <a:off x="1600920" y="2438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>
            <a:off x="163368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 flipH="1" flipV="1">
            <a:off x="6324480" y="18777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76312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 flipH="1">
            <a:off x="244296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0" name=""/>
          <p:cNvSpPr/>
          <p:nvPr/>
        </p:nvSpPr>
        <p:spPr>
          <a:xfrm flipV="1">
            <a:off x="2666880" y="2209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1" name=""/>
          <p:cNvSpPr/>
          <p:nvPr/>
        </p:nvSpPr>
        <p:spPr>
          <a:xfrm>
            <a:off x="6324480" y="22096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2" name=""/>
          <p:cNvSpPr/>
          <p:nvPr/>
        </p:nvSpPr>
        <p:spPr>
          <a:xfrm flipV="1">
            <a:off x="8001000" y="220932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3" name=""/>
          <p:cNvSpPr/>
          <p:nvPr/>
        </p:nvSpPr>
        <p:spPr>
          <a:xfrm>
            <a:off x="822312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 flipV="1">
            <a:off x="800100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 flipH="1">
            <a:off x="22903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>
            <a:off x="29005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 flipH="1">
            <a:off x="2671560" y="3110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8" name=""/>
          <p:cNvSpPr/>
          <p:nvPr/>
        </p:nvSpPr>
        <p:spPr>
          <a:xfrm>
            <a:off x="7073280" y="4495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9" name=""/>
          <p:cNvSpPr/>
          <p:nvPr/>
        </p:nvSpPr>
        <p:spPr>
          <a:xfrm>
            <a:off x="4249800" y="2044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0" name=""/>
          <p:cNvSpPr/>
          <p:nvPr/>
        </p:nvSpPr>
        <p:spPr>
          <a:xfrm>
            <a:off x="5697360" y="20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1" name=""/>
          <p:cNvSpPr/>
          <p:nvPr/>
        </p:nvSpPr>
        <p:spPr>
          <a:xfrm>
            <a:off x="4675680" y="158436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2" name=""/>
          <p:cNvSpPr/>
          <p:nvPr/>
        </p:nvSpPr>
        <p:spPr>
          <a:xfrm>
            <a:off x="1301400" y="46162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3" name=""/>
          <p:cNvSpPr/>
          <p:nvPr/>
        </p:nvSpPr>
        <p:spPr>
          <a:xfrm flipH="1">
            <a:off x="2061720" y="4768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4272120" y="35053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5" name=""/>
          <p:cNvSpPr/>
          <p:nvPr/>
        </p:nvSpPr>
        <p:spPr>
          <a:xfrm>
            <a:off x="4195800" y="3505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6" name=""/>
          <p:cNvSpPr/>
          <p:nvPr/>
        </p:nvSpPr>
        <p:spPr>
          <a:xfrm>
            <a:off x="3052800" y="3657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7" name=""/>
          <p:cNvSpPr/>
          <p:nvPr/>
        </p:nvSpPr>
        <p:spPr>
          <a:xfrm>
            <a:off x="4971600" y="35812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8" name=""/>
          <p:cNvSpPr/>
          <p:nvPr/>
        </p:nvSpPr>
        <p:spPr>
          <a:xfrm>
            <a:off x="2062080" y="594360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9" name=""/>
          <p:cNvSpPr/>
          <p:nvPr/>
        </p:nvSpPr>
        <p:spPr>
          <a:xfrm flipH="1">
            <a:off x="305280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0" name=""/>
          <p:cNvSpPr/>
          <p:nvPr/>
        </p:nvSpPr>
        <p:spPr>
          <a:xfrm>
            <a:off x="2666880" y="22096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1" name=""/>
          <p:cNvSpPr/>
          <p:nvPr/>
        </p:nvSpPr>
        <p:spPr>
          <a:xfrm>
            <a:off x="4947480" y="466236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379440" y="3595680"/>
            <a:ext cx="86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Amhe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6530400" y="1981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6482160" y="22096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381960" y="426708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 to Sanb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3052800" y="4025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4272120" y="38862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4195800" y="3886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4971600" y="39625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3052800" y="4406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>
            <a:off x="4272120" y="42670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4195800" y="426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3" name=""/>
          <p:cNvSpPr/>
          <p:nvPr/>
        </p:nvSpPr>
        <p:spPr>
          <a:xfrm>
            <a:off x="4971600" y="43434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>
            <a:off x="171360" y="396720"/>
            <a:ext cx="300996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250920" y="441360"/>
            <a:ext cx="287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Structural Ceramics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 Aches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034…Larry Rowe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5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7" name=""/>
          <p:cNvSpPr/>
          <p:nvPr/>
        </p:nvSpPr>
        <p:spPr>
          <a:xfrm>
            <a:off x="1278720" y="39304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8" name=""/>
          <p:cNvSpPr/>
          <p:nvPr/>
        </p:nvSpPr>
        <p:spPr>
          <a:xfrm flipH="1" flipV="1">
            <a:off x="2057040" y="41907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 flipH="1">
            <a:off x="1218960" y="4419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 flipH="1">
            <a:off x="1218960" y="3733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 flipH="1" flipV="1">
            <a:off x="2057040" y="35049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1278720" y="32767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3" name=""/>
          <p:cNvSpPr/>
          <p:nvPr/>
        </p:nvSpPr>
        <p:spPr>
          <a:xfrm>
            <a:off x="2438280" y="2666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4" name=""/>
          <p:cNvSpPr/>
          <p:nvPr/>
        </p:nvSpPr>
        <p:spPr>
          <a:xfrm flipV="1">
            <a:off x="3048120" y="38858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5" name=""/>
          <p:cNvSpPr/>
          <p:nvPr/>
        </p:nvSpPr>
        <p:spPr>
          <a:xfrm>
            <a:off x="320040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32004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7" name=""/>
          <p:cNvSpPr/>
          <p:nvPr/>
        </p:nvSpPr>
        <p:spPr>
          <a:xfrm flipV="1">
            <a:off x="3048120" y="42670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8" name=""/>
          <p:cNvSpPr/>
          <p:nvPr/>
        </p:nvSpPr>
        <p:spPr>
          <a:xfrm flipV="1">
            <a:off x="3048120" y="46479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9" name=""/>
          <p:cNvSpPr/>
          <p:nvPr/>
        </p:nvSpPr>
        <p:spPr>
          <a:xfrm>
            <a:off x="3200040" y="45100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0" name=""/>
          <p:cNvSpPr/>
          <p:nvPr/>
        </p:nvSpPr>
        <p:spPr>
          <a:xfrm>
            <a:off x="2854800" y="19954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6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1" name=""/>
          <p:cNvSpPr/>
          <p:nvPr/>
        </p:nvSpPr>
        <p:spPr>
          <a:xfrm>
            <a:off x="26668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2" name=""/>
          <p:cNvSpPr/>
          <p:nvPr/>
        </p:nvSpPr>
        <p:spPr>
          <a:xfrm>
            <a:off x="2362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3" name=""/>
          <p:cNvSpPr/>
          <p:nvPr/>
        </p:nvSpPr>
        <p:spPr>
          <a:xfrm>
            <a:off x="25146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4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5" name=""/>
          <p:cNvSpPr/>
          <p:nvPr/>
        </p:nvSpPr>
        <p:spPr>
          <a:xfrm>
            <a:off x="29718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AAE-554E-4B7D-8EB2-0E538F5C6771}" type="slidenum">
              <a:t>1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04D86-0E6E-440D-84FA-47705B2F1E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boro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9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0" name=""/>
          <p:cNvGrpSpPr/>
          <p:nvPr/>
        </p:nvGrpSpPr>
        <p:grpSpPr>
          <a:xfrm>
            <a:off x="3429000" y="1822320"/>
            <a:ext cx="2361600" cy="1104480"/>
            <a:chOff x="3429000" y="1822320"/>
            <a:chExt cx="2361600" cy="1104480"/>
          </a:xfrm>
        </p:grpSpPr>
        <p:sp>
          <p:nvSpPr>
            <p:cNvPr id="8841" name=""/>
            <p:cNvSpPr/>
            <p:nvPr/>
          </p:nvSpPr>
          <p:spPr>
            <a:xfrm>
              <a:off x="4676760" y="1893600"/>
              <a:ext cx="50508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3429000" y="1911240"/>
              <a:ext cx="64836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4023000" y="1822320"/>
              <a:ext cx="65304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3458520" y="2204640"/>
              <a:ext cx="65232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813120" y="2454480"/>
              <a:ext cx="648360" cy="32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4378680" y="2606400"/>
              <a:ext cx="65016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5001840" y="2472120"/>
              <a:ext cx="6480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5072760" y="2035080"/>
              <a:ext cx="71784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9" name=""/>
          <p:cNvSpPr/>
          <p:nvPr/>
        </p:nvSpPr>
        <p:spPr>
          <a:xfrm>
            <a:off x="7468200" y="6526080"/>
            <a:ext cx="1386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0" name=""/>
          <p:cNvSpPr/>
          <p:nvPr/>
        </p:nvSpPr>
        <p:spPr>
          <a:xfrm>
            <a:off x="1006200" y="6031080"/>
            <a:ext cx="107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1" name=""/>
          <p:cNvSpPr/>
          <p:nvPr/>
        </p:nvSpPr>
        <p:spPr>
          <a:xfrm>
            <a:off x="701964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2" name=""/>
          <p:cNvSpPr/>
          <p:nvPr/>
        </p:nvSpPr>
        <p:spPr>
          <a:xfrm>
            <a:off x="7676280" y="44956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3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4" name=""/>
          <p:cNvSpPr/>
          <p:nvPr/>
        </p:nvSpPr>
        <p:spPr>
          <a:xfrm>
            <a:off x="7104240" y="491184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5" name=""/>
          <p:cNvSpPr/>
          <p:nvPr/>
        </p:nvSpPr>
        <p:spPr>
          <a:xfrm>
            <a:off x="241200" y="230040"/>
            <a:ext cx="2502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dd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 01532-15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351-7522…Cindy LaPer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12-7068…Cindy’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6" name=""/>
          <p:cNvSpPr/>
          <p:nvPr/>
        </p:nvSpPr>
        <p:spPr>
          <a:xfrm>
            <a:off x="4100040" y="210816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0) 343-13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  DHDA  913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7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8" name=""/>
          <p:cNvSpPr/>
          <p:nvPr/>
        </p:nvSpPr>
        <p:spPr>
          <a:xfrm>
            <a:off x="2193840" y="2394000"/>
            <a:ext cx="13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9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0" name=""/>
          <p:cNvSpPr/>
          <p:nvPr/>
        </p:nvSpPr>
        <p:spPr>
          <a:xfrm>
            <a:off x="120528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1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2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3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4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5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6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7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8" name=""/>
          <p:cNvSpPr/>
          <p:nvPr/>
        </p:nvSpPr>
        <p:spPr>
          <a:xfrm>
            <a:off x="725220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9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0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1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2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3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4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5" name=""/>
          <p:cNvSpPr/>
          <p:nvPr/>
        </p:nvSpPr>
        <p:spPr>
          <a:xfrm>
            <a:off x="57150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6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7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8" name=""/>
          <p:cNvSpPr/>
          <p:nvPr/>
        </p:nvSpPr>
        <p:spPr>
          <a:xfrm flipH="1">
            <a:off x="7543440" y="3079800"/>
            <a:ext cx="11160" cy="18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9" name=""/>
          <p:cNvSpPr/>
          <p:nvPr/>
        </p:nvSpPr>
        <p:spPr>
          <a:xfrm flipV="1">
            <a:off x="7554960" y="4752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0" name=""/>
          <p:cNvSpPr/>
          <p:nvPr/>
        </p:nvSpPr>
        <p:spPr>
          <a:xfrm>
            <a:off x="1508040" y="30798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1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2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3" name=""/>
          <p:cNvSpPr/>
          <p:nvPr/>
        </p:nvSpPr>
        <p:spPr>
          <a:xfrm>
            <a:off x="1163520" y="433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4" name=""/>
          <p:cNvSpPr/>
          <p:nvPr/>
        </p:nvSpPr>
        <p:spPr>
          <a:xfrm>
            <a:off x="495360" y="4870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5" name=""/>
          <p:cNvSpPr/>
          <p:nvPr/>
        </p:nvSpPr>
        <p:spPr>
          <a:xfrm flipH="1">
            <a:off x="1304640" y="4786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6" name=""/>
          <p:cNvSpPr/>
          <p:nvPr/>
        </p:nvSpPr>
        <p:spPr>
          <a:xfrm flipH="1">
            <a:off x="1152000" y="5396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7" name=""/>
          <p:cNvSpPr/>
          <p:nvPr/>
        </p:nvSpPr>
        <p:spPr>
          <a:xfrm>
            <a:off x="1533600" y="478620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8" name=""/>
          <p:cNvSpPr/>
          <p:nvPr/>
        </p:nvSpPr>
        <p:spPr>
          <a:xfrm>
            <a:off x="138096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9" name=""/>
          <p:cNvSpPr/>
          <p:nvPr/>
        </p:nvSpPr>
        <p:spPr>
          <a:xfrm>
            <a:off x="168588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0" name=""/>
          <p:cNvSpPr/>
          <p:nvPr/>
        </p:nvSpPr>
        <p:spPr>
          <a:xfrm flipV="1">
            <a:off x="122868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1" name=""/>
          <p:cNvSpPr/>
          <p:nvPr/>
        </p:nvSpPr>
        <p:spPr>
          <a:xfrm flipV="1">
            <a:off x="183816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2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3" name=""/>
          <p:cNvSpPr/>
          <p:nvPr/>
        </p:nvSpPr>
        <p:spPr>
          <a:xfrm>
            <a:off x="163080" y="4405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4" name=""/>
          <p:cNvSpPr/>
          <p:nvPr/>
        </p:nvSpPr>
        <p:spPr>
          <a:xfrm flipH="1">
            <a:off x="923400" y="4557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5" name=""/>
          <p:cNvSpPr/>
          <p:nvPr/>
        </p:nvSpPr>
        <p:spPr>
          <a:xfrm>
            <a:off x="3133800" y="41767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6" name=""/>
          <p:cNvSpPr/>
          <p:nvPr/>
        </p:nvSpPr>
        <p:spPr>
          <a:xfrm>
            <a:off x="3022560" y="4145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7" name=""/>
          <p:cNvSpPr/>
          <p:nvPr/>
        </p:nvSpPr>
        <p:spPr>
          <a:xfrm>
            <a:off x="3768840" y="426096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351-29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8" name=""/>
          <p:cNvSpPr/>
          <p:nvPr/>
        </p:nvSpPr>
        <p:spPr>
          <a:xfrm>
            <a:off x="2142360" y="48610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9" name=""/>
          <p:cNvSpPr/>
          <p:nvPr/>
        </p:nvSpPr>
        <p:spPr>
          <a:xfrm flipH="1" flipV="1">
            <a:off x="1914120" y="4709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0" name=""/>
          <p:cNvSpPr/>
          <p:nvPr/>
        </p:nvSpPr>
        <p:spPr>
          <a:xfrm>
            <a:off x="1905120" y="4724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1905120" y="4419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2" name=""/>
          <p:cNvSpPr/>
          <p:nvPr/>
        </p:nvSpPr>
        <p:spPr>
          <a:xfrm>
            <a:off x="612000" y="37321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3066120" y="45720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8-393-5623 / -- 508-393-56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22A-9A11-4F39-8917-043BFDBEAD00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66B18-41E7-4463-8F16-6537C39A5742}" type="datetime1">
              <a:rPr lang="en-US"/>
              <a:t>07/30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Hamp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90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4" name=""/>
          <p:cNvSpPr/>
          <p:nvPr/>
        </p:nvSpPr>
        <p:spPr>
          <a:xfrm>
            <a:off x="1301760" y="2222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5" name=""/>
          <p:cNvSpPr/>
          <p:nvPr/>
        </p:nvSpPr>
        <p:spPr>
          <a:xfrm>
            <a:off x="1249200" y="21938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6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6" name=""/>
          <p:cNvSpPr/>
          <p:nvPr/>
        </p:nvSpPr>
        <p:spPr>
          <a:xfrm>
            <a:off x="6234120" y="4676760"/>
            <a:ext cx="94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H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3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4" name=""/>
          <p:cNvSpPr/>
          <p:nvPr/>
        </p:nvSpPr>
        <p:spPr>
          <a:xfrm>
            <a:off x="212760" y="216000"/>
            <a:ext cx="2378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5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  010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Thibault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Hewes x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5" name=""/>
          <p:cNvSpPr/>
          <p:nvPr/>
        </p:nvSpPr>
        <p:spPr>
          <a:xfrm>
            <a:off x="7391520" y="6507000"/>
            <a:ext cx="144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H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6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624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FAA-E162-41EE-90C2-45D3CF888C1B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D5A7C-CE39-4615-9678-A2ABC40923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1981080" y="305604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5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"/>
          <p:cNvGraphicFramePr/>
          <p:nvPr/>
        </p:nvGraphicFramePr>
        <p:xfrm>
          <a:off x="1981080" y="342900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"/>
          <p:cNvSpPr/>
          <p:nvPr/>
        </p:nvSpPr>
        <p:spPr>
          <a:xfrm flipV="1">
            <a:off x="2209680" y="45576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6934320" y="45813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4581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4" name=""/>
          <p:cNvGraphicFramePr/>
          <p:nvPr/>
        </p:nvGraphicFramePr>
        <p:xfrm>
          <a:off x="6934320" y="5373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73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6" name=""/>
          <p:cNvGraphicFramePr/>
          <p:nvPr/>
        </p:nvGraphicFramePr>
        <p:xfrm>
          <a:off x="6934320" y="499284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92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8" name=""/>
          <p:cNvGraphicFramePr/>
          <p:nvPr/>
        </p:nvGraphicFramePr>
        <p:xfrm>
          <a:off x="1981080" y="2316240"/>
          <a:ext cx="24156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23162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 flipV="1">
            <a:off x="2209680" y="47858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2209680" y="5091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181480" y="5105520"/>
            <a:ext cx="1752840" cy="29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81480" y="4800600"/>
            <a:ext cx="175284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 flipV="1">
            <a:off x="5486400" y="45576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556272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6934320" y="26748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6748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1981080" y="2697120"/>
          <a:ext cx="241560" cy="98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26971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4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6" name=""/>
          <p:cNvGraphicFramePr/>
          <p:nvPr/>
        </p:nvGraphicFramePr>
        <p:xfrm>
          <a:off x="1981080" y="1935000"/>
          <a:ext cx="24156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1935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209680" y="31240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09680" y="2773440"/>
            <a:ext cx="1447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4952880" y="1981080"/>
            <a:ext cx="198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5333760" y="23623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5105520" y="2743200"/>
            <a:ext cx="1828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439360" y="4481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42388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23520" y="4830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423520" y="5197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09720" y="2224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209680" y="236232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1981080" y="4206960"/>
          <a:ext cx="24156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5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42069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4" name=""/>
          <p:cNvSpPr/>
          <p:nvPr/>
        </p:nvSpPr>
        <p:spPr>
          <a:xfrm>
            <a:off x="2209680" y="1981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5" name=""/>
          <p:cNvGraphicFramePr/>
          <p:nvPr/>
        </p:nvGraphicFramePr>
        <p:xfrm>
          <a:off x="1981080" y="5396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5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539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7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9" name=""/>
          <p:cNvGraphicFramePr/>
          <p:nvPr/>
        </p:nvGraphicFramePr>
        <p:xfrm>
          <a:off x="6934320" y="418464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6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41846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"/>
          <p:cNvSpPr/>
          <p:nvPr/>
        </p:nvSpPr>
        <p:spPr>
          <a:xfrm>
            <a:off x="2362320" y="182880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423880" y="2239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424240" y="2620800"/>
            <a:ext cx="596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53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42388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23520" y="3687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29960" y="1155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10080" y="54403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38320" y="3124080"/>
            <a:ext cx="129564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9" name=""/>
          <p:cNvGraphicFramePr/>
          <p:nvPr/>
        </p:nvGraphicFramePr>
        <p:xfrm>
          <a:off x="6934320" y="191304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1913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4204080" y="3657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27080" y="338148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wns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6840" y="4967280"/>
            <a:ext cx="1808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ilton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320" y="30002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stol, PA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7480" y="5410080"/>
            <a:ext cx="1817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arr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320" y="1843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erdeen, NC (Seg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6320" y="22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den, NC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6320" y="2619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nsenville, IL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ainesville, G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6320" y="5805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ighpoint, NC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38880" y="2224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ton, NH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4" name=""/>
          <p:cNvGraphicFramePr/>
          <p:nvPr/>
        </p:nvGraphicFramePr>
        <p:xfrm>
          <a:off x="1981080" y="4611600"/>
          <a:ext cx="241560" cy="98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8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6116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ttsville, ONT.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238880" y="48625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y, NY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238880" y="2590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vingston, NJ (Fantastic 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238880" y="1843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dianapolis, IN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238880" y="5257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238880" y="4114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ephen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238880" y="2986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tario, CA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325920" y="1843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325920" y="2971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325920" y="36878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40(64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316200" y="47545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25920" y="5135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6934320" y="226368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2263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0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09680" y="42670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238880" y="3352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ynosa, ME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1981080" y="5845320"/>
          <a:ext cx="24156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5845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5" name=""/>
          <p:cNvSpPr/>
          <p:nvPr/>
        </p:nvSpPr>
        <p:spPr>
          <a:xfrm flipV="1">
            <a:off x="2209680" y="533376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439360" y="556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6320" y="45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and Rapids, MI (Prov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048120" y="622296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3416400" y="6095880"/>
          <a:ext cx="241200" cy="98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416400" y="6095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1" name=""/>
          <p:cNvSpPr/>
          <p:nvPr/>
        </p:nvSpPr>
        <p:spPr>
          <a:xfrm>
            <a:off x="5105520" y="624852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5549760" y="6095880"/>
          <a:ext cx="241560" cy="986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11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549760" y="6095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4" name=""/>
          <p:cNvSpPr/>
          <p:nvPr/>
        </p:nvSpPr>
        <p:spPr>
          <a:xfrm flipH="1">
            <a:off x="3581280" y="56386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5638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7816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41152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0968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1968480" y="3795840"/>
          <a:ext cx="241200" cy="982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968480" y="379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114480" y="3747960"/>
            <a:ext cx="177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llerton, CA (Penha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38862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440440" y="2925720"/>
            <a:ext cx="621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256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310080" y="4419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6934320" y="3832200"/>
          <a:ext cx="24120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934320" y="3832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"/>
          <p:cNvSpPr/>
          <p:nvPr/>
        </p:nvSpPr>
        <p:spPr>
          <a:xfrm>
            <a:off x="7238880" y="44956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velers Rest, SC (Wi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ulus, MI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2592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38680" y="4267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238880" y="56246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325920" y="2590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6" name=""/>
          <p:cNvSpPr/>
          <p:nvPr/>
        </p:nvSpPr>
        <p:spPr>
          <a:xfrm>
            <a:off x="5257800" y="5334120"/>
            <a:ext cx="16765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32592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54E-D44C-46F0-880D-22AE161A9A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C8562-964D-4EA1-B82E-5BEDD6136851}" type="datetime1">
              <a:rPr lang="en-US"/>
              <a:t>07/30/26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97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8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1" name=""/>
          <p:cNvSpPr/>
          <p:nvPr/>
        </p:nvSpPr>
        <p:spPr>
          <a:xfrm>
            <a:off x="6102000" y="4676760"/>
            <a:ext cx="1076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3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2" name=""/>
          <p:cNvSpPr/>
          <p:nvPr/>
        </p:nvSpPr>
        <p:spPr>
          <a:xfrm>
            <a:off x="171360" y="190440"/>
            <a:ext cx="24195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3" name=""/>
          <p:cNvSpPr/>
          <p:nvPr/>
        </p:nvSpPr>
        <p:spPr>
          <a:xfrm>
            <a:off x="190440" y="216000"/>
            <a:ext cx="229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 Desig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issouri  641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21-5422…Carl Was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Kansas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62E-1D00-4AED-9D73-5921A2C83824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4E728-D777-44B8-849F-B2010E6624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7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0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81) 278-0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2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3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8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9" name=""/>
          <p:cNvSpPr/>
          <p:nvPr/>
        </p:nvSpPr>
        <p:spPr>
          <a:xfrm>
            <a:off x="188640" y="216000"/>
            <a:ext cx="221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iei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0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1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2" name=""/>
          <p:cNvSpPr/>
          <p:nvPr/>
        </p:nvSpPr>
        <p:spPr>
          <a:xfrm>
            <a:off x="20574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776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3" name=""/>
          <p:cNvSpPr/>
          <p:nvPr/>
        </p:nvSpPr>
        <p:spPr>
          <a:xfrm>
            <a:off x="19051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757191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519-5D05-49C8-850C-AAED2A28EFD6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5E013-209B-4D75-8EB6-1A7082937E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yphant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908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6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yph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yph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5" name=""/>
          <p:cNvSpPr/>
          <p:nvPr/>
        </p:nvSpPr>
        <p:spPr>
          <a:xfrm>
            <a:off x="171360" y="17136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ren Diamond Powde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1 East Lackawann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  184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383-3261…Scott Brick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54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6A4-29C4-4B91-8C67-2004F393408B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E4C26-4F19-4C87-8D4D-EE3575613F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tari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1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9152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3" name=""/>
          <p:cNvSpPr/>
          <p:nvPr/>
        </p:nvSpPr>
        <p:spPr>
          <a:xfrm>
            <a:off x="368496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5" name=""/>
          <p:cNvSpPr/>
          <p:nvPr/>
        </p:nvSpPr>
        <p:spPr>
          <a:xfrm>
            <a:off x="5105520" y="28195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7" name=""/>
          <p:cNvSpPr/>
          <p:nvPr/>
        </p:nvSpPr>
        <p:spPr>
          <a:xfrm>
            <a:off x="5105520" y="32767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8" name=""/>
          <p:cNvSpPr/>
          <p:nvPr/>
        </p:nvSpPr>
        <p:spPr>
          <a:xfrm>
            <a:off x="7516440" y="78732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 flipV="1">
            <a:off x="1752480" y="27428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>
            <a:off x="175248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>
            <a:off x="346392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3809880" y="46036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>
            <a:off x="37339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>
            <a:off x="2133720" y="480060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>
            <a:off x="5471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5408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4419720" y="4680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9) 390-6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3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9-390-6529 / 909-390-65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>
            <a:off x="550476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547596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2152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>
            <a:off x="212292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228600" y="152280"/>
            <a:ext cx="266688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>
            <a:off x="250920" y="230040"/>
            <a:ext cx="264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790 East Jurup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  917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Jim Downey x-6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supr.  X-6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x-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Yolanda x-6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conversion x-6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160-BC4A-4C6F-83E0-7E3AFA2E8AED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5BC2F-F811-4252-9670-BEAC30A59C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xford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21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x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4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9) 603-5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2" name=""/>
          <p:cNvSpPr/>
          <p:nvPr/>
        </p:nvSpPr>
        <p:spPr>
          <a:xfrm>
            <a:off x="171360" y="190440"/>
            <a:ext cx="2552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"/>
          <p:cNvSpPr/>
          <p:nvPr/>
        </p:nvSpPr>
        <p:spPr>
          <a:xfrm>
            <a:off x="190440" y="216000"/>
            <a:ext cx="255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 Certaintee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orth Carolina  275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693-1141…Toney Clayborn (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4" name=""/>
          <p:cNvSpPr/>
          <p:nvPr/>
        </p:nvSpPr>
        <p:spPr>
          <a:xfrm>
            <a:off x="7924680" y="6526080"/>
            <a:ext cx="90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5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9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3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8" name=""/>
          <p:cNvSpPr/>
          <p:nvPr/>
        </p:nvSpPr>
        <p:spPr>
          <a:xfrm>
            <a:off x="31942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19-692-1606 / 919--692-1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408-06D6-47DC-804F-E1537968E17D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37421-8BED-42B2-9459-134E8B89DC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is, Fr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4" name=""/>
          <p:cNvSpPr/>
          <p:nvPr/>
        </p:nvSpPr>
        <p:spPr>
          <a:xfrm>
            <a:off x="7073280" y="589284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nes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5" name=""/>
          <p:cNvSpPr/>
          <p:nvPr/>
        </p:nvSpPr>
        <p:spPr>
          <a:xfrm>
            <a:off x="12304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6" name=""/>
          <p:cNvSpPr/>
          <p:nvPr/>
        </p:nvSpPr>
        <p:spPr>
          <a:xfrm flipH="1" flipV="1">
            <a:off x="5562360" y="35049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9" name=""/>
          <p:cNvSpPr/>
          <p:nvPr/>
        </p:nvSpPr>
        <p:spPr>
          <a:xfrm flipV="1">
            <a:off x="1600200" y="4343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0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1" name=""/>
          <p:cNvSpPr/>
          <p:nvPr/>
        </p:nvSpPr>
        <p:spPr>
          <a:xfrm>
            <a:off x="1803960" y="3062160"/>
            <a:ext cx="1577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UA: 3110387120037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2" name=""/>
          <p:cNvSpPr/>
          <p:nvPr/>
        </p:nvSpPr>
        <p:spPr>
          <a:xfrm>
            <a:off x="5867280" y="41148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3" name=""/>
          <p:cNvSpPr/>
          <p:nvPr/>
        </p:nvSpPr>
        <p:spPr>
          <a:xfrm flipV="1">
            <a:off x="7620120" y="3962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4" name=""/>
          <p:cNvSpPr/>
          <p:nvPr/>
        </p:nvSpPr>
        <p:spPr>
          <a:xfrm>
            <a:off x="1603800" y="48006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5" name=""/>
          <p:cNvSpPr/>
          <p:nvPr/>
        </p:nvSpPr>
        <p:spPr>
          <a:xfrm>
            <a:off x="6667920" y="48769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6" name=""/>
          <p:cNvGrpSpPr/>
          <p:nvPr/>
        </p:nvGrpSpPr>
        <p:grpSpPr>
          <a:xfrm>
            <a:off x="3430440" y="1371600"/>
            <a:ext cx="2588760" cy="3656880"/>
            <a:chOff x="3430440" y="1371600"/>
            <a:chExt cx="2588760" cy="3656880"/>
          </a:xfrm>
        </p:grpSpPr>
        <p:sp>
          <p:nvSpPr>
            <p:cNvPr id="9287" name=""/>
            <p:cNvSpPr/>
            <p:nvPr/>
          </p:nvSpPr>
          <p:spPr>
            <a:xfrm>
              <a:off x="4798080" y="1606320"/>
              <a:ext cx="552600" cy="9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9"/>
                  </a:moveTo>
                  <a:arcTo wR="10800" hR="10800" stAng="-9957133" swAng="1121611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9"/>
                  </a:moveTo>
                  <a:arcTo wR="10800" hR="10800" stAng="-9957133" swAng="112161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3430440" y="1666080"/>
              <a:ext cx="712080" cy="106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2" y="20721"/>
                  </a:moveTo>
                  <a:arcTo wR="10800" hR="10800" stAng="6796761" swAng="1244706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2" y="20721"/>
                  </a:moveTo>
                  <a:arcTo wR="10800" hR="10800" stAng="6796761" swAng="124470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4079520" y="1371600"/>
              <a:ext cx="716400" cy="105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9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90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3461400" y="2638440"/>
              <a:ext cx="716040" cy="10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3" y="21186"/>
                  </a:moveTo>
                  <a:arcTo wR="10800" hR="10800" stAng="4444753" swAng="1018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3" y="21186"/>
                  </a:moveTo>
                  <a:arcTo wR="10800" hR="10800" stAng="4444753" swAng="1018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3848400" y="3461400"/>
              <a:ext cx="712800" cy="106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2" y="17460"/>
                  </a:moveTo>
                  <a:arcTo wR="10800" hR="10800" stAng="2284192" swAng="106157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2" y="17460"/>
                  </a:moveTo>
                  <a:arcTo wR="10800" hR="10800" stAng="2284192" swAng="1061576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4470840" y="3970440"/>
              <a:ext cx="712080" cy="105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104" swAng="13036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104" swAng="1303679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5153040" y="3529800"/>
              <a:ext cx="712080" cy="105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7" y="399"/>
                  </a:moveTo>
                  <a:arcTo wR="10800" hR="10800" stAng="-4463071" swAng="137756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7" y="399"/>
                  </a:moveTo>
                  <a:arcTo wR="10800" hR="10800" stAng="-4463071" swAng="137756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5232240" y="2078280"/>
              <a:ext cx="78696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307" swAng="134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307" swAng="134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5" name=""/>
          <p:cNvSpPr/>
          <p:nvPr/>
        </p:nvSpPr>
        <p:spPr>
          <a:xfrm>
            <a:off x="3637080" y="2286000"/>
            <a:ext cx="23842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 Communicati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CC 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69.18.98.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.ncc@sgmail.saint-gobai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49.87.82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>
            <a:off x="5292720" y="397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8" name=""/>
          <p:cNvSpPr/>
          <p:nvPr/>
        </p:nvSpPr>
        <p:spPr>
          <a:xfrm>
            <a:off x="171360" y="419040"/>
            <a:ext cx="2876760" cy="171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9" name=""/>
          <p:cNvSpPr/>
          <p:nvPr/>
        </p:nvSpPr>
        <p:spPr>
          <a:xfrm>
            <a:off x="201600" y="479520"/>
            <a:ext cx="28465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ystemes d’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 Avenue d’Als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400 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5-54…Jacques Ven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3-54…Bernard Quer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31…Bernard Goud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49-24…Alain Ak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14…Eric Deulni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89…Thierry Berra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69-18-98-67…Network Comm. Ct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0" name=""/>
          <p:cNvSpPr/>
          <p:nvPr/>
        </p:nvSpPr>
        <p:spPr>
          <a:xfrm>
            <a:off x="64800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ubevo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1" name=""/>
          <p:cNvSpPr/>
          <p:nvPr/>
        </p:nvSpPr>
        <p:spPr>
          <a:xfrm>
            <a:off x="6270120" y="37479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2" name=""/>
          <p:cNvSpPr/>
          <p:nvPr/>
        </p:nvSpPr>
        <p:spPr>
          <a:xfrm>
            <a:off x="1236600" y="3886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250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3" name=""/>
          <p:cNvSpPr/>
          <p:nvPr/>
        </p:nvSpPr>
        <p:spPr>
          <a:xfrm>
            <a:off x="6480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4" name=""/>
          <p:cNvSpPr/>
          <p:nvPr/>
        </p:nvSpPr>
        <p:spPr>
          <a:xfrm>
            <a:off x="1603800" y="458640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ross Over Ca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5" name=""/>
          <p:cNvSpPr/>
          <p:nvPr/>
        </p:nvSpPr>
        <p:spPr>
          <a:xfrm flipV="1">
            <a:off x="1600200" y="3276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6" name=""/>
          <p:cNvSpPr/>
          <p:nvPr/>
        </p:nvSpPr>
        <p:spPr>
          <a:xfrm>
            <a:off x="594360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7" name=""/>
          <p:cNvSpPr/>
          <p:nvPr/>
        </p:nvSpPr>
        <p:spPr>
          <a:xfrm>
            <a:off x="5292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8" name=""/>
          <p:cNvSpPr/>
          <p:nvPr/>
        </p:nvSpPr>
        <p:spPr>
          <a:xfrm>
            <a:off x="6270120" y="30621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9" name=""/>
          <p:cNvSpPr/>
          <p:nvPr/>
        </p:nvSpPr>
        <p:spPr>
          <a:xfrm flipV="1">
            <a:off x="7620120" y="198072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0" name=""/>
          <p:cNvSpPr/>
          <p:nvPr/>
        </p:nvSpPr>
        <p:spPr>
          <a:xfrm>
            <a:off x="6916320" y="1127160"/>
            <a:ext cx="136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Les Miroi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1" name=""/>
          <p:cNvSpPr/>
          <p:nvPr/>
        </p:nvSpPr>
        <p:spPr>
          <a:xfrm>
            <a:off x="7215120" y="1525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2" name=""/>
          <p:cNvSpPr/>
          <p:nvPr/>
        </p:nvSpPr>
        <p:spPr>
          <a:xfrm>
            <a:off x="6633000" y="2057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3" name=""/>
          <p:cNvSpPr/>
          <p:nvPr/>
        </p:nvSpPr>
        <p:spPr>
          <a:xfrm>
            <a:off x="163872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g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4" name=""/>
          <p:cNvSpPr/>
          <p:nvPr/>
        </p:nvSpPr>
        <p:spPr>
          <a:xfrm>
            <a:off x="1994040" y="396252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 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gob-Pennsylvani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D4F-CE25-4AFB-A16B-C4BB3552AA7D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188F3-7A07-4610-AB1F-350A968C0D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achtree City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31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5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9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1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2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9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0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2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5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6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chtre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8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Sierr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eorgia  302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87-2334…Nancy Smith x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0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4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1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2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486-8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3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4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5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6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7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8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9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0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122-7C4F-4C06-BF1A-EA4A2769426B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5D077-CFBA-44BE-A91F-78FABCB80F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oria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3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5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7" name=""/>
          <p:cNvSpPr/>
          <p:nvPr/>
        </p:nvSpPr>
        <p:spPr>
          <a:xfrm>
            <a:off x="6285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5" name=""/>
          <p:cNvSpPr/>
          <p:nvPr/>
        </p:nvSpPr>
        <p:spPr>
          <a:xfrm>
            <a:off x="205344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912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0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1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2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3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4" name=""/>
          <p:cNvSpPr/>
          <p:nvPr/>
        </p:nvSpPr>
        <p:spPr>
          <a:xfrm>
            <a:off x="664848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1" name=""/>
          <p:cNvSpPr/>
          <p:nvPr/>
        </p:nvSpPr>
        <p:spPr>
          <a:xfrm>
            <a:off x="664848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3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4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5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6" name=""/>
          <p:cNvSpPr/>
          <p:nvPr/>
        </p:nvSpPr>
        <p:spPr>
          <a:xfrm>
            <a:off x="16797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3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4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5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enti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00 Har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linois  61615-18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9) 692-8650…Marsha Conne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6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O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6" name=""/>
          <p:cNvSpPr/>
          <p:nvPr/>
        </p:nvSpPr>
        <p:spPr>
          <a:xfrm>
            <a:off x="202608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821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5C6-7B5C-4C43-87A2-4070881B6EF5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AB0E7-4F76-46FA-BC59-14CF970D8A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vel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4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8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S-G Glass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  63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479-4421…Ron Watson x-1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3" name=""/>
          <p:cNvSpPr/>
          <p:nvPr/>
        </p:nvSpPr>
        <p:spPr>
          <a:xfrm>
            <a:off x="2476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4" name=""/>
          <p:cNvSpPr/>
          <p:nvPr/>
        </p:nvSpPr>
        <p:spPr>
          <a:xfrm>
            <a:off x="41940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5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6" name=""/>
          <p:cNvSpPr/>
          <p:nvPr/>
        </p:nvSpPr>
        <p:spPr>
          <a:xfrm>
            <a:off x="670824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ve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6D1-E3E5-4B10-82A9-EA69B21D9B0E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32187-4A20-45AD-BE0E-420702946E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rr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1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3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4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5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6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8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9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1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4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5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0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8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1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2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3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4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90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7" name=""/>
          <p:cNvSpPr/>
          <p:nvPr/>
        </p:nvSpPr>
        <p:spPr>
          <a:xfrm>
            <a:off x="3991320" y="464832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8" name=""/>
          <p:cNvSpPr/>
          <p:nvPr/>
        </p:nvSpPr>
        <p:spPr>
          <a:xfrm>
            <a:off x="3978720" y="500220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9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08-C Austin Driv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 Milpas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  785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702-4656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0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1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2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C01-6068-4954-B47B-92A9C76DF56F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62AC7-C125-457E-9317-6BA09AD998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981080" y="34369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369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1981080" y="30780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3078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5" name=""/>
          <p:cNvGraphicFramePr/>
          <p:nvPr/>
        </p:nvGraphicFramePr>
        <p:xfrm>
          <a:off x="1981080" y="3854520"/>
          <a:ext cx="24156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3854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7" name=""/>
          <p:cNvGraphicFramePr/>
          <p:nvPr/>
        </p:nvGraphicFramePr>
        <p:xfrm>
          <a:off x="6934320" y="419904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199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9" name=""/>
          <p:cNvSpPr/>
          <p:nvPr/>
        </p:nvSpPr>
        <p:spPr>
          <a:xfrm>
            <a:off x="2423520" y="2971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423880" y="37479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630320" y="115560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"/>
          <p:cNvSpPr/>
          <p:nvPr/>
        </p:nvSpPr>
        <p:spPr>
          <a:xfrm>
            <a:off x="4204080" y="3567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52280" y="457200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Hampton, M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6320" y="379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NH (Powers S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632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ppawa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6320" y="3367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sville, AL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320" y="41623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lyphant, PA  (Warren Dia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1981080" y="4259160"/>
          <a:ext cx="24156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81080" y="4259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boro, MA (R&amp;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238880" y="41432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8880" y="3367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winigan, Que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32556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209680" y="391464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133720" y="9907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0" name=""/>
          <p:cNvGraphicFramePr/>
          <p:nvPr/>
        </p:nvGraphicFramePr>
        <p:xfrm>
          <a:off x="1981080" y="914400"/>
          <a:ext cx="24156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981080" y="914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2" name=""/>
          <p:cNvSpPr/>
          <p:nvPr/>
        </p:nvSpPr>
        <p:spPr>
          <a:xfrm>
            <a:off x="2422800" y="776160"/>
            <a:ext cx="474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1981080" y="4648320"/>
          <a:ext cx="24156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4648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6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09680" y="3124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23520" y="3352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0968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423520" y="4525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5714640" y="3124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325560" y="3306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563832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325920" y="36878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6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325560" y="4068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5638320" y="4267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09680" y="4343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1337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6781680" y="3733920"/>
          <a:ext cx="47016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37339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852-BF2C-4C14-89A3-08FB1857800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36B0E-EBE6-4604-9606-1A61CC61CF18}" type="datetime1">
              <a:rPr lang="en-US"/>
              <a:t>07/30/26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edmont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7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7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8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5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6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7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 2 Hwy. 49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issouri  639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3) 223-7554…Donnie Allen x-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862-63A7-4AE2-A59F-A80CC3C81665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278E9-6404-4099-AD8E-0525F9463F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3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9644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2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5" name=""/>
          <p:cNvSpPr/>
          <p:nvPr/>
        </p:nvSpPr>
        <p:spPr>
          <a:xfrm flipV="1">
            <a:off x="160020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6" name=""/>
          <p:cNvSpPr/>
          <p:nvPr/>
        </p:nvSpPr>
        <p:spPr>
          <a:xfrm>
            <a:off x="1830960" y="2522520"/>
            <a:ext cx="1271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 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7" name=""/>
          <p:cNvSpPr/>
          <p:nvPr/>
        </p:nvSpPr>
        <p:spPr>
          <a:xfrm flipV="1">
            <a:off x="762012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8" name=""/>
          <p:cNvSpPr/>
          <p:nvPr/>
        </p:nvSpPr>
        <p:spPr>
          <a:xfrm>
            <a:off x="5009040" y="193356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9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9660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8" name=""/>
          <p:cNvSpPr/>
          <p:nvPr/>
        </p:nvSpPr>
        <p:spPr>
          <a:xfrm>
            <a:off x="3471480" y="193356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ll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9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0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1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2" name=""/>
          <p:cNvSpPr/>
          <p:nvPr/>
        </p:nvSpPr>
        <p:spPr>
          <a:xfrm flipH="1" flipV="1">
            <a:off x="7315200" y="5181120"/>
            <a:ext cx="33336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3" name=""/>
          <p:cNvSpPr/>
          <p:nvPr/>
        </p:nvSpPr>
        <p:spPr>
          <a:xfrm>
            <a:off x="647964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t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4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5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6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8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2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3" name=""/>
          <p:cNvSpPr/>
          <p:nvPr/>
        </p:nvSpPr>
        <p:spPr>
          <a:xfrm>
            <a:off x="46296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4" name=""/>
          <p:cNvSpPr/>
          <p:nvPr/>
        </p:nvSpPr>
        <p:spPr>
          <a:xfrm>
            <a:off x="122544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5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6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7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8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9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0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1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2" name=""/>
          <p:cNvSpPr/>
          <p:nvPr/>
        </p:nvSpPr>
        <p:spPr>
          <a:xfrm>
            <a:off x="220932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3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4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5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6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7" name=""/>
          <p:cNvSpPr/>
          <p:nvPr/>
        </p:nvSpPr>
        <p:spPr>
          <a:xfrm>
            <a:off x="1328760" y="32828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8" name=""/>
          <p:cNvSpPr/>
          <p:nvPr/>
        </p:nvSpPr>
        <p:spPr>
          <a:xfrm>
            <a:off x="1276200" y="3276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9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0" name=""/>
          <p:cNvSpPr/>
          <p:nvPr/>
        </p:nvSpPr>
        <p:spPr>
          <a:xfrm>
            <a:off x="6363000" y="25146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1" name=""/>
          <p:cNvSpPr/>
          <p:nvPr/>
        </p:nvSpPr>
        <p:spPr>
          <a:xfrm>
            <a:off x="64551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29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2" name=""/>
          <p:cNvSpPr/>
          <p:nvPr/>
        </p:nvSpPr>
        <p:spPr>
          <a:xfrm>
            <a:off x="7620120" y="6507000"/>
            <a:ext cx="119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3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4" name=""/>
          <p:cNvSpPr/>
          <p:nvPr/>
        </p:nvSpPr>
        <p:spPr>
          <a:xfrm>
            <a:off x="240120" y="225360"/>
            <a:ext cx="2505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 Alber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  N0J 1S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Lynn Robertson x-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Joan Tune x-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5" name=""/>
          <p:cNvSpPr/>
          <p:nvPr/>
        </p:nvSpPr>
        <p:spPr>
          <a:xfrm>
            <a:off x="7089840" y="3638520"/>
            <a:ext cx="1017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6" name=""/>
          <p:cNvSpPr/>
          <p:nvPr/>
        </p:nvSpPr>
        <p:spPr>
          <a:xfrm>
            <a:off x="7032600" y="3629160"/>
            <a:ext cx="1120680" cy="65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7" name=""/>
          <p:cNvSpPr/>
          <p:nvPr/>
        </p:nvSpPr>
        <p:spPr>
          <a:xfrm flipV="1">
            <a:off x="7620120" y="48765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8" name=""/>
          <p:cNvSpPr/>
          <p:nvPr/>
        </p:nvSpPr>
        <p:spPr>
          <a:xfrm flipV="1">
            <a:off x="16002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9" name=""/>
          <p:cNvSpPr/>
          <p:nvPr/>
        </p:nvSpPr>
        <p:spPr>
          <a:xfrm>
            <a:off x="160020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0" name=""/>
          <p:cNvSpPr/>
          <p:nvPr/>
        </p:nvSpPr>
        <p:spPr>
          <a:xfrm>
            <a:off x="7291440" y="436572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1" name=""/>
          <p:cNvSpPr/>
          <p:nvPr/>
        </p:nvSpPr>
        <p:spPr>
          <a:xfrm>
            <a:off x="7238880" y="43592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2" name=""/>
          <p:cNvSpPr/>
          <p:nvPr/>
        </p:nvSpPr>
        <p:spPr>
          <a:xfrm flipV="1">
            <a:off x="7620120" y="428292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3" name=""/>
          <p:cNvSpPr/>
          <p:nvPr/>
        </p:nvSpPr>
        <p:spPr>
          <a:xfrm>
            <a:off x="7291440" y="313992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4" name=""/>
          <p:cNvSpPr/>
          <p:nvPr/>
        </p:nvSpPr>
        <p:spPr>
          <a:xfrm>
            <a:off x="7358040" y="3124080"/>
            <a:ext cx="46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5" name=""/>
          <p:cNvSpPr/>
          <p:nvPr/>
        </p:nvSpPr>
        <p:spPr>
          <a:xfrm flipV="1">
            <a:off x="7620120" y="3504960"/>
            <a:ext cx="0" cy="13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6" name=""/>
          <p:cNvSpPr/>
          <p:nvPr/>
        </p:nvSpPr>
        <p:spPr>
          <a:xfrm>
            <a:off x="3440160" y="2674800"/>
            <a:ext cx="977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t# 9600-1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DSCT 429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4FE-04FB-4DFD-9C9A-8FD4D24F726F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F3629-2210-4EFE-9378-819ADA1F39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 Allegany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7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3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5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 Alleg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5" name=""/>
          <p:cNvSpPr/>
          <p:nvPr/>
        </p:nvSpPr>
        <p:spPr>
          <a:xfrm>
            <a:off x="171360" y="171360"/>
            <a:ext cx="27813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6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 Glass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ennsylvania  16743-11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4) 642-3211…Bob Wy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7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19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8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9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0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1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2" name=""/>
          <p:cNvSpPr/>
          <p:nvPr/>
        </p:nvSpPr>
        <p:spPr>
          <a:xfrm>
            <a:off x="68508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3" name=""/>
          <p:cNvSpPr/>
          <p:nvPr/>
        </p:nvSpPr>
        <p:spPr>
          <a:xfrm>
            <a:off x="6684480" y="3276720"/>
            <a:ext cx="86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 Alleg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4" name=""/>
          <p:cNvSpPr/>
          <p:nvPr/>
        </p:nvSpPr>
        <p:spPr>
          <a:xfrm>
            <a:off x="229320" y="5256360"/>
            <a:ext cx="1087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2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5" name=""/>
          <p:cNvSpPr/>
          <p:nvPr/>
        </p:nvSpPr>
        <p:spPr>
          <a:xfrm>
            <a:off x="77400" y="4038480"/>
            <a:ext cx="109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6" name=""/>
          <p:cNvSpPr/>
          <p:nvPr/>
        </p:nvSpPr>
        <p:spPr>
          <a:xfrm>
            <a:off x="932040" y="5867280"/>
            <a:ext cx="135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898-69D0-45BA-A2C4-864267B92E22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B9D22-05B9-47A6-9FCF-8323ABD8AD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Insul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78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4" name=""/>
          <p:cNvSpPr/>
          <p:nvPr/>
        </p:nvSpPr>
        <p:spPr>
          <a:xfrm>
            <a:off x="479520" y="5113440"/>
            <a:ext cx="97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ORT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5" name=""/>
          <p:cNvSpPr/>
          <p:nvPr/>
        </p:nvSpPr>
        <p:spPr>
          <a:xfrm>
            <a:off x="2025720" y="3062160"/>
            <a:ext cx="113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7000 (56k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9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3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4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0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2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1" name=""/>
          <p:cNvSpPr/>
          <p:nvPr/>
        </p:nvSpPr>
        <p:spPr>
          <a:xfrm>
            <a:off x="7205040" y="6507000"/>
            <a:ext cx="166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Ins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2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3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925 North Loomba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47-9207…Cindy Joh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8EF-EB27-49C0-8710-135F69F82F68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2CD68-6207-4221-B873-BCFC0C9791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8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5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7" name=""/>
          <p:cNvSpPr/>
          <p:nvPr/>
        </p:nvSpPr>
        <p:spPr>
          <a:xfrm>
            <a:off x="171360" y="171360"/>
            <a:ext cx="234324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8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0 NW Front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22-1307…Bob Char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7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505-B365-4113-8EDD-898DDDE08A7D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7613A-9223-4CBB-AFC8-1225200934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leigh, North Carolina (cancell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4" name=""/>
          <p:cNvSpPr/>
          <p:nvPr/>
        </p:nvSpPr>
        <p:spPr>
          <a:xfrm>
            <a:off x="171360" y="190440"/>
            <a:ext cx="2095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5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9906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4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5" name=""/>
          <p:cNvSpPr/>
          <p:nvPr/>
        </p:nvSpPr>
        <p:spPr>
          <a:xfrm>
            <a:off x="1938600" y="214956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42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6" name=""/>
          <p:cNvSpPr/>
          <p:nvPr/>
        </p:nvSpPr>
        <p:spPr>
          <a:xfrm>
            <a:off x="7619400" y="6526080"/>
            <a:ext cx="119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7" name=""/>
          <p:cNvSpPr/>
          <p:nvPr/>
        </p:nvSpPr>
        <p:spPr>
          <a:xfrm>
            <a:off x="5734800" y="1959120"/>
            <a:ext cx="1038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 Multiplex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&amp;T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8" name=""/>
          <p:cNvSpPr/>
          <p:nvPr/>
        </p:nvSpPr>
        <p:spPr>
          <a:xfrm>
            <a:off x="5688000" y="1873080"/>
            <a:ext cx="1120680" cy="9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9" name=""/>
          <p:cNvSpPr/>
          <p:nvPr/>
        </p:nvSpPr>
        <p:spPr>
          <a:xfrm>
            <a:off x="1959120" y="5254560"/>
            <a:ext cx="930240" cy="3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0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1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2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3" name=""/>
          <p:cNvSpPr/>
          <p:nvPr/>
        </p:nvSpPr>
        <p:spPr>
          <a:xfrm>
            <a:off x="5931000" y="5187960"/>
            <a:ext cx="635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4" name=""/>
          <p:cNvSpPr/>
          <p:nvPr/>
        </p:nvSpPr>
        <p:spPr>
          <a:xfrm>
            <a:off x="2082600" y="582120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5" name=""/>
          <p:cNvSpPr/>
          <p:nvPr/>
        </p:nvSpPr>
        <p:spPr>
          <a:xfrm>
            <a:off x="5845680" y="591660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6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7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8" name=""/>
          <p:cNvSpPr/>
          <p:nvPr/>
        </p:nvSpPr>
        <p:spPr>
          <a:xfrm>
            <a:off x="6248520" y="4172040"/>
            <a:ext cx="0" cy="10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9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0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1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2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3" name=""/>
          <p:cNvSpPr/>
          <p:nvPr/>
        </p:nvSpPr>
        <p:spPr>
          <a:xfrm>
            <a:off x="262080" y="230040"/>
            <a:ext cx="192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Southwe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, NC  276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832-7771…Gus Hug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41D-8411-448E-83DD-9F0EB3B4F25B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B3A36-4ED6-41C1-90D8-B5CDF5764AC0}" type="datetime1">
              <a:rPr lang="en-US"/>
              <a:t>07/30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cho Cordov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9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6" name=""/>
          <p:cNvSpPr/>
          <p:nvPr/>
        </p:nvSpPr>
        <p:spPr>
          <a:xfrm>
            <a:off x="7865280" y="175248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9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5" name=""/>
          <p:cNvSpPr/>
          <p:nvPr/>
        </p:nvSpPr>
        <p:spPr>
          <a:xfrm>
            <a:off x="7851240" y="467676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6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cho Cord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7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15 Kilg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lifornia  956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6) 635-1710…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00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ED5-A998-456E-AEC2-BDAEF4D496DF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72B89-A03E-4C14-9D39-14D5666976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venna, Ohio (NorPr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4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005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3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5" name=""/>
          <p:cNvSpPr/>
          <p:nvPr/>
        </p:nvSpPr>
        <p:spPr>
          <a:xfrm>
            <a:off x="68508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ve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5" name=""/>
          <p:cNvSpPr/>
          <p:nvPr/>
        </p:nvSpPr>
        <p:spPr>
          <a:xfrm>
            <a:off x="3936960" y="2041560"/>
            <a:ext cx="124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 HWDA 38479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8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9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0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2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3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4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5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6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7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8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9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0" name=""/>
          <p:cNvSpPr/>
          <p:nvPr/>
        </p:nvSpPr>
        <p:spPr>
          <a:xfrm>
            <a:off x="6324480" y="6507000"/>
            <a:ext cx="2500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venna (NorP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1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2" name=""/>
          <p:cNvSpPr/>
          <p:nvPr/>
        </p:nvSpPr>
        <p:spPr>
          <a:xfrm>
            <a:off x="248040" y="299880"/>
            <a:ext cx="182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 South Prospec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 OH  442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96-9922...Al Willi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C89-A724-4929-8F1B-599B4B7618BF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2E882-3938-4EEF-9495-23D03F33F2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6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9" name=""/>
          <p:cNvSpPr/>
          <p:nvPr/>
        </p:nvSpPr>
        <p:spPr>
          <a:xfrm flipV="1">
            <a:off x="1600200" y="358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0" name=""/>
          <p:cNvSpPr/>
          <p:nvPr/>
        </p:nvSpPr>
        <p:spPr>
          <a:xfrm>
            <a:off x="461520" y="2224080"/>
            <a:ext cx="165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03027V5133FNN04659 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1" name=""/>
          <p:cNvSpPr/>
          <p:nvPr/>
        </p:nvSpPr>
        <p:spPr>
          <a:xfrm>
            <a:off x="5009400" y="1736640"/>
            <a:ext cx="12319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-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 #: 36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: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2" name=""/>
          <p:cNvGrpSpPr/>
          <p:nvPr/>
        </p:nvGrpSpPr>
        <p:grpSpPr>
          <a:xfrm>
            <a:off x="2133720" y="1828800"/>
            <a:ext cx="1523160" cy="1218960"/>
            <a:chOff x="2133720" y="1828800"/>
            <a:chExt cx="1523160" cy="1218960"/>
          </a:xfrm>
        </p:grpSpPr>
        <p:sp>
          <p:nvSpPr>
            <p:cNvPr id="10063" name=""/>
            <p:cNvSpPr/>
            <p:nvPr/>
          </p:nvSpPr>
          <p:spPr>
            <a:xfrm>
              <a:off x="2938320" y="1906560"/>
              <a:ext cx="32436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2133720" y="1926360"/>
              <a:ext cx="419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2516040" y="1828800"/>
              <a:ext cx="42084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2152440" y="2251440"/>
              <a:ext cx="42012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2380320" y="2525760"/>
              <a:ext cx="419400" cy="35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2745360" y="2694960"/>
              <a:ext cx="41940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3146400" y="2548080"/>
              <a:ext cx="419400" cy="35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3195000" y="2063880"/>
              <a:ext cx="461880" cy="5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1" name=""/>
          <p:cNvSpPr/>
          <p:nvPr/>
        </p:nvSpPr>
        <p:spPr>
          <a:xfrm>
            <a:off x="2432880" y="2133720"/>
            <a:ext cx="89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epho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0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1" name=""/>
          <p:cNvSpPr/>
          <p:nvPr/>
        </p:nvSpPr>
        <p:spPr>
          <a:xfrm>
            <a:off x="167580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4" name=""/>
          <p:cNvSpPr/>
          <p:nvPr/>
        </p:nvSpPr>
        <p:spPr>
          <a:xfrm>
            <a:off x="3200400" y="47242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5" name=""/>
          <p:cNvSpPr/>
          <p:nvPr/>
        </p:nvSpPr>
        <p:spPr>
          <a:xfrm>
            <a:off x="3089160" y="4692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7" name=""/>
          <p:cNvSpPr/>
          <p:nvPr/>
        </p:nvSpPr>
        <p:spPr>
          <a:xfrm>
            <a:off x="3836520" y="4800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8" name=""/>
          <p:cNvSpPr/>
          <p:nvPr/>
        </p:nvSpPr>
        <p:spPr>
          <a:xfrm>
            <a:off x="1295280" y="297180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9" name=""/>
          <p:cNvSpPr/>
          <p:nvPr/>
        </p:nvSpPr>
        <p:spPr>
          <a:xfrm>
            <a:off x="1271880" y="2971800"/>
            <a:ext cx="648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1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0" name=""/>
          <p:cNvSpPr/>
          <p:nvPr/>
        </p:nvSpPr>
        <p:spPr>
          <a:xfrm flipV="1">
            <a:off x="1600200" y="2438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1" name="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2" name=""/>
          <p:cNvSpPr/>
          <p:nvPr/>
        </p:nvSpPr>
        <p:spPr>
          <a:xfrm>
            <a:off x="7770240" y="6526080"/>
            <a:ext cx="105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3" name=""/>
          <p:cNvSpPr/>
          <p:nvPr/>
        </p:nvSpPr>
        <p:spPr>
          <a:xfrm>
            <a:off x="171360" y="190440"/>
            <a:ext cx="27813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4" name=""/>
          <p:cNvSpPr/>
          <p:nvPr/>
        </p:nvSpPr>
        <p:spPr>
          <a:xfrm>
            <a:off x="224640" y="244440"/>
            <a:ext cx="260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 de Mexico S.A. de C.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echa E-99 Carretera Matamo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que Industrial 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Tamaulipas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Sergio Sanchez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Computer Room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Oscar Humph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52-89580303…via TelM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5" name=""/>
          <p:cNvGrpSpPr/>
          <p:nvPr/>
        </p:nvGrpSpPr>
        <p:grpSpPr>
          <a:xfrm>
            <a:off x="4800600" y="1447920"/>
            <a:ext cx="1523160" cy="2133000"/>
            <a:chOff x="4800600" y="1447920"/>
            <a:chExt cx="1523160" cy="2133000"/>
          </a:xfrm>
        </p:grpSpPr>
        <p:sp>
          <p:nvSpPr>
            <p:cNvPr id="10096" name=""/>
            <p:cNvSpPr/>
            <p:nvPr/>
          </p:nvSpPr>
          <p:spPr>
            <a:xfrm>
              <a:off x="5605200" y="1584000"/>
              <a:ext cx="324360" cy="56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4800600" y="1618560"/>
              <a:ext cx="41940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5182920" y="1447920"/>
              <a:ext cx="42084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4819320" y="2187360"/>
              <a:ext cx="420120" cy="6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5047200" y="2666880"/>
              <a:ext cx="419400" cy="62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5412240" y="2963160"/>
              <a:ext cx="41940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5813280" y="2705760"/>
              <a:ext cx="41940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5861880" y="1859400"/>
              <a:ext cx="461880" cy="87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4" name=""/>
          <p:cNvSpPr/>
          <p:nvPr/>
        </p:nvSpPr>
        <p:spPr>
          <a:xfrm>
            <a:off x="37108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599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5" name=""/>
          <p:cNvSpPr/>
          <p:nvPr/>
        </p:nvSpPr>
        <p:spPr>
          <a:xfrm>
            <a:off x="160020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6" name=""/>
          <p:cNvSpPr/>
          <p:nvPr/>
        </p:nvSpPr>
        <p:spPr>
          <a:xfrm>
            <a:off x="483552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7" name=""/>
          <p:cNvSpPr/>
          <p:nvPr/>
        </p:nvSpPr>
        <p:spPr>
          <a:xfrm>
            <a:off x="57150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8" name=""/>
          <p:cNvSpPr/>
          <p:nvPr/>
        </p:nvSpPr>
        <p:spPr>
          <a:xfrm>
            <a:off x="7095960" y="60800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9" name=""/>
          <p:cNvSpPr/>
          <p:nvPr/>
        </p:nvSpPr>
        <p:spPr>
          <a:xfrm>
            <a:off x="725004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0" name=""/>
          <p:cNvSpPr/>
          <p:nvPr/>
        </p:nvSpPr>
        <p:spPr>
          <a:xfrm flipV="1">
            <a:off x="7620120" y="2438280"/>
            <a:ext cx="0" cy="300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1" name=""/>
          <p:cNvSpPr/>
          <p:nvPr/>
        </p:nvSpPr>
        <p:spPr>
          <a:xfrm>
            <a:off x="8042400" y="50925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2" name=""/>
          <p:cNvSpPr/>
          <p:nvPr/>
        </p:nvSpPr>
        <p:spPr>
          <a:xfrm flipV="1">
            <a:off x="7620120" y="5216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3" name=""/>
          <p:cNvSpPr/>
          <p:nvPr/>
        </p:nvSpPr>
        <p:spPr>
          <a:xfrm>
            <a:off x="646200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4" name=""/>
          <p:cNvSpPr/>
          <p:nvPr/>
        </p:nvSpPr>
        <p:spPr>
          <a:xfrm>
            <a:off x="63990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5" name=""/>
          <p:cNvSpPr/>
          <p:nvPr/>
        </p:nvSpPr>
        <p:spPr>
          <a:xfrm>
            <a:off x="670500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eynos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6" name=""/>
          <p:cNvSpPr/>
          <p:nvPr/>
        </p:nvSpPr>
        <p:spPr>
          <a:xfrm>
            <a:off x="63244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7" name=""/>
          <p:cNvSpPr/>
          <p:nvPr/>
        </p:nvSpPr>
        <p:spPr>
          <a:xfrm flipH="1">
            <a:off x="609120" y="32767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8" name=""/>
          <p:cNvSpPr/>
          <p:nvPr/>
        </p:nvSpPr>
        <p:spPr>
          <a:xfrm>
            <a:off x="709560" y="3062160"/>
            <a:ext cx="543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Mu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9" name=""/>
          <p:cNvSpPr/>
          <p:nvPr/>
        </p:nvSpPr>
        <p:spPr>
          <a:xfrm>
            <a:off x="3675600" y="245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73868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040-41CD-4748-827F-3D3A02194732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4F460-84B5-4888-A67A-DF23CA6E2E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12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7" name=""/>
          <p:cNvSpPr/>
          <p:nvPr/>
        </p:nvSpPr>
        <p:spPr>
          <a:xfrm>
            <a:off x="475920" y="5113440"/>
            <a:ext cx="98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ICHMO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2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6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6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7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8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463-F3AA-4F31-8955-D420453A0F82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1BA1A-5FE6-45C7-B022-A04AC06A61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Louisville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52480" y="5167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413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098800" y="5408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127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146600" y="3184560"/>
            <a:ext cx="103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1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00200" y="539424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430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62120" y="41752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952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7592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603800" y="5057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30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14E-D419-48D3-A7E1-3C8BB4336A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FA142-6EB3-4663-9E56-B7CD20E7AC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2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0183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4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5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6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7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8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9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0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1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2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3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4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7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8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9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0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1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2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3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4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5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6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7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8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9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0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1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2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3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4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5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6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7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ttm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8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2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3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4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5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6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7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8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9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0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2" name=""/>
          <p:cNvSpPr/>
          <p:nvPr/>
        </p:nvSpPr>
        <p:spPr>
          <a:xfrm>
            <a:off x="1982880" y="2730600"/>
            <a:ext cx="1551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RTM01-3999886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3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4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7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8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9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tt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0" name=""/>
          <p:cNvSpPr/>
          <p:nvPr/>
        </p:nvSpPr>
        <p:spPr>
          <a:xfrm>
            <a:off x="609120" y="48448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1" name=""/>
          <p:cNvSpPr/>
          <p:nvPr/>
        </p:nvSpPr>
        <p:spPr>
          <a:xfrm>
            <a:off x="220932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2" name=""/>
          <p:cNvSpPr/>
          <p:nvPr/>
        </p:nvSpPr>
        <p:spPr>
          <a:xfrm>
            <a:off x="171360" y="190440"/>
            <a:ext cx="21146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3" name=""/>
          <p:cNvSpPr/>
          <p:nvPr/>
        </p:nvSpPr>
        <p:spPr>
          <a:xfrm>
            <a:off x="249120" y="299880"/>
            <a:ext cx="1960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&amp; O. Plastic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475 Sheet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 OH  442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927-3169…Chris G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DC7-0C0A-4A0A-A589-E526F85E0B95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55284-DDA9-4CB9-885D-B22B4A6493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verport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24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9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1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4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5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6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8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5" name=""/>
          <p:cNvSpPr/>
          <p:nvPr/>
        </p:nvSpPr>
        <p:spPr>
          <a:xfrm>
            <a:off x="2361600" y="5181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6" name=""/>
          <p:cNvSpPr/>
          <p:nvPr/>
        </p:nvSpPr>
        <p:spPr>
          <a:xfrm flipH="1" flipV="1">
            <a:off x="21333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7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8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iu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9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0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1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2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3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4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5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6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7" name=""/>
          <p:cNvSpPr/>
          <p:nvPr/>
        </p:nvSpPr>
        <p:spPr>
          <a:xfrm>
            <a:off x="171360" y="190440"/>
            <a:ext cx="24955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8" name=""/>
          <p:cNvSpPr/>
          <p:nvPr/>
        </p:nvSpPr>
        <p:spPr>
          <a:xfrm>
            <a:off x="328680" y="216000"/>
            <a:ext cx="23382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01 Distributi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entucky  40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95-2505…Mike Reli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33-1005…attendent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2" name=""/>
          <p:cNvSpPr/>
          <p:nvPr/>
        </p:nvSpPr>
        <p:spPr>
          <a:xfrm>
            <a:off x="33177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935-17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3" name=""/>
          <p:cNvSpPr/>
          <p:nvPr/>
        </p:nvSpPr>
        <p:spPr>
          <a:xfrm>
            <a:off x="3317760" y="489096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935-58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4" name=""/>
          <p:cNvSpPr/>
          <p:nvPr/>
        </p:nvSpPr>
        <p:spPr>
          <a:xfrm>
            <a:off x="2133720" y="5029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C15-25A5-442A-BD39-354B2814C9EE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4E7F8-5011-4F8C-A1B3-F329C27E04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aring River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9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0310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1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2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3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4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5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6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7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4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5" name=""/>
          <p:cNvSpPr/>
          <p:nvPr/>
        </p:nvSpPr>
        <p:spPr>
          <a:xfrm>
            <a:off x="7455240" y="787320"/>
            <a:ext cx="106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7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8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9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0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1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2" name=""/>
          <p:cNvSpPr/>
          <p:nvPr/>
        </p:nvSpPr>
        <p:spPr>
          <a:xfrm flipV="1">
            <a:off x="1752480" y="29714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4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5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6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7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8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9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0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1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2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3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4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5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6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7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8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9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0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1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2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3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4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5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49 ABT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. Wilkesboro, North Carolina  286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696-2751…Chris And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0" name=""/>
          <p:cNvSpPr/>
          <p:nvPr/>
        </p:nvSpPr>
        <p:spPr>
          <a:xfrm>
            <a:off x="5275440" y="3367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2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3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7" name=""/>
          <p:cNvSpPr/>
          <p:nvPr/>
        </p:nvSpPr>
        <p:spPr>
          <a:xfrm>
            <a:off x="7086600" y="6507000"/>
            <a:ext cx="1738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ring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8" name=""/>
          <p:cNvSpPr/>
          <p:nvPr/>
        </p:nvSpPr>
        <p:spPr>
          <a:xfrm>
            <a:off x="152280" y="152280"/>
            <a:ext cx="25146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0" name=""/>
          <p:cNvSpPr/>
          <p:nvPr/>
        </p:nvSpPr>
        <p:spPr>
          <a:xfrm>
            <a:off x="1402560" y="243828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2" name=""/>
          <p:cNvSpPr/>
          <p:nvPr/>
        </p:nvSpPr>
        <p:spPr>
          <a:xfrm>
            <a:off x="54100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3" name=""/>
          <p:cNvSpPr/>
          <p:nvPr/>
        </p:nvSpPr>
        <p:spPr>
          <a:xfrm>
            <a:off x="549828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4" name=""/>
          <p:cNvSpPr/>
          <p:nvPr/>
        </p:nvSpPr>
        <p:spPr>
          <a:xfrm>
            <a:off x="545508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48D-0C69-4DEF-89FC-1C75FB5E009A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71407-A896-44F6-93EE-DA31F905DF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eo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37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1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013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eo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4" name=""/>
          <p:cNvSpPr/>
          <p:nvPr/>
        </p:nvSpPr>
        <p:spPr>
          <a:xfrm>
            <a:off x="171360" y="190440"/>
            <a:ext cx="21718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Fenc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Forestwood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linois  60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5) 886-6488…Greg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6" name=""/>
          <p:cNvSpPr/>
          <p:nvPr/>
        </p:nvSpPr>
        <p:spPr>
          <a:xfrm>
            <a:off x="7846920" y="6507000"/>
            <a:ext cx="100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eo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7" name=""/>
          <p:cNvSpPr/>
          <p:nvPr/>
        </p:nvSpPr>
        <p:spPr>
          <a:xfrm>
            <a:off x="344520" y="51894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MEO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C9B-4E84-4FCA-A9B8-E0BCCCD5C45B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858A9-9831-4134-9B6C-7A2420CB67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ulu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7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10438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9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0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1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2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3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4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5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6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8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3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5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6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7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4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5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6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7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8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9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0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1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2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3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4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5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6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7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8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0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1" name=""/>
          <p:cNvSpPr/>
          <p:nvPr/>
        </p:nvSpPr>
        <p:spPr>
          <a:xfrm>
            <a:off x="265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588 Northli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chigan  481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4) 941-1388 x-171…Kevin Ad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2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7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4) 942-7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8" name=""/>
          <p:cNvSpPr/>
          <p:nvPr/>
        </p:nvSpPr>
        <p:spPr>
          <a:xfrm>
            <a:off x="2484720" y="481500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34- 229-9150 / 734-229-9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9" name=""/>
          <p:cNvSpPr/>
          <p:nvPr/>
        </p:nvSpPr>
        <p:spPr>
          <a:xfrm>
            <a:off x="505080" y="51055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0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1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2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3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4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5" name=""/>
          <p:cNvSpPr/>
          <p:nvPr/>
        </p:nvSpPr>
        <p:spPr>
          <a:xfrm>
            <a:off x="2048400" y="280512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001328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0CD-5473-4E59-AEA6-84EC870A86F4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9F930-5148-401E-A70D-4D38678049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nks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0" name=""/>
          <p:cNvSpPr/>
          <p:nvPr/>
        </p:nvSpPr>
        <p:spPr>
          <a:xfrm>
            <a:off x="7772400" y="6507000"/>
            <a:ext cx="105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1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2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Jay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 North Ronk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ennsylvania 175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687-1957…Kathy Wee x-19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51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5" name=""/>
          <p:cNvSpPr/>
          <p:nvPr/>
        </p:nvSpPr>
        <p:spPr>
          <a:xfrm>
            <a:off x="2322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1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nk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1" name=""/>
          <p:cNvSpPr/>
          <p:nvPr/>
        </p:nvSpPr>
        <p:spPr>
          <a:xfrm>
            <a:off x="21196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6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2" name=""/>
          <p:cNvSpPr/>
          <p:nvPr/>
        </p:nvSpPr>
        <p:spPr>
          <a:xfrm>
            <a:off x="470160" y="5181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3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639-CC8B-44F9-BB26-806CC5C9F26B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0397E-E708-4DC4-BC74-1CA275EC73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sell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056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8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2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4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4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0" name=""/>
          <p:cNvSpPr/>
          <p:nvPr/>
        </p:nvSpPr>
        <p:spPr>
          <a:xfrm>
            <a:off x="171360" y="171360"/>
            <a:ext cx="22669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1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 Walnut Gate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nty Road 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abama  356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332-9020…Phil Humph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7" name=""/>
          <p:cNvSpPr/>
          <p:nvPr/>
        </p:nvSpPr>
        <p:spPr>
          <a:xfrm>
            <a:off x="594360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8" name=""/>
          <p:cNvSpPr/>
          <p:nvPr/>
        </p:nvSpPr>
        <p:spPr>
          <a:xfrm>
            <a:off x="6092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9" name=""/>
          <p:cNvSpPr/>
          <p:nvPr/>
        </p:nvSpPr>
        <p:spPr>
          <a:xfrm>
            <a:off x="606168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2C3-0385-4B64-8D6D-032FFBDC3D5D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4E869-38E4-4DDE-8364-82F1B3C384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ton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1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41 Highway 56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sboro, LA  712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247-8041…John Ha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978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5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6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7" name=""/>
          <p:cNvSpPr/>
          <p:nvPr/>
        </p:nvSpPr>
        <p:spPr>
          <a:xfrm>
            <a:off x="519120" y="52578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8" name=""/>
          <p:cNvSpPr/>
          <p:nvPr/>
        </p:nvSpPr>
        <p:spPr>
          <a:xfrm>
            <a:off x="231840" y="4191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9" name=""/>
          <p:cNvSpPr/>
          <p:nvPr/>
        </p:nvSpPr>
        <p:spPr>
          <a:xfrm>
            <a:off x="1143000" y="5867280"/>
            <a:ext cx="93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7B4-FCED-400B-A525-82CEE84ED5F3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5994E-204F-45FB-AC08-730EBE9839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Catharines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68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9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1" name=""/>
          <p:cNvSpPr/>
          <p:nvPr/>
        </p:nvSpPr>
        <p:spPr>
          <a:xfrm>
            <a:off x="7921080" y="175248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2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9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0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1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2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3" name=""/>
          <p:cNvSpPr/>
          <p:nvPr/>
        </p:nvSpPr>
        <p:spPr>
          <a:xfrm>
            <a:off x="7864200" y="467676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5" name=""/>
          <p:cNvSpPr/>
          <p:nvPr/>
        </p:nvSpPr>
        <p:spPr>
          <a:xfrm>
            <a:off x="171360" y="171360"/>
            <a:ext cx="27241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 Seapark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  L2R 6Y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688-3160…Suesan Taylor x-2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7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684-0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3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5-688-7122 / 905-688-71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3ON0008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EYNNFR2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73B-FFE3-4803-B693-E34BC922F41E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D539B-A8C3-4B7D-A2FC-2E2153B174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Louis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7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Lou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2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3" name=""/>
          <p:cNvSpPr/>
          <p:nvPr/>
        </p:nvSpPr>
        <p:spPr>
          <a:xfrm>
            <a:off x="171360" y="171360"/>
            <a:ext cx="21718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4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60 South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issouri  63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776-8211…Bill Moria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877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Lou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2" name=""/>
          <p:cNvSpPr/>
          <p:nvPr/>
        </p:nvSpPr>
        <p:spPr>
          <a:xfrm>
            <a:off x="454320" y="5302080"/>
            <a:ext cx="91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T_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0B2-1891-48A1-8AC4-319436D1C14D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0D7F3-390C-4FA2-8E04-A62E710DCE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Riverport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5248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1320" y="2743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98800" y="5424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147320" y="3200400"/>
            <a:ext cx="1094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3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600200" y="541008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43000" y="3200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120" y="4191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295280" y="41911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09480" y="57754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3800" y="5073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9960" y="4844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12720" y="236232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E6B-14D4-44B2-8A9C-CD025DAF9B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F9E08-CE80-4207-B6FC-FF068F6D35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bor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6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807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8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9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0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1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2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3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4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5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7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3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4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5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4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6" name=""/>
          <p:cNvSpPr/>
          <p:nvPr/>
        </p:nvSpPr>
        <p:spPr>
          <a:xfrm>
            <a:off x="65332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bo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7" name=""/>
          <p:cNvSpPr/>
          <p:nvPr/>
        </p:nvSpPr>
        <p:spPr>
          <a:xfrm>
            <a:off x="3808440" y="2041560"/>
            <a:ext cx="1500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XHGL 176461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0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1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2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4" name=""/>
          <p:cNvSpPr/>
          <p:nvPr/>
        </p:nvSpPr>
        <p:spPr>
          <a:xfrm>
            <a:off x="800064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5" name=""/>
          <p:cNvSpPr/>
          <p:nvPr/>
        </p:nvSpPr>
        <p:spPr>
          <a:xfrm>
            <a:off x="171360" y="190440"/>
            <a:ext cx="339084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6" name=""/>
          <p:cNvSpPr/>
          <p:nvPr/>
        </p:nvSpPr>
        <p:spPr>
          <a:xfrm>
            <a:off x="250920" y="291960"/>
            <a:ext cx="333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Corporation Microelectronic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50 Co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  141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18…Pam Rakfeld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35…John Barr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2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3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0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4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9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B77-F320-41E5-8206-9A6C13322903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F6230-EB82-4541-B7C0-54E2558956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85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8" name=""/>
          <p:cNvSpPr/>
          <p:nvPr/>
        </p:nvSpPr>
        <p:spPr>
          <a:xfrm>
            <a:off x="8377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8" name=""/>
          <p:cNvSpPr/>
          <p:nvPr/>
        </p:nvSpPr>
        <p:spPr>
          <a:xfrm>
            <a:off x="83772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0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6 South Sandy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ah  84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1) 569-0440…Kevin Wil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1) 561-10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9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801-565-4776 / 801-565-47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74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3" name=""/>
          <p:cNvSpPr/>
          <p:nvPr/>
        </p:nvSpPr>
        <p:spPr>
          <a:xfrm>
            <a:off x="1974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4" name=""/>
          <p:cNvSpPr/>
          <p:nvPr/>
        </p:nvSpPr>
        <p:spPr>
          <a:xfrm flipH="1">
            <a:off x="1752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5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7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8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9" name=""/>
          <p:cNvSpPr/>
          <p:nvPr/>
        </p:nvSpPr>
        <p:spPr>
          <a:xfrm>
            <a:off x="1481040" y="21398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0" name=""/>
          <p:cNvSpPr/>
          <p:nvPr/>
        </p:nvSpPr>
        <p:spPr>
          <a:xfrm>
            <a:off x="1428840" y="2133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0B8-3022-4FA5-B34B-E43F4F417432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D1F89-BFC4-4EB8-90CF-09C1921692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Jose, California (Fortune Driv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4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 Jose (Fortune Driv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6" name=""/>
          <p:cNvSpPr/>
          <p:nvPr/>
        </p:nvSpPr>
        <p:spPr>
          <a:xfrm>
            <a:off x="171360" y="457200"/>
            <a:ext cx="29527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7" name=""/>
          <p:cNvSpPr/>
          <p:nvPr/>
        </p:nvSpPr>
        <p:spPr>
          <a:xfrm>
            <a:off x="201600" y="517680"/>
            <a:ext cx="2922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emicon Equipment, Inc. (Hol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9 fortun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  951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Larry Walker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Rob G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Judy McGee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8" name=""/>
          <p:cNvSpPr/>
          <p:nvPr/>
        </p:nvSpPr>
        <p:spPr>
          <a:xfrm>
            <a:off x="2229480" y="2666880"/>
            <a:ext cx="112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HEC 7456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9" name=""/>
          <p:cNvSpPr/>
          <p:nvPr/>
        </p:nvSpPr>
        <p:spPr>
          <a:xfrm>
            <a:off x="2188080" y="2895480"/>
            <a:ext cx="1190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XEC 9594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0" name=""/>
          <p:cNvGrpSpPr/>
          <p:nvPr/>
        </p:nvGrpSpPr>
        <p:grpSpPr>
          <a:xfrm>
            <a:off x="3808440" y="990720"/>
            <a:ext cx="1905840" cy="3503160"/>
            <a:chOff x="3808440" y="990720"/>
            <a:chExt cx="1905840" cy="3503160"/>
          </a:xfrm>
        </p:grpSpPr>
        <p:sp>
          <p:nvSpPr>
            <p:cNvPr id="10931" name=""/>
            <p:cNvSpPr/>
            <p:nvPr/>
          </p:nvSpPr>
          <p:spPr>
            <a:xfrm>
              <a:off x="481536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2" name=""/>
            <p:cNvSpPr/>
            <p:nvPr/>
          </p:nvSpPr>
          <p:spPr>
            <a:xfrm>
              <a:off x="380844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3" name=""/>
            <p:cNvSpPr/>
            <p:nvPr/>
          </p:nvSpPr>
          <p:spPr>
            <a:xfrm>
              <a:off x="428652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4" name=""/>
            <p:cNvSpPr/>
            <p:nvPr/>
          </p:nvSpPr>
          <p:spPr>
            <a:xfrm>
              <a:off x="383076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5" name=""/>
            <p:cNvSpPr/>
            <p:nvPr/>
          </p:nvSpPr>
          <p:spPr>
            <a:xfrm>
              <a:off x="411624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6" name=""/>
            <p:cNvSpPr/>
            <p:nvPr/>
          </p:nvSpPr>
          <p:spPr>
            <a:xfrm>
              <a:off x="457416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7" name=""/>
            <p:cNvSpPr/>
            <p:nvPr/>
          </p:nvSpPr>
          <p:spPr>
            <a:xfrm>
              <a:off x="507564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8" name=""/>
            <p:cNvSpPr/>
            <p:nvPr/>
          </p:nvSpPr>
          <p:spPr>
            <a:xfrm>
              <a:off x="513468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9" name=""/>
          <p:cNvSpPr/>
          <p:nvPr/>
        </p:nvSpPr>
        <p:spPr>
          <a:xfrm>
            <a:off x="7238520" y="6004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2" name=""/>
          <p:cNvSpPr/>
          <p:nvPr/>
        </p:nvSpPr>
        <p:spPr>
          <a:xfrm>
            <a:off x="414072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3" name=""/>
          <p:cNvSpPr/>
          <p:nvPr/>
        </p:nvSpPr>
        <p:spPr>
          <a:xfrm>
            <a:off x="48751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2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6" name=""/>
          <p:cNvSpPr/>
          <p:nvPr/>
        </p:nvSpPr>
        <p:spPr>
          <a:xfrm flipV="1">
            <a:off x="1752480" y="28951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3" name=""/>
          <p:cNvSpPr/>
          <p:nvPr/>
        </p:nvSpPr>
        <p:spPr>
          <a:xfrm>
            <a:off x="3843360" y="2728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6" name=""/>
          <p:cNvSpPr/>
          <p:nvPr/>
        </p:nvSpPr>
        <p:spPr>
          <a:xfrm>
            <a:off x="26668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7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9" name=""/>
          <p:cNvSpPr/>
          <p:nvPr/>
        </p:nvSpPr>
        <p:spPr>
          <a:xfrm>
            <a:off x="83772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0" name=""/>
          <p:cNvSpPr/>
          <p:nvPr/>
        </p:nvSpPr>
        <p:spPr>
          <a:xfrm>
            <a:off x="6936840" y="35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 Jo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1" name=""/>
          <p:cNvSpPr/>
          <p:nvPr/>
        </p:nvSpPr>
        <p:spPr>
          <a:xfrm>
            <a:off x="327276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2" name=""/>
          <p:cNvSpPr/>
          <p:nvPr/>
        </p:nvSpPr>
        <p:spPr>
          <a:xfrm flipH="1">
            <a:off x="55627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3" name=""/>
          <p:cNvSpPr/>
          <p:nvPr/>
        </p:nvSpPr>
        <p:spPr>
          <a:xfrm>
            <a:off x="78487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4" name=""/>
          <p:cNvSpPr/>
          <p:nvPr/>
        </p:nvSpPr>
        <p:spPr>
          <a:xfrm>
            <a:off x="6095880" y="26668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5" name=""/>
          <p:cNvSpPr/>
          <p:nvPr/>
        </p:nvSpPr>
        <p:spPr>
          <a:xfrm>
            <a:off x="594360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0" name=""/>
          <p:cNvSpPr/>
          <p:nvPr/>
        </p:nvSpPr>
        <p:spPr>
          <a:xfrm>
            <a:off x="1752480" y="2895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1" name=""/>
          <p:cNvSpPr/>
          <p:nvPr/>
        </p:nvSpPr>
        <p:spPr>
          <a:xfrm>
            <a:off x="1234800" y="600408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C61-5086-4158-901A-10085DC52F28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C5517-192D-42EB-BD3B-1CA490E119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9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5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9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291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3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1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2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5 South Standar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6-016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3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4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6AF-D23B-44AE-845E-2D24902CAFC8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20AEC-38DB-453A-850A-16A077D9E0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ulpa, Oklaho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3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ul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3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4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5" name=""/>
          <p:cNvSpPr/>
          <p:nvPr/>
        </p:nvSpPr>
        <p:spPr>
          <a:xfrm>
            <a:off x="62856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6" name=""/>
          <p:cNvSpPr/>
          <p:nvPr/>
        </p:nvSpPr>
        <p:spPr>
          <a:xfrm>
            <a:off x="534960" y="508968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PUL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8" name=""/>
          <p:cNvSpPr/>
          <p:nvPr/>
        </p:nvSpPr>
        <p:spPr>
          <a:xfrm flipH="1">
            <a:off x="1371240" y="50133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3" name=""/>
          <p:cNvSpPr/>
          <p:nvPr/>
        </p:nvSpPr>
        <p:spPr>
          <a:xfrm>
            <a:off x="2043360" y="24987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2" name=""/>
          <p:cNvSpPr/>
          <p:nvPr/>
        </p:nvSpPr>
        <p:spPr>
          <a:xfrm>
            <a:off x="6648480" y="3473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pul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3" name=""/>
          <p:cNvSpPr/>
          <p:nvPr/>
        </p:nvSpPr>
        <p:spPr>
          <a:xfrm>
            <a:off x="348768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4" name=""/>
          <p:cNvSpPr/>
          <p:nvPr/>
        </p:nvSpPr>
        <p:spPr>
          <a:xfrm>
            <a:off x="493560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 North Missio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  7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8) 224-1440…Dixie Sams  x-5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3" name=""/>
          <p:cNvSpPr/>
          <p:nvPr/>
        </p:nvSpPr>
        <p:spPr>
          <a:xfrm>
            <a:off x="5925240" y="2498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4" name=""/>
          <p:cNvSpPr/>
          <p:nvPr/>
        </p:nvSpPr>
        <p:spPr>
          <a:xfrm>
            <a:off x="5847480" y="27273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8" name=""/>
          <p:cNvSpPr/>
          <p:nvPr/>
        </p:nvSpPr>
        <p:spPr>
          <a:xfrm>
            <a:off x="5950080" y="515628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9" name=""/>
          <p:cNvSpPr/>
          <p:nvPr/>
        </p:nvSpPr>
        <p:spPr>
          <a:xfrm>
            <a:off x="5887080" y="51642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0" name=""/>
          <p:cNvSpPr/>
          <p:nvPr/>
        </p:nvSpPr>
        <p:spPr>
          <a:xfrm>
            <a:off x="5814720" y="4935600"/>
            <a:ext cx="878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41-70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1" name=""/>
          <p:cNvSpPr/>
          <p:nvPr/>
        </p:nvSpPr>
        <p:spPr>
          <a:xfrm>
            <a:off x="6553080" y="539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4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5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39D-486B-4E22-A4E2-4DEB761D6356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142F1-2675-4884-9A13-3652CE55D7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ttle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9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8-62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3-86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9" name=""/>
          <p:cNvSpPr/>
          <p:nvPr/>
        </p:nvSpPr>
        <p:spPr>
          <a:xfrm>
            <a:off x="171360" y="171360"/>
            <a:ext cx="272412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0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1 East Marginal Way Sou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shington  981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8-6203…Randy Bow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2-066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75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6" name=""/>
          <p:cNvSpPr/>
          <p:nvPr/>
        </p:nvSpPr>
        <p:spPr>
          <a:xfrm>
            <a:off x="68832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att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8" name=""/>
          <p:cNvSpPr/>
          <p:nvPr/>
        </p:nvSpPr>
        <p:spPr>
          <a:xfrm>
            <a:off x="46044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9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C0C-4D31-4E02-9D5E-3B4A6D05283D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43811-A912-4F23-88B8-AEFE2ABF09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gui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15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0" name=""/>
          <p:cNvSpPr/>
          <p:nvPr/>
        </p:nvSpPr>
        <p:spPr>
          <a:xfrm>
            <a:off x="7294680" y="78732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2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4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5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30) 379-74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0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1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10-267-6045 / 210-267-60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2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3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0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1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60 North Crossroad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exas  78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30)  372-0160…Wayne H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2" name=""/>
          <p:cNvSpPr/>
          <p:nvPr/>
        </p:nvSpPr>
        <p:spPr>
          <a:xfrm>
            <a:off x="2020320" y="2502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3" name=""/>
          <p:cNvSpPr/>
          <p:nvPr/>
        </p:nvSpPr>
        <p:spPr>
          <a:xfrm>
            <a:off x="1983240" y="27576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gu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5" name=""/>
          <p:cNvSpPr/>
          <p:nvPr/>
        </p:nvSpPr>
        <p:spPr>
          <a:xfrm>
            <a:off x="589680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6" name=""/>
          <p:cNvSpPr/>
          <p:nvPr/>
        </p:nvSpPr>
        <p:spPr>
          <a:xfrm>
            <a:off x="5864760" y="28954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7" name=""/>
          <p:cNvSpPr/>
          <p:nvPr/>
        </p:nvSpPr>
        <p:spPr>
          <a:xfrm>
            <a:off x="5715000" y="28954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270-00D1-4B5A-AC2F-7EC16283D227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7B355-1A37-47D5-A7FA-A3E86E5A3B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opee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12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2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0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8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0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kop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0" name=""/>
          <p:cNvSpPr/>
          <p:nvPr/>
        </p:nvSpPr>
        <p:spPr>
          <a:xfrm>
            <a:off x="171360" y="17136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1" name=""/>
          <p:cNvSpPr/>
          <p:nvPr/>
        </p:nvSpPr>
        <p:spPr>
          <a:xfrm>
            <a:off x="189360" y="216000"/>
            <a:ext cx="205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3 E 4th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innesota  55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2) 445-4287…Craig Paris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o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12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6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12-445-9146 / 612-445-9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A5E-633F-43AB-997B-EC4F77E5E391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399A0-388F-4793-8766-8882016983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1128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9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2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3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4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5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6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7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8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9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0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11301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9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0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1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2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3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4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5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6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winig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7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8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9" name=""/>
          <p:cNvSpPr/>
          <p:nvPr/>
        </p:nvSpPr>
        <p:spPr>
          <a:xfrm>
            <a:off x="610200" y="3962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0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1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2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3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4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5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6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7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8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9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2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3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4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5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6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7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8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9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0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1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2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3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4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wini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6" name=""/>
          <p:cNvSpPr/>
          <p:nvPr/>
        </p:nvSpPr>
        <p:spPr>
          <a:xfrm>
            <a:off x="171360" y="190440"/>
            <a:ext cx="262908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7" name=""/>
          <p:cNvSpPr/>
          <p:nvPr/>
        </p:nvSpPr>
        <p:spPr>
          <a:xfrm>
            <a:off x="252360" y="216000"/>
            <a:ext cx="2567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R. Wi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  G9N 6W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Mario Clermont x-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Pierre x-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8" name=""/>
          <p:cNvSpPr/>
          <p:nvPr/>
        </p:nvSpPr>
        <p:spPr>
          <a:xfrm>
            <a:off x="1953360" y="2529000"/>
            <a:ext cx="1169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NXGX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9" name=""/>
          <p:cNvSpPr/>
          <p:nvPr/>
        </p:nvSpPr>
        <p:spPr>
          <a:xfrm>
            <a:off x="64922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0" name=""/>
          <p:cNvSpPr/>
          <p:nvPr/>
        </p:nvSpPr>
        <p:spPr>
          <a:xfrm>
            <a:off x="64634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A8A-F820-4AE7-8A11-B845F7A9A8D9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5D3F4-4DFE-4E11-8E38-8FED6282E6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reveport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3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rev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Aero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ouisiana  71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677-2701…Stella Barm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243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B7C-CAB0-4C0A-89A7-DF80B50EEBFE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4CF71-A833-4BB2-BAF5-9E2C1B2E36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erde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31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berde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71360" y="171360"/>
            <a:ext cx="25527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ro/Colonial Abrasive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2 South Pin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 NC  283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Mary Bridsch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Bill Sael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erd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28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E55-7639-4D93-8982-9A58E1F517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720E0-5DE8-45D2-92C2-628229AA5C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6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933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0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1" name=""/>
          <p:cNvSpPr/>
          <p:nvPr/>
        </p:nvSpPr>
        <p:spPr>
          <a:xfrm>
            <a:off x="189000" y="216000"/>
            <a:ext cx="191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2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6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863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7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1EF-39B5-40D3-A63D-00BAE2A075C8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06F45-EDE2-47AE-B073-C08DCC6CBD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Whs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8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5" name=""/>
          <p:cNvSpPr/>
          <p:nvPr/>
        </p:nvSpPr>
        <p:spPr>
          <a:xfrm>
            <a:off x="3459240" y="3138480"/>
            <a:ext cx="70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3" name=""/>
          <p:cNvSpPr/>
          <p:nvPr/>
        </p:nvSpPr>
        <p:spPr>
          <a:xfrm>
            <a:off x="171360" y="190440"/>
            <a:ext cx="24764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4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2 East Hightower Trai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050…Dan Kozak (whs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5" name=""/>
          <p:cNvSpPr/>
          <p:nvPr/>
        </p:nvSpPr>
        <p:spPr>
          <a:xfrm>
            <a:off x="6400800" y="6507000"/>
            <a:ext cx="248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4" name=""/>
          <p:cNvSpPr/>
          <p:nvPr/>
        </p:nvSpPr>
        <p:spPr>
          <a:xfrm>
            <a:off x="606888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 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651-3DF7-4442-BB75-258493EE8027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76D98-5CD0-4E0E-B2C9-3D31CA355B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ddy-Daisy, Tenness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154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9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0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1" name=""/>
          <p:cNvSpPr/>
          <p:nvPr/>
        </p:nvSpPr>
        <p:spPr>
          <a:xfrm>
            <a:off x="53676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5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6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7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8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9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0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1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2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3" name=""/>
          <p:cNvSpPr/>
          <p:nvPr/>
        </p:nvSpPr>
        <p:spPr>
          <a:xfrm>
            <a:off x="670500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ddy-Dais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4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5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6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7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8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9" name=""/>
          <p:cNvSpPr/>
          <p:nvPr/>
        </p:nvSpPr>
        <p:spPr>
          <a:xfrm>
            <a:off x="3814920" y="4191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23) 332-38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0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3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4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7" name=""/>
          <p:cNvSpPr/>
          <p:nvPr/>
        </p:nvSpPr>
        <p:spPr>
          <a:xfrm>
            <a:off x="7391520" y="6507000"/>
            <a:ext cx="1431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dy-Dai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9" name=""/>
          <p:cNvSpPr/>
          <p:nvPr/>
        </p:nvSpPr>
        <p:spPr>
          <a:xfrm>
            <a:off x="173160" y="223920"/>
            <a:ext cx="2307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Igou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  37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23) 332-3571...Carl Wiesen x-1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0" name=""/>
          <p:cNvSpPr/>
          <p:nvPr/>
        </p:nvSpPr>
        <p:spPr>
          <a:xfrm>
            <a:off x="316152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423-332-4734 / 423-332-3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1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2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3" name=""/>
          <p:cNvSpPr/>
          <p:nvPr/>
        </p:nvSpPr>
        <p:spPr>
          <a:xfrm>
            <a:off x="1831320" y="2986200"/>
            <a:ext cx="144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SD00-3204963 (2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4" name=""/>
          <p:cNvSpPr/>
          <p:nvPr/>
        </p:nvSpPr>
        <p:spPr>
          <a:xfrm>
            <a:off x="20815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493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5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6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7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8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9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0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1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2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3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27F-DAEE-4403-83EF-412462C3BE86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BE360-D54E-485C-8EBA-F9542F62B0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7" name=""/>
          <p:cNvGrpSpPr/>
          <p:nvPr/>
        </p:nvGrpSpPr>
        <p:grpSpPr>
          <a:xfrm>
            <a:off x="4113360" y="1905120"/>
            <a:ext cx="1905840" cy="1675440"/>
            <a:chOff x="4113360" y="1905120"/>
            <a:chExt cx="1905840" cy="1675440"/>
          </a:xfrm>
        </p:grpSpPr>
        <p:sp>
          <p:nvSpPr>
            <p:cNvPr id="11598" name=""/>
            <p:cNvSpPr/>
            <p:nvPr/>
          </p:nvSpPr>
          <p:spPr>
            <a:xfrm>
              <a:off x="5120280" y="2012040"/>
              <a:ext cx="4068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9" name=""/>
            <p:cNvSpPr/>
            <p:nvPr/>
          </p:nvSpPr>
          <p:spPr>
            <a:xfrm>
              <a:off x="4113360" y="2040120"/>
              <a:ext cx="52380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0" name=""/>
            <p:cNvSpPr/>
            <p:nvPr/>
          </p:nvSpPr>
          <p:spPr>
            <a:xfrm>
              <a:off x="4591440" y="1905120"/>
              <a:ext cx="52704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1" name=""/>
            <p:cNvSpPr/>
            <p:nvPr/>
          </p:nvSpPr>
          <p:spPr>
            <a:xfrm>
              <a:off x="4135680" y="2486520"/>
              <a:ext cx="52632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2" name=""/>
            <p:cNvSpPr/>
            <p:nvPr/>
          </p:nvSpPr>
          <p:spPr>
            <a:xfrm>
              <a:off x="4421160" y="2863080"/>
              <a:ext cx="52452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3" name=""/>
            <p:cNvSpPr/>
            <p:nvPr/>
          </p:nvSpPr>
          <p:spPr>
            <a:xfrm>
              <a:off x="4879080" y="3095280"/>
              <a:ext cx="52452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4" name=""/>
            <p:cNvSpPr/>
            <p:nvPr/>
          </p:nvSpPr>
          <p:spPr>
            <a:xfrm>
              <a:off x="5380560" y="2893320"/>
              <a:ext cx="52380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5" name=""/>
            <p:cNvSpPr/>
            <p:nvPr/>
          </p:nvSpPr>
          <p:spPr>
            <a:xfrm>
              <a:off x="5439600" y="2228400"/>
              <a:ext cx="57960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7" name=""/>
          <p:cNvSpPr/>
          <p:nvPr/>
        </p:nvSpPr>
        <p:spPr>
          <a:xfrm>
            <a:off x="7238520" y="838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0" name=""/>
          <p:cNvSpPr/>
          <p:nvPr/>
        </p:nvSpPr>
        <p:spPr>
          <a:xfrm>
            <a:off x="7461360" y="39625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1" name=""/>
          <p:cNvSpPr/>
          <p:nvPr/>
        </p:nvSpPr>
        <p:spPr>
          <a:xfrm>
            <a:off x="4443840" y="213372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2" name=""/>
          <p:cNvSpPr/>
          <p:nvPr/>
        </p:nvSpPr>
        <p:spPr>
          <a:xfrm>
            <a:off x="536724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3" name=""/>
          <p:cNvSpPr/>
          <p:nvPr/>
        </p:nvSpPr>
        <p:spPr>
          <a:xfrm>
            <a:off x="7316280" y="4495680"/>
            <a:ext cx="1140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6" name=""/>
          <p:cNvSpPr/>
          <p:nvPr/>
        </p:nvSpPr>
        <p:spPr>
          <a:xfrm>
            <a:off x="2285280" y="4114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0" name=""/>
          <p:cNvSpPr/>
          <p:nvPr/>
        </p:nvSpPr>
        <p:spPr>
          <a:xfrm>
            <a:off x="1399680" y="249876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8" name=""/>
          <p:cNvSpPr/>
          <p:nvPr/>
        </p:nvSpPr>
        <p:spPr>
          <a:xfrm>
            <a:off x="1069560" y="43578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0" name=""/>
          <p:cNvSpPr/>
          <p:nvPr/>
        </p:nvSpPr>
        <p:spPr>
          <a:xfrm>
            <a:off x="41126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3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4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5" name=""/>
          <p:cNvSpPr/>
          <p:nvPr/>
        </p:nvSpPr>
        <p:spPr>
          <a:xfrm>
            <a:off x="785196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7" name=""/>
          <p:cNvSpPr/>
          <p:nvPr/>
        </p:nvSpPr>
        <p:spPr>
          <a:xfrm>
            <a:off x="784872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8" name=""/>
          <p:cNvSpPr/>
          <p:nvPr/>
        </p:nvSpPr>
        <p:spPr>
          <a:xfrm flipH="1">
            <a:off x="2057040" y="2743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9" name=""/>
          <p:cNvSpPr/>
          <p:nvPr/>
        </p:nvSpPr>
        <p:spPr>
          <a:xfrm>
            <a:off x="534924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0" name=""/>
          <p:cNvSpPr/>
          <p:nvPr/>
        </p:nvSpPr>
        <p:spPr>
          <a:xfrm>
            <a:off x="6095880" y="254304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1" name=""/>
          <p:cNvSpPr/>
          <p:nvPr/>
        </p:nvSpPr>
        <p:spPr>
          <a:xfrm>
            <a:off x="594360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2" name=""/>
          <p:cNvSpPr/>
          <p:nvPr/>
        </p:nvSpPr>
        <p:spPr>
          <a:xfrm>
            <a:off x="586728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3" name=""/>
          <p:cNvSpPr/>
          <p:nvPr/>
        </p:nvSpPr>
        <p:spPr>
          <a:xfrm>
            <a:off x="24346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31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4" name=""/>
          <p:cNvSpPr/>
          <p:nvPr/>
        </p:nvSpPr>
        <p:spPr>
          <a:xfrm>
            <a:off x="2286000" y="27558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4039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5" name=""/>
          <p:cNvSpPr/>
          <p:nvPr/>
        </p:nvSpPr>
        <p:spPr>
          <a:xfrm>
            <a:off x="5943600" y="274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6" name=""/>
          <p:cNvSpPr/>
          <p:nvPr/>
        </p:nvSpPr>
        <p:spPr>
          <a:xfrm>
            <a:off x="3962520" y="563868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7" name=""/>
          <p:cNvSpPr/>
          <p:nvPr/>
        </p:nvSpPr>
        <p:spPr>
          <a:xfrm>
            <a:off x="171360" y="190440"/>
            <a:ext cx="3029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8" name=""/>
          <p:cNvSpPr/>
          <p:nvPr/>
        </p:nvSpPr>
        <p:spPr>
          <a:xfrm>
            <a:off x="190440" y="216000"/>
            <a:ext cx="2933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801 Cochr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io  441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248-7400…Marylou Johnson x-6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9" name=""/>
          <p:cNvSpPr/>
          <p:nvPr/>
        </p:nvSpPr>
        <p:spPr>
          <a:xfrm>
            <a:off x="4343400" y="527040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 Dedic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0" name=""/>
          <p:cNvSpPr/>
          <p:nvPr/>
        </p:nvSpPr>
        <p:spPr>
          <a:xfrm>
            <a:off x="2285280" y="51800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1" name=""/>
          <p:cNvSpPr/>
          <p:nvPr/>
        </p:nvSpPr>
        <p:spPr>
          <a:xfrm>
            <a:off x="2133720" y="51055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2" name=""/>
          <p:cNvSpPr/>
          <p:nvPr/>
        </p:nvSpPr>
        <p:spPr>
          <a:xfrm>
            <a:off x="3124080" y="5105520"/>
            <a:ext cx="0" cy="60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3" name=""/>
          <p:cNvSpPr/>
          <p:nvPr/>
        </p:nvSpPr>
        <p:spPr>
          <a:xfrm>
            <a:off x="3124080" y="4191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4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5" name=""/>
          <p:cNvGrpSpPr/>
          <p:nvPr/>
        </p:nvGrpSpPr>
        <p:grpSpPr>
          <a:xfrm>
            <a:off x="4114800" y="3581280"/>
            <a:ext cx="1827720" cy="1218600"/>
            <a:chOff x="4114800" y="3581280"/>
            <a:chExt cx="1827720" cy="1218600"/>
          </a:xfrm>
        </p:grpSpPr>
        <p:sp>
          <p:nvSpPr>
            <p:cNvPr id="11656" name=""/>
            <p:cNvSpPr/>
            <p:nvPr/>
          </p:nvSpPr>
          <p:spPr>
            <a:xfrm>
              <a:off x="5081040" y="3659400"/>
              <a:ext cx="392040" cy="32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7" name=""/>
            <p:cNvSpPr/>
            <p:nvPr/>
          </p:nvSpPr>
          <p:spPr>
            <a:xfrm>
              <a:off x="4114800" y="3680640"/>
              <a:ext cx="50400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8" name=""/>
            <p:cNvSpPr/>
            <p:nvPr/>
          </p:nvSpPr>
          <p:spPr>
            <a:xfrm>
              <a:off x="4572360" y="3581280"/>
              <a:ext cx="50472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9" name=""/>
            <p:cNvSpPr/>
            <p:nvPr/>
          </p:nvSpPr>
          <p:spPr>
            <a:xfrm>
              <a:off x="4136400" y="4003560"/>
              <a:ext cx="50256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0" name=""/>
            <p:cNvSpPr/>
            <p:nvPr/>
          </p:nvSpPr>
          <p:spPr>
            <a:xfrm>
              <a:off x="4408200" y="4276800"/>
              <a:ext cx="505440" cy="3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1" name=""/>
            <p:cNvSpPr/>
            <p:nvPr/>
          </p:nvSpPr>
          <p:spPr>
            <a:xfrm>
              <a:off x="4849200" y="4445640"/>
              <a:ext cx="504360" cy="3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2" name=""/>
            <p:cNvSpPr/>
            <p:nvPr/>
          </p:nvSpPr>
          <p:spPr>
            <a:xfrm>
              <a:off x="5330880" y="4300560"/>
              <a:ext cx="504000" cy="35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3" name=""/>
            <p:cNvSpPr/>
            <p:nvPr/>
          </p:nvSpPr>
          <p:spPr>
            <a:xfrm>
              <a:off x="5387040" y="3813840"/>
              <a:ext cx="55548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4" name=""/>
          <p:cNvSpPr/>
          <p:nvPr/>
        </p:nvSpPr>
        <p:spPr>
          <a:xfrm>
            <a:off x="4267080" y="373392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rint Frame-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5" name=""/>
          <p:cNvSpPr/>
          <p:nvPr/>
        </p:nvSpPr>
        <p:spPr>
          <a:xfrm>
            <a:off x="4496400" y="548640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6" name=""/>
          <p:cNvSpPr/>
          <p:nvPr/>
        </p:nvSpPr>
        <p:spPr>
          <a:xfrm>
            <a:off x="3124080" y="41911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7" name=""/>
          <p:cNvSpPr/>
          <p:nvPr/>
        </p:nvSpPr>
        <p:spPr>
          <a:xfrm>
            <a:off x="7461360" y="5470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8" name=""/>
          <p:cNvSpPr/>
          <p:nvPr/>
        </p:nvSpPr>
        <p:spPr>
          <a:xfrm>
            <a:off x="7395840" y="6004080"/>
            <a:ext cx="98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9" name=""/>
          <p:cNvSpPr/>
          <p:nvPr/>
        </p:nvSpPr>
        <p:spPr>
          <a:xfrm>
            <a:off x="6647040" y="5570640"/>
            <a:ext cx="36324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0" name=""/>
          <p:cNvSpPr/>
          <p:nvPr/>
        </p:nvSpPr>
        <p:spPr>
          <a:xfrm>
            <a:off x="3598920" y="5562720"/>
            <a:ext cx="36360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1" name=""/>
          <p:cNvSpPr/>
          <p:nvPr/>
        </p:nvSpPr>
        <p:spPr>
          <a:xfrm>
            <a:off x="70102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2" name=""/>
          <p:cNvSpPr/>
          <p:nvPr/>
        </p:nvSpPr>
        <p:spPr>
          <a:xfrm>
            <a:off x="71042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3" name=""/>
          <p:cNvSpPr/>
          <p:nvPr/>
        </p:nvSpPr>
        <p:spPr>
          <a:xfrm>
            <a:off x="31240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4" name=""/>
          <p:cNvSpPr/>
          <p:nvPr/>
        </p:nvSpPr>
        <p:spPr>
          <a:xfrm>
            <a:off x="32180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5" name=""/>
          <p:cNvSpPr/>
          <p:nvPr/>
        </p:nvSpPr>
        <p:spPr>
          <a:xfrm>
            <a:off x="411408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6" name=""/>
          <p:cNvSpPr/>
          <p:nvPr/>
        </p:nvSpPr>
        <p:spPr>
          <a:xfrm>
            <a:off x="6019920" y="39625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7" name=""/>
          <p:cNvSpPr/>
          <p:nvPr/>
        </p:nvSpPr>
        <p:spPr>
          <a:xfrm>
            <a:off x="2895480" y="39765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8" name=""/>
          <p:cNvGrpSpPr/>
          <p:nvPr/>
        </p:nvGrpSpPr>
        <p:grpSpPr>
          <a:xfrm>
            <a:off x="4114800" y="4952880"/>
            <a:ext cx="1827720" cy="1370880"/>
            <a:chOff x="4114800" y="4952880"/>
            <a:chExt cx="1827720" cy="1370880"/>
          </a:xfrm>
        </p:grpSpPr>
        <p:sp>
          <p:nvSpPr>
            <p:cNvPr id="11679" name=""/>
            <p:cNvSpPr/>
            <p:nvPr/>
          </p:nvSpPr>
          <p:spPr>
            <a:xfrm>
              <a:off x="5081040" y="5040720"/>
              <a:ext cx="392040" cy="3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0" name=""/>
            <p:cNvSpPr/>
            <p:nvPr/>
          </p:nvSpPr>
          <p:spPr>
            <a:xfrm>
              <a:off x="4114800" y="5064480"/>
              <a:ext cx="504000" cy="39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1" name=""/>
            <p:cNvSpPr/>
            <p:nvPr/>
          </p:nvSpPr>
          <p:spPr>
            <a:xfrm>
              <a:off x="4572360" y="4952880"/>
              <a:ext cx="50472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2" name=""/>
            <p:cNvSpPr/>
            <p:nvPr/>
          </p:nvSpPr>
          <p:spPr>
            <a:xfrm>
              <a:off x="4136400" y="5428080"/>
              <a:ext cx="502560" cy="39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3" name=""/>
            <p:cNvSpPr/>
            <p:nvPr/>
          </p:nvSpPr>
          <p:spPr>
            <a:xfrm>
              <a:off x="4408200" y="5735520"/>
              <a:ext cx="505440" cy="39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4" name=""/>
            <p:cNvSpPr/>
            <p:nvPr/>
          </p:nvSpPr>
          <p:spPr>
            <a:xfrm>
              <a:off x="4849200" y="5925240"/>
              <a:ext cx="50436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5" name=""/>
            <p:cNvSpPr/>
            <p:nvPr/>
          </p:nvSpPr>
          <p:spPr>
            <a:xfrm>
              <a:off x="5330880" y="5761800"/>
              <a:ext cx="504000" cy="3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6" name=""/>
            <p:cNvSpPr/>
            <p:nvPr/>
          </p:nvSpPr>
          <p:spPr>
            <a:xfrm>
              <a:off x="5387040" y="5214600"/>
              <a:ext cx="555480" cy="56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7" name=""/>
          <p:cNvSpPr/>
          <p:nvPr/>
        </p:nvSpPr>
        <p:spPr>
          <a:xfrm>
            <a:off x="2209320" y="45864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8" name=""/>
          <p:cNvSpPr/>
          <p:nvPr/>
        </p:nvSpPr>
        <p:spPr>
          <a:xfrm>
            <a:off x="2212560" y="48909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9" name=""/>
          <p:cNvSpPr/>
          <p:nvPr/>
        </p:nvSpPr>
        <p:spPr>
          <a:xfrm flipH="1">
            <a:off x="2133360" y="5029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0" name=""/>
          <p:cNvSpPr/>
          <p:nvPr/>
        </p:nvSpPr>
        <p:spPr>
          <a:xfrm flipH="1">
            <a:off x="2133360" y="4724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1" name=""/>
          <p:cNvSpPr/>
          <p:nvPr/>
        </p:nvSpPr>
        <p:spPr>
          <a:xfrm>
            <a:off x="3962520" y="57913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2" name=""/>
          <p:cNvSpPr/>
          <p:nvPr/>
        </p:nvSpPr>
        <p:spPr>
          <a:xfrm>
            <a:off x="4496400" y="563868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180-6EA4-43D6-B71F-BBB7BB12457E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3475A-F780-417D-93C6-CB47E7162A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San Francisc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69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6" name=""/>
          <p:cNvSpPr/>
          <p:nvPr/>
        </p:nvSpPr>
        <p:spPr>
          <a:xfrm>
            <a:off x="609480" y="5943600"/>
            <a:ext cx="198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7" name=""/>
          <p:cNvSpPr/>
          <p:nvPr/>
        </p:nvSpPr>
        <p:spPr>
          <a:xfrm>
            <a:off x="716076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9" name=""/>
          <p:cNvSpPr/>
          <p:nvPr/>
        </p:nvSpPr>
        <p:spPr>
          <a:xfrm>
            <a:off x="394560" y="3962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0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258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3" name=""/>
          <p:cNvSpPr/>
          <p:nvPr/>
        </p:nvSpPr>
        <p:spPr>
          <a:xfrm flipH="1">
            <a:off x="1218960" y="4162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0" name=""/>
          <p:cNvSpPr/>
          <p:nvPr/>
        </p:nvSpPr>
        <p:spPr>
          <a:xfrm>
            <a:off x="5976360" y="4676760"/>
            <a:ext cx="120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 San Franci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5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6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/Asti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Produ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lifornia  940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50) 244-4800…Jerome Mallav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7" name=""/>
          <p:cNvSpPr/>
          <p:nvPr/>
        </p:nvSpPr>
        <p:spPr>
          <a:xfrm>
            <a:off x="6553080" y="6507000"/>
            <a:ext cx="2273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8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2" name=""/>
          <p:cNvSpPr/>
          <p:nvPr/>
        </p:nvSpPr>
        <p:spPr>
          <a:xfrm>
            <a:off x="2127240" y="4495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5" name=""/>
          <p:cNvSpPr/>
          <p:nvPr/>
        </p:nvSpPr>
        <p:spPr>
          <a:xfrm>
            <a:off x="59061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E95-DD7E-42E7-919F-378AF0432356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9B43A-6E0C-49F4-91E9-5F098B3C5D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hen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2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753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4" name=""/>
            <p:cNvSpPr/>
            <p:nvPr/>
          </p:nvSpPr>
          <p:spPr>
            <a:xfrm>
              <a:off x="343044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5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6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>
              <a:off x="484848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>
              <a:off x="491508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1" name=""/>
          <p:cNvSpPr/>
          <p:nvPr/>
        </p:nvSpPr>
        <p:spPr>
          <a:xfrm>
            <a:off x="7095960" y="59691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2" name=""/>
          <p:cNvSpPr/>
          <p:nvPr/>
        </p:nvSpPr>
        <p:spPr>
          <a:xfrm flipH="1" flipV="1">
            <a:off x="5562360" y="210492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3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4" name=""/>
          <p:cNvSpPr/>
          <p:nvPr/>
        </p:nvSpPr>
        <p:spPr>
          <a:xfrm>
            <a:off x="725004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6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7" name=""/>
          <p:cNvSpPr/>
          <p:nvPr/>
        </p:nvSpPr>
        <p:spPr>
          <a:xfrm>
            <a:off x="1447920" y="2790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8" name=""/>
          <p:cNvSpPr/>
          <p:nvPr/>
        </p:nvSpPr>
        <p:spPr>
          <a:xfrm>
            <a:off x="2057400" y="25621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9" name=""/>
          <p:cNvSpPr/>
          <p:nvPr/>
        </p:nvSpPr>
        <p:spPr>
          <a:xfrm>
            <a:off x="2097720" y="2576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871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0" name=""/>
          <p:cNvSpPr/>
          <p:nvPr/>
        </p:nvSpPr>
        <p:spPr>
          <a:xfrm>
            <a:off x="5562720" y="2562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1" name=""/>
          <p:cNvSpPr/>
          <p:nvPr/>
        </p:nvSpPr>
        <p:spPr>
          <a:xfrm flipV="1">
            <a:off x="7620120" y="25909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2" name=""/>
          <p:cNvSpPr/>
          <p:nvPr/>
        </p:nvSpPr>
        <p:spPr>
          <a:xfrm flipV="1">
            <a:off x="7391520" y="27428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3" name=""/>
          <p:cNvSpPr/>
          <p:nvPr/>
        </p:nvSpPr>
        <p:spPr>
          <a:xfrm>
            <a:off x="7842240" y="498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4" name=""/>
          <p:cNvSpPr/>
          <p:nvPr/>
        </p:nvSpPr>
        <p:spPr>
          <a:xfrm flipV="1">
            <a:off x="76201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5" name=""/>
          <p:cNvSpPr/>
          <p:nvPr/>
        </p:nvSpPr>
        <p:spPr>
          <a:xfrm>
            <a:off x="6338160" y="47530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eph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6" name=""/>
          <p:cNvSpPr/>
          <p:nvPr/>
        </p:nvSpPr>
        <p:spPr>
          <a:xfrm flipH="1">
            <a:off x="71625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7" name=""/>
          <p:cNvSpPr/>
          <p:nvPr/>
        </p:nvSpPr>
        <p:spPr>
          <a:xfrm>
            <a:off x="348768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8" name=""/>
          <p:cNvSpPr/>
          <p:nvPr/>
        </p:nvSpPr>
        <p:spPr>
          <a:xfrm>
            <a:off x="493560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9" name=""/>
          <p:cNvSpPr/>
          <p:nvPr/>
        </p:nvSpPr>
        <p:spPr>
          <a:xfrm>
            <a:off x="3866040" y="198288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0" name=""/>
          <p:cNvSpPr/>
          <p:nvPr/>
        </p:nvSpPr>
        <p:spPr>
          <a:xfrm>
            <a:off x="7770960" y="6524640"/>
            <a:ext cx="108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h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1" name=""/>
          <p:cNvSpPr/>
          <p:nvPr/>
        </p:nvSpPr>
        <p:spPr>
          <a:xfrm>
            <a:off x="171360" y="190440"/>
            <a:ext cx="25527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2" name=""/>
          <p:cNvSpPr/>
          <p:nvPr/>
        </p:nvSpPr>
        <p:spPr>
          <a:xfrm>
            <a:off x="223920" y="249120"/>
            <a:ext cx="2519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70 West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  764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18-6499…Alan Mart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68-416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3" name=""/>
          <p:cNvSpPr/>
          <p:nvPr/>
        </p:nvSpPr>
        <p:spPr>
          <a:xfrm>
            <a:off x="2129760" y="2347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7372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4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5" name=""/>
          <p:cNvSpPr/>
          <p:nvPr/>
        </p:nvSpPr>
        <p:spPr>
          <a:xfrm>
            <a:off x="977040" y="3187800"/>
            <a:ext cx="116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6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7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8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9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1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1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8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9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0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1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30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2" name=""/>
          <p:cNvSpPr/>
          <p:nvPr/>
        </p:nvSpPr>
        <p:spPr>
          <a:xfrm>
            <a:off x="283248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6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4" name=""/>
          <p:cNvSpPr/>
          <p:nvPr/>
        </p:nvSpPr>
        <p:spPr>
          <a:xfrm>
            <a:off x="593964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5" name=""/>
          <p:cNvSpPr/>
          <p:nvPr/>
        </p:nvSpPr>
        <p:spPr>
          <a:xfrm>
            <a:off x="5876640" y="25909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01A-F667-446A-B4A2-879D0C40AAAE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96078-17CF-4E56-8304-659B7F23BC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7" name=""/>
          <p:cNvSpPr/>
          <p:nvPr/>
        </p:nvSpPr>
        <p:spPr>
          <a:xfrm>
            <a:off x="171360" y="190440"/>
            <a:ext cx="2266920" cy="125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8" name=""/>
          <p:cNvSpPr/>
          <p:nvPr/>
        </p:nvSpPr>
        <p:spPr>
          <a:xfrm>
            <a:off x="228240" y="250920"/>
            <a:ext cx="2103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4963…Phil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7998…Rick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9" name=""/>
          <p:cNvSpPr/>
          <p:nvPr/>
        </p:nvSpPr>
        <p:spPr>
          <a:xfrm>
            <a:off x="4038120" y="60800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0" name=""/>
          <p:cNvSpPr/>
          <p:nvPr/>
        </p:nvSpPr>
        <p:spPr>
          <a:xfrm>
            <a:off x="3127680" y="536256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2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1" name=""/>
          <p:cNvSpPr/>
          <p:nvPr/>
        </p:nvSpPr>
        <p:spPr>
          <a:xfrm flipV="1">
            <a:off x="2057400" y="25905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2" name=""/>
          <p:cNvGrpSpPr/>
          <p:nvPr/>
        </p:nvGrpSpPr>
        <p:grpSpPr>
          <a:xfrm>
            <a:off x="6248520" y="1752480"/>
            <a:ext cx="2286360" cy="2133360"/>
            <a:chOff x="6248520" y="1752480"/>
            <a:chExt cx="2286360" cy="2133360"/>
          </a:xfrm>
        </p:grpSpPr>
        <p:sp>
          <p:nvSpPr>
            <p:cNvPr id="11823" name=""/>
            <p:cNvSpPr/>
            <p:nvPr/>
          </p:nvSpPr>
          <p:spPr>
            <a:xfrm>
              <a:off x="7458840" y="1888560"/>
              <a:ext cx="4878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3"/>
                  </a:moveTo>
                  <a:arcTo wR="10800" hR="10800" stAng="-9958573" swAng="11225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3"/>
                  </a:moveTo>
                  <a:arcTo wR="10800" hR="10800" stAng="-9958573" swAng="11225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6248520" y="1922040"/>
              <a:ext cx="628200" cy="62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84" y="20700"/>
                  </a:moveTo>
                  <a:arcTo wR="10800" hR="10800" stAng="6813188" swAng="1240847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84" y="20700"/>
                  </a:moveTo>
                  <a:arcTo wR="10800" hR="10800" stAng="6813188" swAng="124084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>
              <a:off x="6822360" y="1752480"/>
              <a:ext cx="631800" cy="61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3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>
              <a:off x="6276240" y="2489400"/>
              <a:ext cx="63684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64" y="21213"/>
                  </a:moveTo>
                  <a:arcTo wR="10800" hR="10800" stAng="4477321" swAng="10129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64" y="21213"/>
                  </a:moveTo>
                  <a:arcTo wR="10800" hR="10800" stAng="4477321" swAng="101298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6617880" y="2970720"/>
              <a:ext cx="628920" cy="62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805" swAng="10601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805" swAng="106015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>
              <a:off x="7172280" y="3268440"/>
              <a:ext cx="62676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2" y="5684"/>
                  </a:moveTo>
                  <a:arcTo wR="10800" hR="10800" stAng="-1696322" swAng="13035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2" y="5684"/>
                  </a:moveTo>
                  <a:arcTo wR="10800" hR="10800" stAng="-1696322" swAng="130359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>
              <a:off x="7770600" y="3011040"/>
              <a:ext cx="627120" cy="61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7" y="393"/>
                  </a:moveTo>
                  <a:arcTo wR="10800" hR="10800" stAng="-4469684" swAng="13783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7" y="393"/>
                  </a:moveTo>
                  <a:arcTo wR="10800" hR="10800" stAng="-4469684" swAng="13783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>
              <a:off x="7839720" y="2166480"/>
              <a:ext cx="695160" cy="87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6" y="3062"/>
                  </a:moveTo>
                  <a:arcTo wR="10800" hR="10800" stAng="-8054216" swAng="13454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6" y="3062"/>
                  </a:moveTo>
                  <a:arcTo wR="10800" hR="10800" stAng="-8054216" swAng="13454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1" name=""/>
          <p:cNvSpPr/>
          <p:nvPr/>
        </p:nvSpPr>
        <p:spPr>
          <a:xfrm>
            <a:off x="7119720" y="25844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2" name=""/>
          <p:cNvSpPr/>
          <p:nvPr/>
        </p:nvSpPr>
        <p:spPr>
          <a:xfrm>
            <a:off x="4191120" y="4038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3" name=""/>
          <p:cNvGrpSpPr/>
          <p:nvPr/>
        </p:nvGrpSpPr>
        <p:grpSpPr>
          <a:xfrm>
            <a:off x="380880" y="3728880"/>
            <a:ext cx="1217160" cy="1904760"/>
            <a:chOff x="380880" y="3728880"/>
            <a:chExt cx="1217160" cy="1904760"/>
          </a:xfrm>
        </p:grpSpPr>
        <p:sp>
          <p:nvSpPr>
            <p:cNvPr id="11834" name=""/>
            <p:cNvSpPr/>
            <p:nvPr/>
          </p:nvSpPr>
          <p:spPr>
            <a:xfrm>
              <a:off x="1024560" y="3848040"/>
              <a:ext cx="259200" cy="4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511" swAng="11184221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511" swAng="1118422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380880" y="3879720"/>
              <a:ext cx="335880" cy="5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9" y="20711"/>
                  </a:moveTo>
                  <a:arcTo wR="10800" hR="10800" stAng="6804508" swAng="124385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9" y="20711"/>
                  </a:moveTo>
                  <a:arcTo wR="10800" hR="10800" stAng="6804508" swAng="124385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687240" y="3728880"/>
              <a:ext cx="336240" cy="55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300" swAng="106411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300" swAng="106411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395280" y="4386960"/>
              <a:ext cx="338400" cy="55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3" y="21216"/>
                  </a:moveTo>
                  <a:arcTo wR="10800" hR="10800" stAng="4481052" swAng="10127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3" y="21216"/>
                  </a:moveTo>
                  <a:arcTo wR="10800" hR="10800" stAng="4481052" swAng="101272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576000" y="4815720"/>
              <a:ext cx="336960" cy="55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2" y="17447"/>
                  </a:moveTo>
                  <a:arcTo wR="10800" hR="10800" stAng="2279093" swAng="106277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2" y="17447"/>
                  </a:moveTo>
                  <a:arcTo wR="10800" hR="10800" stAng="2279093" swAng="106277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69760" y="5079240"/>
              <a:ext cx="335880" cy="55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5" y="5653"/>
                  </a:moveTo>
                  <a:arcTo wR="10800" hR="10800" stAng="-1707814" swAng="130598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5" y="5653"/>
                  </a:moveTo>
                  <a:arcTo wR="10800" hR="10800" stAng="-1707814" swAng="1305988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1189800" y="4853880"/>
              <a:ext cx="335160" cy="54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5" y="409"/>
                  </a:moveTo>
                  <a:arcTo wR="10800" hR="10800" stAng="-4450591" swAng="13765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5" y="409"/>
                  </a:moveTo>
                  <a:arcTo wR="10800" hR="10800" stAng="-4450591" swAng="1376527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1227600" y="4100400"/>
              <a:ext cx="370440" cy="77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4" y="3035"/>
                  </a:moveTo>
                  <a:arcTo wR="10800" hR="10800" stAng="-8041671" swAng="134416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4" y="3035"/>
                  </a:moveTo>
                  <a:arcTo wR="10800" hR="10800" stAng="-8041671" swAng="1344167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2" name=""/>
          <p:cNvSpPr/>
          <p:nvPr/>
        </p:nvSpPr>
        <p:spPr>
          <a:xfrm>
            <a:off x="536400" y="44942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3" name=""/>
          <p:cNvSpPr/>
          <p:nvPr/>
        </p:nvSpPr>
        <p:spPr>
          <a:xfrm>
            <a:off x="8305920" y="6523200"/>
            <a:ext cx="549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4" name=""/>
          <p:cNvSpPr/>
          <p:nvPr/>
        </p:nvSpPr>
        <p:spPr>
          <a:xfrm>
            <a:off x="1524240" y="4129200"/>
            <a:ext cx="76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al Fu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5" name=""/>
          <p:cNvSpPr/>
          <p:nvPr/>
        </p:nvSpPr>
        <p:spPr>
          <a:xfrm flipH="1">
            <a:off x="4038120" y="52578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6" name=""/>
          <p:cNvSpPr/>
          <p:nvPr/>
        </p:nvSpPr>
        <p:spPr>
          <a:xfrm flipH="1">
            <a:off x="4038120" y="59277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7" name=""/>
          <p:cNvSpPr/>
          <p:nvPr/>
        </p:nvSpPr>
        <p:spPr>
          <a:xfrm>
            <a:off x="4419720" y="525780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8" name=""/>
          <p:cNvSpPr/>
          <p:nvPr/>
        </p:nvSpPr>
        <p:spPr>
          <a:xfrm>
            <a:off x="426708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9" name=""/>
          <p:cNvSpPr/>
          <p:nvPr/>
        </p:nvSpPr>
        <p:spPr>
          <a:xfrm>
            <a:off x="457200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0" name=""/>
          <p:cNvSpPr/>
          <p:nvPr/>
        </p:nvSpPr>
        <p:spPr>
          <a:xfrm flipV="1">
            <a:off x="411480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1" name=""/>
          <p:cNvSpPr/>
          <p:nvPr/>
        </p:nvSpPr>
        <p:spPr>
          <a:xfrm flipV="1">
            <a:off x="472428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2" name=""/>
          <p:cNvSpPr/>
          <p:nvPr/>
        </p:nvSpPr>
        <p:spPr>
          <a:xfrm>
            <a:off x="3581280" y="3886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3" name=""/>
          <p:cNvSpPr/>
          <p:nvPr/>
        </p:nvSpPr>
        <p:spPr>
          <a:xfrm>
            <a:off x="5068440" y="38098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4" name=""/>
          <p:cNvSpPr/>
          <p:nvPr/>
        </p:nvSpPr>
        <p:spPr>
          <a:xfrm flipV="1">
            <a:off x="4876920" y="3962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5" name=""/>
          <p:cNvSpPr/>
          <p:nvPr/>
        </p:nvSpPr>
        <p:spPr>
          <a:xfrm>
            <a:off x="5181480" y="41464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6" name=""/>
          <p:cNvSpPr/>
          <p:nvPr/>
        </p:nvSpPr>
        <p:spPr>
          <a:xfrm>
            <a:off x="5105520" y="4114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7" name=""/>
          <p:cNvSpPr/>
          <p:nvPr/>
        </p:nvSpPr>
        <p:spPr>
          <a:xfrm>
            <a:off x="480060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8" name=""/>
          <p:cNvSpPr/>
          <p:nvPr/>
        </p:nvSpPr>
        <p:spPr>
          <a:xfrm>
            <a:off x="51814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9" name=""/>
          <p:cNvSpPr/>
          <p:nvPr/>
        </p:nvSpPr>
        <p:spPr>
          <a:xfrm>
            <a:off x="51055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0" name=""/>
          <p:cNvSpPr/>
          <p:nvPr/>
        </p:nvSpPr>
        <p:spPr>
          <a:xfrm>
            <a:off x="4800600" y="4648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1" name=""/>
          <p:cNvSpPr/>
          <p:nvPr/>
        </p:nvSpPr>
        <p:spPr>
          <a:xfrm>
            <a:off x="5861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76-0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2" name=""/>
          <p:cNvSpPr/>
          <p:nvPr/>
        </p:nvSpPr>
        <p:spPr>
          <a:xfrm>
            <a:off x="5848560" y="4576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96-04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3" name=""/>
          <p:cNvSpPr/>
          <p:nvPr/>
        </p:nvSpPr>
        <p:spPr>
          <a:xfrm flipH="1">
            <a:off x="1523520" y="47242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4" name=""/>
          <p:cNvSpPr/>
          <p:nvPr/>
        </p:nvSpPr>
        <p:spPr>
          <a:xfrm>
            <a:off x="4038480" y="4267080"/>
            <a:ext cx="7621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5" name=""/>
          <p:cNvSpPr/>
          <p:nvPr/>
        </p:nvSpPr>
        <p:spPr>
          <a:xfrm flipH="1">
            <a:off x="1447920" y="510552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6" name=""/>
          <p:cNvSpPr/>
          <p:nvPr/>
        </p:nvSpPr>
        <p:spPr>
          <a:xfrm flipH="1">
            <a:off x="1523520" y="4343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7" name=""/>
          <p:cNvSpPr/>
          <p:nvPr/>
        </p:nvSpPr>
        <p:spPr>
          <a:xfrm>
            <a:off x="1524960" y="4510080"/>
            <a:ext cx="59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ve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8" name=""/>
          <p:cNvSpPr/>
          <p:nvPr/>
        </p:nvSpPr>
        <p:spPr>
          <a:xfrm>
            <a:off x="1523880" y="4876920"/>
            <a:ext cx="660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9" name=""/>
          <p:cNvSpPr/>
          <p:nvPr/>
        </p:nvSpPr>
        <p:spPr>
          <a:xfrm>
            <a:off x="2198160" y="4876920"/>
            <a:ext cx="121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79031 (154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0" name=""/>
          <p:cNvSpPr/>
          <p:nvPr/>
        </p:nvSpPr>
        <p:spPr>
          <a:xfrm>
            <a:off x="2135880" y="4510080"/>
            <a:ext cx="1274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1 HWDA 38479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1" name=""/>
          <p:cNvSpPr/>
          <p:nvPr/>
        </p:nvSpPr>
        <p:spPr>
          <a:xfrm>
            <a:off x="2260800" y="4114800"/>
            <a:ext cx="1132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WDA 5064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2" name=""/>
          <p:cNvSpPr/>
          <p:nvPr/>
        </p:nvSpPr>
        <p:spPr>
          <a:xfrm>
            <a:off x="4140360" y="4479840"/>
            <a:ext cx="56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3" name=""/>
          <p:cNvSpPr/>
          <p:nvPr/>
        </p:nvSpPr>
        <p:spPr>
          <a:xfrm>
            <a:off x="342252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4" name=""/>
          <p:cNvSpPr/>
          <p:nvPr/>
        </p:nvSpPr>
        <p:spPr>
          <a:xfrm>
            <a:off x="3429000" y="45100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5" name=""/>
          <p:cNvSpPr/>
          <p:nvPr/>
        </p:nvSpPr>
        <p:spPr>
          <a:xfrm>
            <a:off x="3429000" y="4890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6" name=""/>
          <p:cNvSpPr/>
          <p:nvPr/>
        </p:nvSpPr>
        <p:spPr>
          <a:xfrm>
            <a:off x="449820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7" name=""/>
          <p:cNvSpPr/>
          <p:nvPr/>
        </p:nvSpPr>
        <p:spPr>
          <a:xfrm>
            <a:off x="7517520" y="4052880"/>
            <a:ext cx="130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WAY96-4839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8" name=""/>
          <p:cNvSpPr/>
          <p:nvPr/>
        </p:nvSpPr>
        <p:spPr>
          <a:xfrm>
            <a:off x="685764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9" name=""/>
          <p:cNvSpPr/>
          <p:nvPr/>
        </p:nvSpPr>
        <p:spPr>
          <a:xfrm>
            <a:off x="7086600" y="5410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0" name=""/>
          <p:cNvSpPr/>
          <p:nvPr/>
        </p:nvSpPr>
        <p:spPr>
          <a:xfrm>
            <a:off x="7535160" y="4419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1" name=""/>
          <p:cNvSpPr/>
          <p:nvPr/>
        </p:nvSpPr>
        <p:spPr>
          <a:xfrm>
            <a:off x="7467480" y="388620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2" name=""/>
          <p:cNvSpPr/>
          <p:nvPr/>
        </p:nvSpPr>
        <p:spPr>
          <a:xfrm>
            <a:off x="628344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3" name=""/>
          <p:cNvSpPr/>
          <p:nvPr/>
        </p:nvSpPr>
        <p:spPr>
          <a:xfrm>
            <a:off x="716292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4" name=""/>
          <p:cNvSpPr/>
          <p:nvPr/>
        </p:nvSpPr>
        <p:spPr>
          <a:xfrm>
            <a:off x="7620120" y="50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5" name=""/>
          <p:cNvSpPr/>
          <p:nvPr/>
        </p:nvSpPr>
        <p:spPr>
          <a:xfrm flipV="1">
            <a:off x="746748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6" name=""/>
          <p:cNvSpPr/>
          <p:nvPr/>
        </p:nvSpPr>
        <p:spPr>
          <a:xfrm>
            <a:off x="4804560" y="281952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7" name=""/>
          <p:cNvSpPr/>
          <p:nvPr/>
        </p:nvSpPr>
        <p:spPr>
          <a:xfrm>
            <a:off x="5034240" y="259092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8" name=""/>
          <p:cNvSpPr/>
          <p:nvPr/>
        </p:nvSpPr>
        <p:spPr>
          <a:xfrm>
            <a:off x="4800600" y="2819520"/>
            <a:ext cx="149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9" name=""/>
          <p:cNvSpPr/>
          <p:nvPr/>
        </p:nvSpPr>
        <p:spPr>
          <a:xfrm>
            <a:off x="4138560" y="2527200"/>
            <a:ext cx="63360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0" name=""/>
          <p:cNvSpPr/>
          <p:nvPr/>
        </p:nvSpPr>
        <p:spPr>
          <a:xfrm>
            <a:off x="4105440" y="2589120"/>
            <a:ext cx="77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1" name=""/>
          <p:cNvSpPr/>
          <p:nvPr/>
        </p:nvSpPr>
        <p:spPr>
          <a:xfrm>
            <a:off x="446724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2" name=""/>
          <p:cNvSpPr/>
          <p:nvPr/>
        </p:nvSpPr>
        <p:spPr>
          <a:xfrm>
            <a:off x="5142960" y="489096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1 / 330-346-07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3" name=""/>
          <p:cNvSpPr/>
          <p:nvPr/>
        </p:nvSpPr>
        <p:spPr>
          <a:xfrm>
            <a:off x="5142960" y="5043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3 / 330-346-0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4" name=""/>
          <p:cNvSpPr/>
          <p:nvPr/>
        </p:nvSpPr>
        <p:spPr>
          <a:xfrm>
            <a:off x="480060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5" name=""/>
          <p:cNvSpPr/>
          <p:nvPr/>
        </p:nvSpPr>
        <p:spPr>
          <a:xfrm>
            <a:off x="480060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2CD-BC02-406B-9844-09DCFC79D932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33D45-84B9-4395-A335-341C1D2B94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9" name=""/>
          <p:cNvSpPr/>
          <p:nvPr/>
        </p:nvSpPr>
        <p:spPr>
          <a:xfrm>
            <a:off x="228600" y="152280"/>
            <a:ext cx="236232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io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350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2" name=""/>
          <p:cNvSpPr/>
          <p:nvPr/>
        </p:nvSpPr>
        <p:spPr>
          <a:xfrm>
            <a:off x="6682320" y="2360520"/>
            <a:ext cx="68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6" name=""/>
          <p:cNvSpPr/>
          <p:nvPr/>
        </p:nvSpPr>
        <p:spPr>
          <a:xfrm>
            <a:off x="707292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7" name=""/>
          <p:cNvSpPr/>
          <p:nvPr/>
        </p:nvSpPr>
        <p:spPr>
          <a:xfrm>
            <a:off x="6629400" y="2286000"/>
            <a:ext cx="7621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8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9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0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1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2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3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4" name=""/>
          <p:cNvSpPr/>
          <p:nvPr/>
        </p:nvSpPr>
        <p:spPr>
          <a:xfrm>
            <a:off x="71629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5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1916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4" name=""/>
          <p:cNvSpPr/>
          <p:nvPr/>
        </p:nvSpPr>
        <p:spPr>
          <a:xfrm>
            <a:off x="7072560" y="4038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5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6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7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8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War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Modem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9" name=""/>
          <p:cNvSpPr/>
          <p:nvPr/>
        </p:nvSpPr>
        <p:spPr>
          <a:xfrm>
            <a:off x="1066680" y="3048120"/>
            <a:ext cx="434340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Single valid external IP address assign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Lotus Domino server also runs on Firewall 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Encryption domain configured for SecuRemote acc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193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9BC-5B12-4D43-9EAF-0BFAED174144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C5162-2B44-4FD7-A1E1-06F41FA2EEB8}" type="datetime1">
              <a:rPr lang="en-US"/>
              <a:t>07/30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lmadg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8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1949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7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8" name=""/>
          <p:cNvSpPr/>
          <p:nvPr/>
        </p:nvSpPr>
        <p:spPr>
          <a:xfrm>
            <a:off x="68508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5" name=""/>
          <p:cNvSpPr/>
          <p:nvPr/>
        </p:nvSpPr>
        <p:spPr>
          <a:xfrm>
            <a:off x="1600200" y="2819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6" name=""/>
          <p:cNvSpPr/>
          <p:nvPr/>
        </p:nvSpPr>
        <p:spPr>
          <a:xfrm flipV="1">
            <a:off x="762012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3" name=""/>
          <p:cNvSpPr/>
          <p:nvPr/>
        </p:nvSpPr>
        <p:spPr>
          <a:xfrm>
            <a:off x="67050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llmad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4" name=""/>
          <p:cNvSpPr/>
          <p:nvPr/>
        </p:nvSpPr>
        <p:spPr>
          <a:xfrm>
            <a:off x="3771360" y="2041560"/>
            <a:ext cx="157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79031 O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4-5455 (Hi-Ca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7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8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9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0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4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5" name=""/>
          <p:cNvSpPr/>
          <p:nvPr/>
        </p:nvSpPr>
        <p:spPr>
          <a:xfrm>
            <a:off x="3836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6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7" name=""/>
          <p:cNvSpPr/>
          <p:nvPr/>
        </p:nvSpPr>
        <p:spPr>
          <a:xfrm>
            <a:off x="248040" y="223920"/>
            <a:ext cx="2132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  442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33-5624…Todd Kestr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8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3" name=""/>
          <p:cNvSpPr/>
          <p:nvPr/>
        </p:nvSpPr>
        <p:spPr>
          <a:xfrm>
            <a:off x="7315200" y="252108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4" name=""/>
          <p:cNvSpPr/>
          <p:nvPr/>
        </p:nvSpPr>
        <p:spPr>
          <a:xfrm>
            <a:off x="7238880" y="256860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5" name=""/>
          <p:cNvSpPr/>
          <p:nvPr/>
        </p:nvSpPr>
        <p:spPr>
          <a:xfrm>
            <a:off x="3173040" y="4800600"/>
            <a:ext cx="179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xxx-xxx-xxxx / xxx-xxx-xxxx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D2F-4F7E-4915-BC3B-6FDA8A0D7757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80903-7C61-43BE-9040-D99FFB3C9C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mpa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200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0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4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m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6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9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3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0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1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4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5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10 Boy Scout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orida  336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3) 873-4000…Jeff Newell x-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6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m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8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9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9429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0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2A5-F410-41B0-B0DB-3883C8A3999D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C2C86-21D1-4E14-B715-AD7C86489D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air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7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914400" y="5867280"/>
            <a:ext cx="1371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i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Princet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eorgia  30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773-7530…Joe Mee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13552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313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761880" y="38098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dai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64280" y="35053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8600" y="5226120"/>
            <a:ext cx="108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DAIRS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729-A593-4056-A10D-7522DBA0B7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3A95F-19BD-42F7-A7B3-0723470194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4" name=""/>
          <p:cNvGrpSpPr/>
          <p:nvPr/>
        </p:nvGrpSpPr>
        <p:grpSpPr>
          <a:xfrm>
            <a:off x="3863880" y="1754280"/>
            <a:ext cx="2133360" cy="3503160"/>
            <a:chOff x="3863880" y="1754280"/>
            <a:chExt cx="2133360" cy="3503160"/>
          </a:xfrm>
        </p:grpSpPr>
        <p:sp>
          <p:nvSpPr>
            <p:cNvPr id="12055" name=""/>
            <p:cNvSpPr/>
            <p:nvPr/>
          </p:nvSpPr>
          <p:spPr>
            <a:xfrm>
              <a:off x="499104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6" name=""/>
            <p:cNvSpPr/>
            <p:nvPr/>
          </p:nvSpPr>
          <p:spPr>
            <a:xfrm>
              <a:off x="386388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7" name=""/>
            <p:cNvSpPr/>
            <p:nvPr/>
          </p:nvSpPr>
          <p:spPr>
            <a:xfrm>
              <a:off x="439884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8" name=""/>
            <p:cNvSpPr/>
            <p:nvPr/>
          </p:nvSpPr>
          <p:spPr>
            <a:xfrm>
              <a:off x="388944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9" name=""/>
            <p:cNvSpPr/>
            <p:nvPr/>
          </p:nvSpPr>
          <p:spPr>
            <a:xfrm>
              <a:off x="420840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0" name=""/>
            <p:cNvSpPr/>
            <p:nvPr/>
          </p:nvSpPr>
          <p:spPr>
            <a:xfrm>
              <a:off x="472140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1" name=""/>
            <p:cNvSpPr/>
            <p:nvPr/>
          </p:nvSpPr>
          <p:spPr>
            <a:xfrm>
              <a:off x="528192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2" name=""/>
            <p:cNvSpPr/>
            <p:nvPr/>
          </p:nvSpPr>
          <p:spPr>
            <a:xfrm>
              <a:off x="534852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6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5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7" name=""/>
          <p:cNvSpPr/>
          <p:nvPr/>
        </p:nvSpPr>
        <p:spPr>
          <a:xfrm>
            <a:off x="419400" y="3960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3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4" name=""/>
          <p:cNvSpPr/>
          <p:nvPr/>
        </p:nvSpPr>
        <p:spPr>
          <a:xfrm>
            <a:off x="19051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5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6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7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8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9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0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1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2" name=""/>
          <p:cNvSpPr/>
          <p:nvPr/>
        </p:nvSpPr>
        <p:spPr>
          <a:xfrm>
            <a:off x="6363000" y="4191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3" name=""/>
          <p:cNvSpPr/>
          <p:nvPr/>
        </p:nvSpPr>
        <p:spPr>
          <a:xfrm>
            <a:off x="39211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4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5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6" name=""/>
          <p:cNvSpPr/>
          <p:nvPr/>
        </p:nvSpPr>
        <p:spPr>
          <a:xfrm>
            <a:off x="429948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9" name=""/>
          <p:cNvSpPr/>
          <p:nvPr/>
        </p:nvSpPr>
        <p:spPr>
          <a:xfrm>
            <a:off x="60199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0" name=""/>
          <p:cNvSpPr/>
          <p:nvPr/>
        </p:nvSpPr>
        <p:spPr>
          <a:xfrm>
            <a:off x="53690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1" name=""/>
          <p:cNvSpPr/>
          <p:nvPr/>
        </p:nvSpPr>
        <p:spPr>
          <a:xfrm>
            <a:off x="63111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2" name=""/>
          <p:cNvSpPr/>
          <p:nvPr/>
        </p:nvSpPr>
        <p:spPr>
          <a:xfrm>
            <a:off x="62463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3" name=""/>
          <p:cNvSpPr/>
          <p:nvPr/>
        </p:nvSpPr>
        <p:spPr>
          <a:xfrm>
            <a:off x="233928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341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4" name=""/>
          <p:cNvSpPr/>
          <p:nvPr/>
        </p:nvSpPr>
        <p:spPr>
          <a:xfrm>
            <a:off x="2288160" y="32767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685748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6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7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8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9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6F8-263A-47AD-A585-4F3B1EAD0FC8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6FF3C-622F-4853-9F8F-70BFA6556C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velers Rest, 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21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ers 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4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7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0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1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3" name=""/>
          <p:cNvSpPr/>
          <p:nvPr/>
        </p:nvSpPr>
        <p:spPr>
          <a:xfrm>
            <a:off x="5181480" y="2895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4" name=""/>
          <p:cNvSpPr/>
          <p:nvPr/>
        </p:nvSpPr>
        <p:spPr>
          <a:xfrm>
            <a:off x="7577640" y="78732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8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5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7" name=""/>
          <p:cNvSpPr/>
          <p:nvPr/>
        </p:nvSpPr>
        <p:spPr>
          <a:xfrm>
            <a:off x="320544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4) 834-72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9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1" name=""/>
          <p:cNvSpPr/>
          <p:nvPr/>
        </p:nvSpPr>
        <p:spPr>
          <a:xfrm>
            <a:off x="838800" y="2819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2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3" name=""/>
          <p:cNvSpPr/>
          <p:nvPr/>
        </p:nvSpPr>
        <p:spPr>
          <a:xfrm>
            <a:off x="199476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4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5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6" name=""/>
          <p:cNvSpPr/>
          <p:nvPr/>
        </p:nvSpPr>
        <p:spPr>
          <a:xfrm>
            <a:off x="8000640" y="467676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7" name=""/>
          <p:cNvSpPr/>
          <p:nvPr/>
        </p:nvSpPr>
        <p:spPr>
          <a:xfrm>
            <a:off x="8000640" y="175248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8" name=""/>
          <p:cNvSpPr/>
          <p:nvPr/>
        </p:nvSpPr>
        <p:spPr>
          <a:xfrm>
            <a:off x="171360" y="190440"/>
            <a:ext cx="24764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9" name=""/>
          <p:cNvSpPr/>
          <p:nvPr/>
        </p:nvSpPr>
        <p:spPr>
          <a:xfrm>
            <a:off x="211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nst Winter &amp; Son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Wilhelm Wi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  296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5-4901…John McFalls x-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0" name=""/>
          <p:cNvSpPr/>
          <p:nvPr/>
        </p:nvSpPr>
        <p:spPr>
          <a:xfrm>
            <a:off x="198360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1" name=""/>
          <p:cNvSpPr/>
          <p:nvPr/>
        </p:nvSpPr>
        <p:spPr>
          <a:xfrm flipH="1">
            <a:off x="1142640" y="4943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2" name=""/>
          <p:cNvSpPr/>
          <p:nvPr/>
        </p:nvSpPr>
        <p:spPr>
          <a:xfrm>
            <a:off x="2362320" y="456264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3" name=""/>
          <p:cNvSpPr/>
          <p:nvPr/>
        </p:nvSpPr>
        <p:spPr>
          <a:xfrm>
            <a:off x="2286000" y="45626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4" name=""/>
          <p:cNvSpPr/>
          <p:nvPr/>
        </p:nvSpPr>
        <p:spPr>
          <a:xfrm>
            <a:off x="2133720" y="47912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5" name=""/>
          <p:cNvSpPr/>
          <p:nvPr/>
        </p:nvSpPr>
        <p:spPr>
          <a:xfrm flipH="1">
            <a:off x="2133360" y="5095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0" name=""/>
          <p:cNvSpPr/>
          <p:nvPr/>
        </p:nvSpPr>
        <p:spPr>
          <a:xfrm>
            <a:off x="2698560" y="4967280"/>
            <a:ext cx="203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   864-246-3562 / 864-246-35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1" name=""/>
          <p:cNvSpPr/>
          <p:nvPr/>
        </p:nvSpPr>
        <p:spPr>
          <a:xfrm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3" name=""/>
          <p:cNvSpPr/>
          <p:nvPr/>
        </p:nvSpPr>
        <p:spPr>
          <a:xfrm>
            <a:off x="545544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4" name=""/>
          <p:cNvSpPr/>
          <p:nvPr/>
        </p:nvSpPr>
        <p:spPr>
          <a:xfrm>
            <a:off x="5412600" y="290988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B93-7B9D-4570-98AA-24CA99C22BA5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58E0C-B1B3-4219-9A3B-5884202C95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8" name=""/>
          <p:cNvSpPr/>
          <p:nvPr/>
        </p:nvSpPr>
        <p:spPr>
          <a:xfrm>
            <a:off x="96480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0" name=""/>
          <p:cNvSpPr/>
          <p:nvPr/>
        </p:nvSpPr>
        <p:spPr>
          <a:xfrm>
            <a:off x="183132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1" name=""/>
          <p:cNvSpPr/>
          <p:nvPr/>
        </p:nvSpPr>
        <p:spPr>
          <a:xfrm>
            <a:off x="324000" y="53784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3" name=""/>
          <p:cNvSpPr/>
          <p:nvPr/>
        </p:nvSpPr>
        <p:spPr>
          <a:xfrm flipV="1">
            <a:off x="160020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9" name=""/>
          <p:cNvSpPr/>
          <p:nvPr/>
        </p:nvSpPr>
        <p:spPr>
          <a:xfrm flipV="1">
            <a:off x="18288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0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1" name=""/>
          <p:cNvSpPr/>
          <p:nvPr/>
        </p:nvSpPr>
        <p:spPr>
          <a:xfrm>
            <a:off x="8003520" y="4648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2" name=""/>
          <p:cNvSpPr/>
          <p:nvPr/>
        </p:nvSpPr>
        <p:spPr>
          <a:xfrm>
            <a:off x="25146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3" name=""/>
          <p:cNvSpPr/>
          <p:nvPr/>
        </p:nvSpPr>
        <p:spPr>
          <a:xfrm>
            <a:off x="2438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4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5" name=""/>
          <p:cNvSpPr/>
          <p:nvPr/>
        </p:nvSpPr>
        <p:spPr>
          <a:xfrm>
            <a:off x="320544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274-1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7" name=""/>
          <p:cNvSpPr/>
          <p:nvPr/>
        </p:nvSpPr>
        <p:spPr>
          <a:xfrm>
            <a:off x="241560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8" name=""/>
          <p:cNvSpPr/>
          <p:nvPr/>
        </p:nvSpPr>
        <p:spPr>
          <a:xfrm>
            <a:off x="2345400" y="25909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0" name=""/>
          <p:cNvSpPr/>
          <p:nvPr/>
        </p:nvSpPr>
        <p:spPr>
          <a:xfrm>
            <a:off x="90612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1" name=""/>
          <p:cNvSpPr/>
          <p:nvPr/>
        </p:nvSpPr>
        <p:spPr>
          <a:xfrm>
            <a:off x="171360" y="190440"/>
            <a:ext cx="25527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2" name=""/>
          <p:cNvSpPr/>
          <p:nvPr/>
        </p:nvSpPr>
        <p:spPr>
          <a:xfrm>
            <a:off x="201600" y="228600"/>
            <a:ext cx="2541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00 10th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  12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67...Paul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84-5326 Paul Miller’s p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21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85 x-269…Bill M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743 x-743…Pat H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3" name=""/>
          <p:cNvSpPr/>
          <p:nvPr/>
        </p:nvSpPr>
        <p:spPr>
          <a:xfrm>
            <a:off x="171360" y="4006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4" name=""/>
          <p:cNvSpPr/>
          <p:nvPr/>
        </p:nvSpPr>
        <p:spPr>
          <a:xfrm flipH="1">
            <a:off x="838080" y="3809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5" name=""/>
          <p:cNvSpPr/>
          <p:nvPr/>
        </p:nvSpPr>
        <p:spPr>
          <a:xfrm>
            <a:off x="457200" y="3657600"/>
            <a:ext cx="3808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6" name=""/>
          <p:cNvSpPr/>
          <p:nvPr/>
        </p:nvSpPr>
        <p:spPr>
          <a:xfrm>
            <a:off x="1066680" y="426708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7" name=""/>
          <p:cNvSpPr/>
          <p:nvPr/>
        </p:nvSpPr>
        <p:spPr>
          <a:xfrm>
            <a:off x="2118600" y="536400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8" name=""/>
          <p:cNvSpPr/>
          <p:nvPr/>
        </p:nvSpPr>
        <p:spPr>
          <a:xfrm flipH="1" flipV="1">
            <a:off x="1905120" y="5213520"/>
            <a:ext cx="234720" cy="25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9" name=""/>
          <p:cNvSpPr/>
          <p:nvPr/>
        </p:nvSpPr>
        <p:spPr>
          <a:xfrm>
            <a:off x="2503800" y="5105520"/>
            <a:ext cx="933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GLEN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0" name=""/>
          <p:cNvSpPr/>
          <p:nvPr/>
        </p:nvSpPr>
        <p:spPr>
          <a:xfrm>
            <a:off x="1828800" y="5181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1" name=""/>
          <p:cNvSpPr/>
          <p:nvPr/>
        </p:nvSpPr>
        <p:spPr>
          <a:xfrm flipV="1">
            <a:off x="182880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2" name=""/>
          <p:cNvSpPr/>
          <p:nvPr/>
        </p:nvSpPr>
        <p:spPr>
          <a:xfrm>
            <a:off x="247572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18-266-0860 / 518-266-0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3" name=""/>
          <p:cNvGrpSpPr/>
          <p:nvPr/>
        </p:nvGrpSpPr>
        <p:grpSpPr>
          <a:xfrm>
            <a:off x="3581280" y="990720"/>
            <a:ext cx="1905840" cy="3503160"/>
            <a:chOff x="3581280" y="990720"/>
            <a:chExt cx="1905840" cy="3503160"/>
          </a:xfrm>
        </p:grpSpPr>
        <p:sp>
          <p:nvSpPr>
            <p:cNvPr id="12204" name=""/>
            <p:cNvSpPr/>
            <p:nvPr/>
          </p:nvSpPr>
          <p:spPr>
            <a:xfrm>
              <a:off x="45882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5" name=""/>
            <p:cNvSpPr/>
            <p:nvPr/>
          </p:nvSpPr>
          <p:spPr>
            <a:xfrm>
              <a:off x="35812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6" name=""/>
            <p:cNvSpPr/>
            <p:nvPr/>
          </p:nvSpPr>
          <p:spPr>
            <a:xfrm>
              <a:off x="40593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7" name=""/>
            <p:cNvSpPr/>
            <p:nvPr/>
          </p:nvSpPr>
          <p:spPr>
            <a:xfrm>
              <a:off x="36036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8" name=""/>
            <p:cNvSpPr/>
            <p:nvPr/>
          </p:nvSpPr>
          <p:spPr>
            <a:xfrm>
              <a:off x="38890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9" name=""/>
            <p:cNvSpPr/>
            <p:nvPr/>
          </p:nvSpPr>
          <p:spPr>
            <a:xfrm>
              <a:off x="43470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0" name=""/>
            <p:cNvSpPr/>
            <p:nvPr/>
          </p:nvSpPr>
          <p:spPr>
            <a:xfrm>
              <a:off x="48484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1" name=""/>
            <p:cNvSpPr/>
            <p:nvPr/>
          </p:nvSpPr>
          <p:spPr>
            <a:xfrm>
              <a:off x="49075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2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5" name=""/>
          <p:cNvSpPr/>
          <p:nvPr/>
        </p:nvSpPr>
        <p:spPr>
          <a:xfrm>
            <a:off x="39135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6" name=""/>
          <p:cNvSpPr/>
          <p:nvPr/>
        </p:nvSpPr>
        <p:spPr>
          <a:xfrm>
            <a:off x="46483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7" name=""/>
          <p:cNvSpPr/>
          <p:nvPr/>
        </p:nvSpPr>
        <p:spPr>
          <a:xfrm>
            <a:off x="46483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8" name=""/>
          <p:cNvSpPr/>
          <p:nvPr/>
        </p:nvSpPr>
        <p:spPr>
          <a:xfrm>
            <a:off x="5334120" y="3657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9" name=""/>
          <p:cNvSpPr/>
          <p:nvPr/>
        </p:nvSpPr>
        <p:spPr>
          <a:xfrm>
            <a:off x="7453800" y="7873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1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3" name=""/>
          <p:cNvSpPr/>
          <p:nvPr/>
        </p:nvSpPr>
        <p:spPr>
          <a:xfrm>
            <a:off x="3657600" y="2438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4" name=""/>
          <p:cNvSpPr/>
          <p:nvPr/>
        </p:nvSpPr>
        <p:spPr>
          <a:xfrm>
            <a:off x="59284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5" name=""/>
          <p:cNvSpPr/>
          <p:nvPr/>
        </p:nvSpPr>
        <p:spPr>
          <a:xfrm>
            <a:off x="58654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6" name=""/>
          <p:cNvSpPr/>
          <p:nvPr/>
        </p:nvSpPr>
        <p:spPr>
          <a:xfrm>
            <a:off x="1831320" y="3732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7" name=""/>
          <p:cNvSpPr/>
          <p:nvPr/>
        </p:nvSpPr>
        <p:spPr>
          <a:xfrm>
            <a:off x="7238880" y="6507000"/>
            <a:ext cx="158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8" name=""/>
          <p:cNvSpPr/>
          <p:nvPr/>
        </p:nvSpPr>
        <p:spPr>
          <a:xfrm>
            <a:off x="1371600" y="3809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1" name=""/>
          <p:cNvSpPr/>
          <p:nvPr/>
        </p:nvSpPr>
        <p:spPr>
          <a:xfrm flipV="1">
            <a:off x="12193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3" name=""/>
          <p:cNvSpPr/>
          <p:nvPr/>
        </p:nvSpPr>
        <p:spPr>
          <a:xfrm>
            <a:off x="5920560" y="2604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4" name=""/>
          <p:cNvSpPr/>
          <p:nvPr/>
        </p:nvSpPr>
        <p:spPr>
          <a:xfrm>
            <a:off x="5869440" y="2833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5" name=""/>
          <p:cNvSpPr/>
          <p:nvPr/>
        </p:nvSpPr>
        <p:spPr>
          <a:xfrm>
            <a:off x="5410080" y="28195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7" name=""/>
          <p:cNvSpPr/>
          <p:nvPr/>
        </p:nvSpPr>
        <p:spPr>
          <a:xfrm>
            <a:off x="914400" y="1674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8" name=""/>
          <p:cNvSpPr/>
          <p:nvPr/>
        </p:nvSpPr>
        <p:spPr>
          <a:xfrm>
            <a:off x="91728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9" name=""/>
          <p:cNvSpPr/>
          <p:nvPr/>
        </p:nvSpPr>
        <p:spPr>
          <a:xfrm>
            <a:off x="9637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0" name=""/>
          <p:cNvSpPr/>
          <p:nvPr/>
        </p:nvSpPr>
        <p:spPr>
          <a:xfrm>
            <a:off x="149976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1" name=""/>
          <p:cNvSpPr/>
          <p:nvPr/>
        </p:nvSpPr>
        <p:spPr>
          <a:xfrm>
            <a:off x="963720" y="2743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2" name=""/>
          <p:cNvSpPr/>
          <p:nvPr/>
        </p:nvSpPr>
        <p:spPr>
          <a:xfrm>
            <a:off x="15732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3" name=""/>
          <p:cNvSpPr/>
          <p:nvPr/>
        </p:nvSpPr>
        <p:spPr>
          <a:xfrm>
            <a:off x="963720" y="2971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4" name=""/>
          <p:cNvSpPr/>
          <p:nvPr/>
        </p:nvSpPr>
        <p:spPr>
          <a:xfrm>
            <a:off x="1269360" y="2757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5" name=""/>
          <p:cNvSpPr/>
          <p:nvPr/>
        </p:nvSpPr>
        <p:spPr>
          <a:xfrm>
            <a:off x="1250280" y="2940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6" name=""/>
          <p:cNvSpPr/>
          <p:nvPr/>
        </p:nvSpPr>
        <p:spPr>
          <a:xfrm flipV="1">
            <a:off x="1295280" y="2025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7" name=""/>
          <p:cNvSpPr/>
          <p:nvPr/>
        </p:nvSpPr>
        <p:spPr>
          <a:xfrm>
            <a:off x="220968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A1E-87BC-498F-9572-19567138795F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3E482-3EDA-4B55-9DB6-7C82DBFE53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mbauersvill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1" name=""/>
          <p:cNvGrpSpPr/>
          <p:nvPr/>
        </p:nvGrpSpPr>
        <p:grpSpPr>
          <a:xfrm>
            <a:off x="3430440" y="2440080"/>
            <a:ext cx="2133360" cy="1750680"/>
            <a:chOff x="3430440" y="2440080"/>
            <a:chExt cx="2133360" cy="1750680"/>
          </a:xfrm>
        </p:grpSpPr>
        <p:sp>
          <p:nvSpPr>
            <p:cNvPr id="12252" name=""/>
            <p:cNvSpPr/>
            <p:nvPr/>
          </p:nvSpPr>
          <p:spPr>
            <a:xfrm>
              <a:off x="4557600" y="2551680"/>
              <a:ext cx="455400" cy="46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3" name=""/>
            <p:cNvSpPr/>
            <p:nvPr/>
          </p:nvSpPr>
          <p:spPr>
            <a:xfrm>
              <a:off x="3430440" y="2581200"/>
              <a:ext cx="586800" cy="51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4" name=""/>
            <p:cNvSpPr/>
            <p:nvPr/>
          </p:nvSpPr>
          <p:spPr>
            <a:xfrm>
              <a:off x="3965400" y="2440080"/>
              <a:ext cx="590400" cy="50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5" name=""/>
            <p:cNvSpPr/>
            <p:nvPr/>
          </p:nvSpPr>
          <p:spPr>
            <a:xfrm>
              <a:off x="3456000" y="3047400"/>
              <a:ext cx="589320" cy="50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6" name=""/>
            <p:cNvSpPr/>
            <p:nvPr/>
          </p:nvSpPr>
          <p:spPr>
            <a:xfrm>
              <a:off x="3774960" y="3440880"/>
              <a:ext cx="587880" cy="5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7" name=""/>
            <p:cNvSpPr/>
            <p:nvPr/>
          </p:nvSpPr>
          <p:spPr>
            <a:xfrm>
              <a:off x="4287960" y="3683520"/>
              <a:ext cx="5868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8" name=""/>
            <p:cNvSpPr/>
            <p:nvPr/>
          </p:nvSpPr>
          <p:spPr>
            <a:xfrm>
              <a:off x="4848480" y="3472560"/>
              <a:ext cx="586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9" name=""/>
            <p:cNvSpPr/>
            <p:nvPr/>
          </p:nvSpPr>
          <p:spPr>
            <a:xfrm>
              <a:off x="4915080" y="2777760"/>
              <a:ext cx="648720" cy="71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1" name=""/>
          <p:cNvSpPr/>
          <p:nvPr/>
        </p:nvSpPr>
        <p:spPr>
          <a:xfrm>
            <a:off x="7086600" y="6507000"/>
            <a:ext cx="175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3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5" name=""/>
          <p:cNvSpPr/>
          <p:nvPr/>
        </p:nvSpPr>
        <p:spPr>
          <a:xfrm>
            <a:off x="532800" y="4114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1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2" name=""/>
          <p:cNvSpPr/>
          <p:nvPr/>
        </p:nvSpPr>
        <p:spPr>
          <a:xfrm>
            <a:off x="2057400" y="32767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3" name=""/>
          <p:cNvSpPr/>
          <p:nvPr/>
        </p:nvSpPr>
        <p:spPr>
          <a:xfrm flipV="1">
            <a:off x="7620120" y="3505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4" name=""/>
          <p:cNvSpPr/>
          <p:nvPr/>
        </p:nvSpPr>
        <p:spPr>
          <a:xfrm flipH="1" flipV="1">
            <a:off x="7314840" y="5028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0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1" name=""/>
          <p:cNvSpPr/>
          <p:nvPr/>
        </p:nvSpPr>
        <p:spPr>
          <a:xfrm>
            <a:off x="6552720" y="48006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2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3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lly North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75 Kum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, Pennsylvania  189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Jaci Reiter…1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Chris Metzger…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Paul Czachor…1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4" name=""/>
          <p:cNvSpPr/>
          <p:nvPr/>
        </p:nvSpPr>
        <p:spPr>
          <a:xfrm>
            <a:off x="3733920" y="2666880"/>
            <a:ext cx="139680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XHGS 1171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5" name=""/>
          <p:cNvSpPr/>
          <p:nvPr/>
        </p:nvSpPr>
        <p:spPr>
          <a:xfrm>
            <a:off x="716292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6" name=""/>
          <p:cNvSpPr/>
          <p:nvPr/>
        </p:nvSpPr>
        <p:spPr>
          <a:xfrm>
            <a:off x="717228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7" name=""/>
          <p:cNvSpPr/>
          <p:nvPr/>
        </p:nvSpPr>
        <p:spPr>
          <a:xfrm>
            <a:off x="114300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8" name=""/>
          <p:cNvSpPr/>
          <p:nvPr/>
        </p:nvSpPr>
        <p:spPr>
          <a:xfrm>
            <a:off x="115236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4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CE6-64C0-4AAD-9180-4601797B43BA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73ADA-863D-4C48-8CBE-7927077DFF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Customer Service Anne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9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- Customer Service Ann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0" name=""/>
          <p:cNvGrpSpPr/>
          <p:nvPr/>
        </p:nvGrpSpPr>
        <p:grpSpPr>
          <a:xfrm>
            <a:off x="3429000" y="1371600"/>
            <a:ext cx="2361600" cy="1980000"/>
            <a:chOff x="3429000" y="1371600"/>
            <a:chExt cx="2361600" cy="1980000"/>
          </a:xfrm>
        </p:grpSpPr>
        <p:sp>
          <p:nvSpPr>
            <p:cNvPr id="12301" name=""/>
            <p:cNvSpPr/>
            <p:nvPr/>
          </p:nvSpPr>
          <p:spPr>
            <a:xfrm>
              <a:off x="4676760" y="1499040"/>
              <a:ext cx="505080" cy="52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2" name=""/>
            <p:cNvSpPr/>
            <p:nvPr/>
          </p:nvSpPr>
          <p:spPr>
            <a:xfrm>
              <a:off x="3429000" y="1530720"/>
              <a:ext cx="64836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3" name=""/>
            <p:cNvSpPr/>
            <p:nvPr/>
          </p:nvSpPr>
          <p:spPr>
            <a:xfrm>
              <a:off x="4023000" y="1371600"/>
              <a:ext cx="65304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4" name=""/>
            <p:cNvSpPr/>
            <p:nvPr/>
          </p:nvSpPr>
          <p:spPr>
            <a:xfrm>
              <a:off x="3458520" y="2056680"/>
              <a:ext cx="65232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5" name=""/>
            <p:cNvSpPr/>
            <p:nvPr/>
          </p:nvSpPr>
          <p:spPr>
            <a:xfrm>
              <a:off x="3813120" y="2504520"/>
              <a:ext cx="648360" cy="57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6" name=""/>
            <p:cNvSpPr/>
            <p:nvPr/>
          </p:nvSpPr>
          <p:spPr>
            <a:xfrm>
              <a:off x="4378680" y="2777400"/>
              <a:ext cx="65016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7" name=""/>
            <p:cNvSpPr/>
            <p:nvPr/>
          </p:nvSpPr>
          <p:spPr>
            <a:xfrm>
              <a:off x="5001840" y="2535840"/>
              <a:ext cx="64800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8" name=""/>
            <p:cNvSpPr/>
            <p:nvPr/>
          </p:nvSpPr>
          <p:spPr>
            <a:xfrm>
              <a:off x="5072760" y="1752840"/>
              <a:ext cx="717840" cy="81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9" name=""/>
          <p:cNvSpPr/>
          <p:nvPr/>
        </p:nvSpPr>
        <p:spPr>
          <a:xfrm>
            <a:off x="1250640" y="6031080"/>
            <a:ext cx="572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0" name=""/>
          <p:cNvSpPr/>
          <p:nvPr/>
        </p:nvSpPr>
        <p:spPr>
          <a:xfrm>
            <a:off x="7000920" y="6019920"/>
            <a:ext cx="1000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1" name=""/>
          <p:cNvSpPr/>
          <p:nvPr/>
        </p:nvSpPr>
        <p:spPr>
          <a:xfrm>
            <a:off x="7677360" y="44956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2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3" name=""/>
          <p:cNvSpPr/>
          <p:nvPr/>
        </p:nvSpPr>
        <p:spPr>
          <a:xfrm>
            <a:off x="7104240" y="487692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4" name=""/>
          <p:cNvSpPr/>
          <p:nvPr/>
        </p:nvSpPr>
        <p:spPr>
          <a:xfrm>
            <a:off x="4001040" y="1752480"/>
            <a:ext cx="1181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HCGS 271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5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6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7" name=""/>
          <p:cNvSpPr/>
          <p:nvPr/>
        </p:nvSpPr>
        <p:spPr>
          <a:xfrm>
            <a:off x="107280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8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9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0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1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2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3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4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5" name=""/>
          <p:cNvSpPr/>
          <p:nvPr/>
        </p:nvSpPr>
        <p:spPr>
          <a:xfrm>
            <a:off x="711972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6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7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8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9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0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1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2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3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4" name=""/>
          <p:cNvSpPr/>
          <p:nvPr/>
        </p:nvSpPr>
        <p:spPr>
          <a:xfrm flipV="1">
            <a:off x="755496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5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6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7" name=""/>
          <p:cNvSpPr/>
          <p:nvPr/>
        </p:nvSpPr>
        <p:spPr>
          <a:xfrm>
            <a:off x="817560" y="4351320"/>
            <a:ext cx="299232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8" name=""/>
          <p:cNvSpPr/>
          <p:nvPr/>
        </p:nvSpPr>
        <p:spPr>
          <a:xfrm>
            <a:off x="723960" y="5302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9" name=""/>
          <p:cNvSpPr/>
          <p:nvPr/>
        </p:nvSpPr>
        <p:spPr>
          <a:xfrm>
            <a:off x="1035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0" name=""/>
          <p:cNvSpPr/>
          <p:nvPr/>
        </p:nvSpPr>
        <p:spPr>
          <a:xfrm>
            <a:off x="1339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1" name=""/>
          <p:cNvSpPr/>
          <p:nvPr/>
        </p:nvSpPr>
        <p:spPr>
          <a:xfrm flipV="1">
            <a:off x="882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2" name=""/>
          <p:cNvSpPr/>
          <p:nvPr/>
        </p:nvSpPr>
        <p:spPr>
          <a:xfrm flipV="1">
            <a:off x="1492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3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4" name=""/>
          <p:cNvSpPr/>
          <p:nvPr/>
        </p:nvSpPr>
        <p:spPr>
          <a:xfrm>
            <a:off x="5051520" y="41911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5" name=""/>
          <p:cNvSpPr/>
          <p:nvPr/>
        </p:nvSpPr>
        <p:spPr>
          <a:xfrm>
            <a:off x="49402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6" name=""/>
          <p:cNvSpPr/>
          <p:nvPr/>
        </p:nvSpPr>
        <p:spPr>
          <a:xfrm>
            <a:off x="5686560" y="4275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0) 688-6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7" name=""/>
          <p:cNvSpPr/>
          <p:nvPr/>
        </p:nvSpPr>
        <p:spPr>
          <a:xfrm>
            <a:off x="4061160" y="4875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8" name=""/>
          <p:cNvSpPr/>
          <p:nvPr/>
        </p:nvSpPr>
        <p:spPr>
          <a:xfrm flipH="1" flipV="1">
            <a:off x="383184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9" name=""/>
          <p:cNvSpPr/>
          <p:nvPr/>
        </p:nvSpPr>
        <p:spPr>
          <a:xfrm>
            <a:off x="613080" y="3732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0" name=""/>
          <p:cNvSpPr/>
          <p:nvPr/>
        </p:nvSpPr>
        <p:spPr>
          <a:xfrm>
            <a:off x="4983480" y="45864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610-341-6050 / -- 610-341-60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1" name=""/>
          <p:cNvSpPr/>
          <p:nvPr/>
        </p:nvSpPr>
        <p:spPr>
          <a:xfrm>
            <a:off x="2209680" y="236232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2" name=""/>
          <p:cNvSpPr/>
          <p:nvPr/>
        </p:nvSpPr>
        <p:spPr>
          <a:xfrm>
            <a:off x="797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3" name=""/>
          <p:cNvSpPr/>
          <p:nvPr/>
        </p:nvSpPr>
        <p:spPr>
          <a:xfrm>
            <a:off x="18259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4" name=""/>
          <p:cNvSpPr/>
          <p:nvPr/>
        </p:nvSpPr>
        <p:spPr>
          <a:xfrm>
            <a:off x="217800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5" name=""/>
          <p:cNvSpPr/>
          <p:nvPr/>
        </p:nvSpPr>
        <p:spPr>
          <a:xfrm>
            <a:off x="248292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6" name=""/>
          <p:cNvSpPr/>
          <p:nvPr/>
        </p:nvSpPr>
        <p:spPr>
          <a:xfrm flipV="1">
            <a:off x="2025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7" name=""/>
          <p:cNvSpPr/>
          <p:nvPr/>
        </p:nvSpPr>
        <p:spPr>
          <a:xfrm flipV="1">
            <a:off x="2635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8" name=""/>
          <p:cNvSpPr/>
          <p:nvPr/>
        </p:nvSpPr>
        <p:spPr>
          <a:xfrm>
            <a:off x="30103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9" name=""/>
          <p:cNvSpPr/>
          <p:nvPr/>
        </p:nvSpPr>
        <p:spPr>
          <a:xfrm>
            <a:off x="3321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0" name=""/>
          <p:cNvSpPr/>
          <p:nvPr/>
        </p:nvSpPr>
        <p:spPr>
          <a:xfrm>
            <a:off x="3625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1" name=""/>
          <p:cNvSpPr/>
          <p:nvPr/>
        </p:nvSpPr>
        <p:spPr>
          <a:xfrm flipV="1">
            <a:off x="3168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2" name=""/>
          <p:cNvSpPr/>
          <p:nvPr/>
        </p:nvSpPr>
        <p:spPr>
          <a:xfrm flipV="1">
            <a:off x="3778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3" name=""/>
          <p:cNvSpPr/>
          <p:nvPr/>
        </p:nvSpPr>
        <p:spPr>
          <a:xfrm>
            <a:off x="3083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4" name=""/>
          <p:cNvSpPr/>
          <p:nvPr/>
        </p:nvSpPr>
        <p:spPr>
          <a:xfrm>
            <a:off x="1940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5" name=""/>
          <p:cNvSpPr/>
          <p:nvPr/>
        </p:nvSpPr>
        <p:spPr>
          <a:xfrm>
            <a:off x="1177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6" name=""/>
          <p:cNvSpPr/>
          <p:nvPr/>
        </p:nvSpPr>
        <p:spPr>
          <a:xfrm>
            <a:off x="2320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7" name=""/>
          <p:cNvSpPr/>
          <p:nvPr/>
        </p:nvSpPr>
        <p:spPr>
          <a:xfrm>
            <a:off x="3463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8" name=""/>
          <p:cNvSpPr/>
          <p:nvPr/>
        </p:nvSpPr>
        <p:spPr>
          <a:xfrm flipV="1">
            <a:off x="1523880" y="30481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9" name=""/>
          <p:cNvSpPr/>
          <p:nvPr/>
        </p:nvSpPr>
        <p:spPr>
          <a:xfrm>
            <a:off x="3809880" y="4419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0" name=""/>
          <p:cNvSpPr/>
          <p:nvPr/>
        </p:nvSpPr>
        <p:spPr>
          <a:xfrm>
            <a:off x="3809880" y="47242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1" name=""/>
          <p:cNvSpPr/>
          <p:nvPr/>
        </p:nvSpPr>
        <p:spPr>
          <a:xfrm flipV="1">
            <a:off x="7543800" y="30481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2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3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6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373-630F-4289-AECE-852BF888A8F7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FE954-9C5E-4CBE-B3DC-0839DDCF9C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7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Bay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8" name=""/>
          <p:cNvSpPr/>
          <p:nvPr/>
        </p:nvSpPr>
        <p:spPr>
          <a:xfrm>
            <a:off x="6477120" y="30621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9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0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1" name=""/>
          <p:cNvSpPr/>
          <p:nvPr/>
        </p:nvSpPr>
        <p:spPr>
          <a:xfrm>
            <a:off x="158760" y="1758960"/>
            <a:ext cx="5397480" cy="29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2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3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4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5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2386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7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8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9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0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1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2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3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4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6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7" name=""/>
          <p:cNvSpPr/>
          <p:nvPr/>
        </p:nvSpPr>
        <p:spPr>
          <a:xfrm flipH="1"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8" name=""/>
          <p:cNvSpPr/>
          <p:nvPr/>
        </p:nvSpPr>
        <p:spPr>
          <a:xfrm>
            <a:off x="152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vington (DLCI 7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9" name=""/>
          <p:cNvSpPr/>
          <p:nvPr/>
        </p:nvSpPr>
        <p:spPr>
          <a:xfrm>
            <a:off x="15228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2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0" name=""/>
          <p:cNvSpPr/>
          <p:nvPr/>
        </p:nvSpPr>
        <p:spPr>
          <a:xfrm>
            <a:off x="15228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ke Charles (DLCI 4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1" name=""/>
          <p:cNvSpPr/>
          <p:nvPr/>
        </p:nvSpPr>
        <p:spPr>
          <a:xfrm>
            <a:off x="2819520" y="4359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xom (DLCI 2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2" name=""/>
          <p:cNvSpPr/>
          <p:nvPr/>
        </p:nvSpPr>
        <p:spPr>
          <a:xfrm>
            <a:off x="281952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ntia (DLCI 2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3" name=""/>
          <p:cNvSpPr/>
          <p:nvPr/>
        </p:nvSpPr>
        <p:spPr>
          <a:xfrm>
            <a:off x="281952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oria (DLCI 2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4" name=""/>
          <p:cNvSpPr/>
          <p:nvPr/>
        </p:nvSpPr>
        <p:spPr>
          <a:xfrm>
            <a:off x="2819520" y="3886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co (DLCI 4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5" name=""/>
          <p:cNvSpPr/>
          <p:nvPr/>
        </p:nvSpPr>
        <p:spPr>
          <a:xfrm>
            <a:off x="281952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eoville (DLCI 5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6" name=""/>
          <p:cNvSpPr/>
          <p:nvPr/>
        </p:nvSpPr>
        <p:spPr>
          <a:xfrm>
            <a:off x="15228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Molded) (DLCI 4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7" name=""/>
          <p:cNvSpPr/>
          <p:nvPr/>
        </p:nvSpPr>
        <p:spPr>
          <a:xfrm>
            <a:off x="152280" y="3413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Whs.) (DLCI 4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8" name=""/>
          <p:cNvSpPr/>
          <p:nvPr/>
        </p:nvSpPr>
        <p:spPr>
          <a:xfrm>
            <a:off x="2819520" y="3657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Circle (DLCI 4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9" name=""/>
          <p:cNvSpPr/>
          <p:nvPr/>
        </p:nvSpPr>
        <p:spPr>
          <a:xfrm>
            <a:off x="281952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squehoning (DLCI 1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0" name=""/>
          <p:cNvSpPr/>
          <p:nvPr/>
        </p:nvSpPr>
        <p:spPr>
          <a:xfrm>
            <a:off x="2819520" y="3429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ta Anna (DLCI 5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1" name=""/>
          <p:cNvSpPr/>
          <p:nvPr/>
        </p:nvSpPr>
        <p:spPr>
          <a:xfrm>
            <a:off x="281952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2" name=""/>
          <p:cNvSpPr/>
          <p:nvPr/>
        </p:nvSpPr>
        <p:spPr>
          <a:xfrm>
            <a:off x="2819520" y="4114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chita Falls (DLCI 6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3" name=""/>
          <p:cNvSpPr/>
          <p:nvPr/>
        </p:nvSpPr>
        <p:spPr>
          <a:xfrm>
            <a:off x="281952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ncie (DLCI 1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4" name=""/>
          <p:cNvSpPr/>
          <p:nvPr/>
        </p:nvSpPr>
        <p:spPr>
          <a:xfrm>
            <a:off x="13824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5" name=""/>
          <p:cNvSpPr/>
          <p:nvPr/>
        </p:nvSpPr>
        <p:spPr>
          <a:xfrm>
            <a:off x="152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ton (DLCI 2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6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7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9B1-B36A-4CA3-B986-E7504880763E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9E05A-CC29-4ACA-8A76-24AC172C2EA5}" type="datetime1">
              <a:rPr lang="en-US"/>
              <a:t>07/30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1" name=""/>
          <p:cNvSpPr/>
          <p:nvPr/>
        </p:nvSpPr>
        <p:spPr>
          <a:xfrm>
            <a:off x="5029200" y="6512040"/>
            <a:ext cx="379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Cisco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3" name=""/>
          <p:cNvSpPr/>
          <p:nvPr/>
        </p:nvSpPr>
        <p:spPr>
          <a:xfrm>
            <a:off x="1981080" y="2757600"/>
            <a:ext cx="144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6" name=""/>
          <p:cNvSpPr/>
          <p:nvPr/>
        </p:nvSpPr>
        <p:spPr>
          <a:xfrm>
            <a:off x="5727600" y="1600200"/>
            <a:ext cx="288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7" name=""/>
          <p:cNvSpPr/>
          <p:nvPr/>
        </p:nvSpPr>
        <p:spPr>
          <a:xfrm>
            <a:off x="5956200" y="1668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8" name=""/>
          <p:cNvSpPr/>
          <p:nvPr/>
        </p:nvSpPr>
        <p:spPr>
          <a:xfrm>
            <a:off x="1003320" y="2506680"/>
            <a:ext cx="90180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9" name=""/>
          <p:cNvSpPr/>
          <p:nvPr/>
        </p:nvSpPr>
        <p:spPr>
          <a:xfrm>
            <a:off x="1099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0" name=""/>
          <p:cNvGrpSpPr/>
          <p:nvPr/>
        </p:nvGrpSpPr>
        <p:grpSpPr>
          <a:xfrm>
            <a:off x="3352680" y="1601640"/>
            <a:ext cx="2133360" cy="2436480"/>
            <a:chOff x="3352680" y="1601640"/>
            <a:chExt cx="2133360" cy="2436480"/>
          </a:xfrm>
        </p:grpSpPr>
        <p:sp>
          <p:nvSpPr>
            <p:cNvPr id="12431" name=""/>
            <p:cNvSpPr/>
            <p:nvPr/>
          </p:nvSpPr>
          <p:spPr>
            <a:xfrm>
              <a:off x="4478040" y="176040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2" name=""/>
            <p:cNvSpPr/>
            <p:nvPr/>
          </p:nvSpPr>
          <p:spPr>
            <a:xfrm>
              <a:off x="3352680" y="179676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3" name=""/>
            <p:cNvSpPr/>
            <p:nvPr/>
          </p:nvSpPr>
          <p:spPr>
            <a:xfrm>
              <a:off x="3889440" y="160164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4" name=""/>
            <p:cNvSpPr/>
            <p:nvPr/>
          </p:nvSpPr>
          <p:spPr>
            <a:xfrm>
              <a:off x="3379680" y="244836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5" name=""/>
            <p:cNvSpPr/>
            <p:nvPr/>
          </p:nvSpPr>
          <p:spPr>
            <a:xfrm>
              <a:off x="3697200" y="299448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6" name=""/>
            <p:cNvSpPr/>
            <p:nvPr/>
          </p:nvSpPr>
          <p:spPr>
            <a:xfrm>
              <a:off x="4209840" y="333072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7" name=""/>
            <p:cNvSpPr/>
            <p:nvPr/>
          </p:nvSpPr>
          <p:spPr>
            <a:xfrm>
              <a:off x="4774320" y="303624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8" name=""/>
            <p:cNvSpPr/>
            <p:nvPr/>
          </p:nvSpPr>
          <p:spPr>
            <a:xfrm>
              <a:off x="4836960" y="207144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9" name=""/>
          <p:cNvSpPr/>
          <p:nvPr/>
        </p:nvSpPr>
        <p:spPr>
          <a:xfrm>
            <a:off x="3864600" y="205740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0" name=""/>
          <p:cNvSpPr/>
          <p:nvPr/>
        </p:nvSpPr>
        <p:spPr>
          <a:xfrm flipH="1">
            <a:off x="1904760" y="27432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1" name=""/>
          <p:cNvSpPr/>
          <p:nvPr/>
        </p:nvSpPr>
        <p:spPr>
          <a:xfrm>
            <a:off x="5880240" y="3565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Sekurit)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2" name=""/>
          <p:cNvSpPr/>
          <p:nvPr/>
        </p:nvSpPr>
        <p:spPr>
          <a:xfrm>
            <a:off x="5651640" y="42512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Abrasives) (DLCI 13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3" name=""/>
          <p:cNvSpPr/>
          <p:nvPr/>
        </p:nvSpPr>
        <p:spPr>
          <a:xfrm>
            <a:off x="5880240" y="4022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te City (DLCI 8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4" name=""/>
          <p:cNvSpPr/>
          <p:nvPr/>
        </p:nvSpPr>
        <p:spPr>
          <a:xfrm>
            <a:off x="588024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ckhannon (DLCI 7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5" name=""/>
          <p:cNvSpPr/>
          <p:nvPr/>
        </p:nvSpPr>
        <p:spPr>
          <a:xfrm>
            <a:off x="5867280" y="313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aring River (DLCI 8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6" name=""/>
          <p:cNvSpPr/>
          <p:nvPr/>
        </p:nvSpPr>
        <p:spPr>
          <a:xfrm>
            <a:off x="588024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isville (DLCI 2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7" name=""/>
          <p:cNvSpPr/>
          <p:nvPr/>
        </p:nvSpPr>
        <p:spPr>
          <a:xfrm>
            <a:off x="5880240" y="3794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yne (DLCI 1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8" name=""/>
          <p:cNvSpPr/>
          <p:nvPr/>
        </p:nvSpPr>
        <p:spPr>
          <a:xfrm>
            <a:off x="5410080" y="4479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Ceramics) (DLCI 7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9" name=""/>
          <p:cNvSpPr/>
          <p:nvPr/>
        </p:nvSpPr>
        <p:spPr>
          <a:xfrm>
            <a:off x="1033560" y="4497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0" name=""/>
          <p:cNvSpPr/>
          <p:nvPr/>
        </p:nvSpPr>
        <p:spPr>
          <a:xfrm>
            <a:off x="60948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1" name=""/>
          <p:cNvSpPr/>
          <p:nvPr/>
        </p:nvSpPr>
        <p:spPr>
          <a:xfrm>
            <a:off x="365040" y="5037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2" name=""/>
          <p:cNvSpPr/>
          <p:nvPr/>
        </p:nvSpPr>
        <p:spPr>
          <a:xfrm flipH="1">
            <a:off x="1218960" y="4952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3" name=""/>
          <p:cNvSpPr/>
          <p:nvPr/>
        </p:nvSpPr>
        <p:spPr>
          <a:xfrm flipH="1">
            <a:off x="106632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4" name=""/>
          <p:cNvSpPr/>
          <p:nvPr/>
        </p:nvSpPr>
        <p:spPr>
          <a:xfrm>
            <a:off x="12952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5" name=""/>
          <p:cNvSpPr/>
          <p:nvPr/>
        </p:nvSpPr>
        <p:spPr>
          <a:xfrm>
            <a:off x="16002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6" name=""/>
          <p:cNvSpPr/>
          <p:nvPr/>
        </p:nvSpPr>
        <p:spPr>
          <a:xfrm flipV="1">
            <a:off x="114300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7" name=""/>
          <p:cNvSpPr/>
          <p:nvPr/>
        </p:nvSpPr>
        <p:spPr>
          <a:xfrm flipV="1">
            <a:off x="175248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8" name=""/>
          <p:cNvSpPr/>
          <p:nvPr/>
        </p:nvSpPr>
        <p:spPr>
          <a:xfrm>
            <a:off x="1219320" y="42670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9" name=""/>
          <p:cNvSpPr/>
          <p:nvPr/>
        </p:nvSpPr>
        <p:spPr>
          <a:xfrm flipV="1">
            <a:off x="1447920" y="30477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0" name=""/>
          <p:cNvSpPr/>
          <p:nvPr/>
        </p:nvSpPr>
        <p:spPr>
          <a:xfrm>
            <a:off x="144792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1" name=""/>
          <p:cNvSpPr/>
          <p:nvPr/>
        </p:nvSpPr>
        <p:spPr>
          <a:xfrm>
            <a:off x="3429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2" name=""/>
          <p:cNvSpPr/>
          <p:nvPr/>
        </p:nvSpPr>
        <p:spPr>
          <a:xfrm>
            <a:off x="5867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ton (DLCI 8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3" name=""/>
          <p:cNvSpPr/>
          <p:nvPr/>
        </p:nvSpPr>
        <p:spPr>
          <a:xfrm>
            <a:off x="5867280" y="29559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verport (DLCI 7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4" name=""/>
          <p:cNvSpPr/>
          <p:nvPr/>
        </p:nvSpPr>
        <p:spPr>
          <a:xfrm>
            <a:off x="5638680" y="335268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 San Francisco (DLCI 7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5" name=""/>
          <p:cNvSpPr/>
          <p:nvPr/>
        </p:nvSpPr>
        <p:spPr>
          <a:xfrm>
            <a:off x="5867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ersville (DLCI 7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6" name=""/>
          <p:cNvSpPr/>
          <p:nvPr/>
        </p:nvSpPr>
        <p:spPr>
          <a:xfrm>
            <a:off x="5867280" y="2727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roe (DLCI 7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250-BC8C-425C-8C3F-55059201CB4B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3396B-0315-497F-8ABD-B1CDD653477E}" type="datetime1">
              <a:rPr lang="en-US"/>
              <a:t>07/30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sulation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0" name=""/>
          <p:cNvSpPr/>
          <p:nvPr/>
        </p:nvSpPr>
        <p:spPr>
          <a:xfrm>
            <a:off x="5562720" y="6512040"/>
            <a:ext cx="326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 Insulation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3" name=""/>
          <p:cNvSpPr/>
          <p:nvPr/>
        </p:nvSpPr>
        <p:spPr>
          <a:xfrm>
            <a:off x="1149480" y="1758960"/>
            <a:ext cx="273024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640k Port - DLCI 66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5" name=""/>
          <p:cNvSpPr/>
          <p:nvPr/>
        </p:nvSpPr>
        <p:spPr>
          <a:xfrm>
            <a:off x="1143000" y="2125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hens (DLCI 66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6" name=""/>
          <p:cNvSpPr/>
          <p:nvPr/>
        </p:nvSpPr>
        <p:spPr>
          <a:xfrm>
            <a:off x="1143000" y="2354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Plant) (DLCI 67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7" name=""/>
          <p:cNvSpPr/>
          <p:nvPr/>
        </p:nvSpPr>
        <p:spPr>
          <a:xfrm>
            <a:off x="11430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untaintop (DLCI 67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8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479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0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1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2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3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4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5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6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87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8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9" name=""/>
          <p:cNvSpPr/>
          <p:nvPr/>
        </p:nvSpPr>
        <p:spPr>
          <a:xfrm>
            <a:off x="5181480" y="28335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0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1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EC 394956 (640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3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4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5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6" name=""/>
          <p:cNvSpPr/>
          <p:nvPr/>
        </p:nvSpPr>
        <p:spPr>
          <a:xfrm>
            <a:off x="1777320" y="482292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7" name=""/>
          <p:cNvSpPr/>
          <p:nvPr/>
        </p:nvSpPr>
        <p:spPr>
          <a:xfrm>
            <a:off x="1974960" y="51354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8" name=""/>
          <p:cNvSpPr/>
          <p:nvPr/>
        </p:nvSpPr>
        <p:spPr>
          <a:xfrm>
            <a:off x="1143000" y="3946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ter Haven  (DLCI 890 @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9" name=""/>
          <p:cNvSpPr/>
          <p:nvPr/>
        </p:nvSpPr>
        <p:spPr>
          <a:xfrm>
            <a:off x="11430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Whs..) (DLCI 12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0" name=""/>
          <p:cNvSpPr/>
          <p:nvPr/>
        </p:nvSpPr>
        <p:spPr>
          <a:xfrm>
            <a:off x="11430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sno (DLCI 13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1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, MO (DLCI 11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2" name=""/>
          <p:cNvSpPr/>
          <p:nvPr/>
        </p:nvSpPr>
        <p:spPr>
          <a:xfrm>
            <a:off x="11430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Kansas City (DLCI 6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3" name=""/>
          <p:cNvSpPr/>
          <p:nvPr/>
        </p:nvSpPr>
        <p:spPr>
          <a:xfrm>
            <a:off x="1143000" y="3505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5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871-D239-480B-8E9A-564CA22A6B10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8E7A5-F638-4949-A1F8-72D6E516AC40}" type="datetime1">
              <a:rPr lang="en-US"/>
              <a:t>07/30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7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Internet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8" name=""/>
          <p:cNvSpPr/>
          <p:nvPr/>
        </p:nvSpPr>
        <p:spPr>
          <a:xfrm>
            <a:off x="1149480" y="1758960"/>
            <a:ext cx="273024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9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10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1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2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3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4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5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6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7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8" name=""/>
          <p:cNvSpPr/>
          <p:nvPr/>
        </p:nvSpPr>
        <p:spPr>
          <a:xfrm>
            <a:off x="1545840" y="19731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256k Port - DLCI 26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9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0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ZEC 402424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4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5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6" name=""/>
          <p:cNvSpPr/>
          <p:nvPr/>
        </p:nvSpPr>
        <p:spPr>
          <a:xfrm>
            <a:off x="1143000" y="2201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 Bell (DLCI 25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9" name=""/>
          <p:cNvSpPr/>
          <p:nvPr/>
        </p:nvSpPr>
        <p:spPr>
          <a:xfrm>
            <a:off x="1143000" y="2430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0" name=""/>
          <p:cNvSpPr/>
          <p:nvPr/>
        </p:nvSpPr>
        <p:spPr>
          <a:xfrm>
            <a:off x="1777320" y="311616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1" name=""/>
          <p:cNvSpPr/>
          <p:nvPr/>
        </p:nvSpPr>
        <p:spPr>
          <a:xfrm>
            <a:off x="1974960" y="34290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2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3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66D-E1E3-4C3C-9B5A-E9C05A28F44C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F2BEB-CB7F-45AE-A4A7-1E9C428BF14E}" type="datetime1">
              <a:rPr lang="en-US"/>
              <a:t>07/30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Pip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7" name=""/>
          <p:cNvSpPr/>
          <p:nvPr/>
        </p:nvSpPr>
        <p:spPr>
          <a:xfrm>
            <a:off x="5638680" y="6512040"/>
            <a:ext cx="318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8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9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0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155176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3" name=""/>
          <p:cNvSpPr/>
          <p:nvPr/>
        </p:nvSpPr>
        <p:spPr>
          <a:xfrm>
            <a:off x="1149480" y="1758960"/>
            <a:ext cx="2730240" cy="189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63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5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4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0" name=""/>
          <p:cNvSpPr/>
          <p:nvPr/>
        </p:nvSpPr>
        <p:spPr>
          <a:xfrm>
            <a:off x="1777320" y="388620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1" name=""/>
          <p:cNvSpPr/>
          <p:nvPr/>
        </p:nvSpPr>
        <p:spPr>
          <a:xfrm>
            <a:off x="1974960" y="419904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2" name=""/>
          <p:cNvSpPr/>
          <p:nvPr/>
        </p:nvSpPr>
        <p:spPr>
          <a:xfrm>
            <a:off x="11430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ffalo (DLCI 51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3" name=""/>
          <p:cNvSpPr/>
          <p:nvPr/>
        </p:nvSpPr>
        <p:spPr>
          <a:xfrm>
            <a:off x="1143000" y="2362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6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016-4582-4F2B-BFF1-855A6CCB7C53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77B72-7066-4CBE-B202-3517626588A1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BRUNSWI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04480" y="190512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7400" y="1371600"/>
            <a:ext cx="145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3809880"/>
            <a:ext cx="1293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13440" y="3809880"/>
            <a:ext cx="72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 (192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E90-6FD1-4F5B-BF12-EBC74B06C4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C9C16-62D1-469C-9221-C403AC3AF2F0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io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4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358360" y="525636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71360" y="171360"/>
            <a:ext cx="28004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770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  1441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589-4401…Gabe Nagy x-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589-8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6-344-8651 / 716-344-86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8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47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A59-7817-40EE-90B1-7F74024CD8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8E9FA-4A17-4848-9B64-0A19329FEB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Roofing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7" name=""/>
          <p:cNvSpPr/>
          <p:nvPr/>
        </p:nvSpPr>
        <p:spPr>
          <a:xfrm>
            <a:off x="6324480" y="6512040"/>
            <a:ext cx="250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8" name=""/>
          <p:cNvSpPr/>
          <p:nvPr/>
        </p:nvSpPr>
        <p:spPr>
          <a:xfrm>
            <a:off x="2514600" y="16765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9" name=""/>
          <p:cNvSpPr/>
          <p:nvPr/>
        </p:nvSpPr>
        <p:spPr>
          <a:xfrm>
            <a:off x="23623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0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1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2" name=""/>
          <p:cNvSpPr/>
          <p:nvPr/>
        </p:nvSpPr>
        <p:spPr>
          <a:xfrm>
            <a:off x="5727600" y="609480"/>
            <a:ext cx="28828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3" name=""/>
          <p:cNvSpPr/>
          <p:nvPr/>
        </p:nvSpPr>
        <p:spPr>
          <a:xfrm>
            <a:off x="5956200" y="60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4" name=""/>
          <p:cNvSpPr/>
          <p:nvPr/>
        </p:nvSpPr>
        <p:spPr>
          <a:xfrm>
            <a:off x="1066680" y="1676520"/>
            <a:ext cx="749520" cy="54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5" name=""/>
          <p:cNvSpPr/>
          <p:nvPr/>
        </p:nvSpPr>
        <p:spPr>
          <a:xfrm>
            <a:off x="1086840" y="1766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6" name=""/>
          <p:cNvGrpSpPr/>
          <p:nvPr/>
        </p:nvGrpSpPr>
        <p:grpSpPr>
          <a:xfrm>
            <a:off x="4038480" y="762120"/>
            <a:ext cx="1447200" cy="5485320"/>
            <a:chOff x="4038480" y="762120"/>
            <a:chExt cx="1447200" cy="5485320"/>
          </a:xfrm>
        </p:grpSpPr>
        <p:sp>
          <p:nvSpPr>
            <p:cNvPr id="12577" name=""/>
            <p:cNvSpPr/>
            <p:nvPr/>
          </p:nvSpPr>
          <p:spPr>
            <a:xfrm>
              <a:off x="4802040" y="1119240"/>
              <a:ext cx="311040" cy="144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8" name=""/>
            <p:cNvSpPr/>
            <p:nvPr/>
          </p:nvSpPr>
          <p:spPr>
            <a:xfrm>
              <a:off x="4038480" y="1201320"/>
              <a:ext cx="397800" cy="16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9" name=""/>
            <p:cNvSpPr/>
            <p:nvPr/>
          </p:nvSpPr>
          <p:spPr>
            <a:xfrm>
              <a:off x="4402440" y="762120"/>
              <a:ext cx="399240" cy="159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0" name=""/>
            <p:cNvSpPr/>
            <p:nvPr/>
          </p:nvSpPr>
          <p:spPr>
            <a:xfrm>
              <a:off x="4056480" y="2668320"/>
              <a:ext cx="397440" cy="158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1" name=""/>
            <p:cNvSpPr/>
            <p:nvPr/>
          </p:nvSpPr>
          <p:spPr>
            <a:xfrm>
              <a:off x="4272120" y="3897360"/>
              <a:ext cx="398160" cy="160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2" name=""/>
            <p:cNvSpPr/>
            <p:nvPr/>
          </p:nvSpPr>
          <p:spPr>
            <a:xfrm>
              <a:off x="4619880" y="4654080"/>
              <a:ext cx="398160" cy="159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3" name=""/>
            <p:cNvSpPr/>
            <p:nvPr/>
          </p:nvSpPr>
          <p:spPr>
            <a:xfrm>
              <a:off x="5003280" y="3991320"/>
              <a:ext cx="396360" cy="15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4" name=""/>
            <p:cNvSpPr/>
            <p:nvPr/>
          </p:nvSpPr>
          <p:spPr>
            <a:xfrm>
              <a:off x="5045400" y="1819440"/>
              <a:ext cx="440280" cy="225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85" name=""/>
          <p:cNvSpPr/>
          <p:nvPr/>
        </p:nvSpPr>
        <p:spPr>
          <a:xfrm>
            <a:off x="4218480" y="251460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6" name=""/>
          <p:cNvSpPr/>
          <p:nvPr/>
        </p:nvSpPr>
        <p:spPr>
          <a:xfrm flipH="1">
            <a:off x="1905120" y="19051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7" name=""/>
          <p:cNvSpPr/>
          <p:nvPr/>
        </p:nvSpPr>
        <p:spPr>
          <a:xfrm>
            <a:off x="5880240" y="1235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8" name=""/>
          <p:cNvSpPr/>
          <p:nvPr/>
        </p:nvSpPr>
        <p:spPr>
          <a:xfrm>
            <a:off x="5651640" y="169236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ving (DLCI 8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9" name=""/>
          <p:cNvSpPr/>
          <p:nvPr/>
        </p:nvSpPr>
        <p:spPr>
          <a:xfrm>
            <a:off x="5880240" y="1539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0" name=""/>
          <p:cNvSpPr/>
          <p:nvPr/>
        </p:nvSpPr>
        <p:spPr>
          <a:xfrm>
            <a:off x="5880240" y="762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1" name=""/>
          <p:cNvSpPr/>
          <p:nvPr/>
        </p:nvSpPr>
        <p:spPr>
          <a:xfrm>
            <a:off x="5880240" y="930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2" name=""/>
          <p:cNvSpPr/>
          <p:nvPr/>
        </p:nvSpPr>
        <p:spPr>
          <a:xfrm>
            <a:off x="5880240" y="108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3" name=""/>
          <p:cNvSpPr/>
          <p:nvPr/>
        </p:nvSpPr>
        <p:spPr>
          <a:xfrm>
            <a:off x="5880240" y="1387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4" name=""/>
          <p:cNvSpPr/>
          <p:nvPr/>
        </p:nvSpPr>
        <p:spPr>
          <a:xfrm>
            <a:off x="1033560" y="4573440"/>
            <a:ext cx="7189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5" name=""/>
          <p:cNvSpPr/>
          <p:nvPr/>
        </p:nvSpPr>
        <p:spPr>
          <a:xfrm>
            <a:off x="31032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6" name=""/>
          <p:cNvSpPr/>
          <p:nvPr/>
        </p:nvSpPr>
        <p:spPr>
          <a:xfrm>
            <a:off x="15552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7" name=""/>
          <p:cNvSpPr/>
          <p:nvPr/>
        </p:nvSpPr>
        <p:spPr>
          <a:xfrm flipH="1">
            <a:off x="10094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8" name=""/>
          <p:cNvSpPr/>
          <p:nvPr/>
        </p:nvSpPr>
        <p:spPr>
          <a:xfrm flipH="1">
            <a:off x="685440" y="5638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9" name=""/>
          <p:cNvSpPr/>
          <p:nvPr/>
        </p:nvSpPr>
        <p:spPr>
          <a:xfrm>
            <a:off x="9144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0" name=""/>
          <p:cNvSpPr/>
          <p:nvPr/>
        </p:nvSpPr>
        <p:spPr>
          <a:xfrm>
            <a:off x="12193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1" name=""/>
          <p:cNvSpPr/>
          <p:nvPr/>
        </p:nvSpPr>
        <p:spPr>
          <a:xfrm flipV="1">
            <a:off x="762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2" name=""/>
          <p:cNvSpPr/>
          <p:nvPr/>
        </p:nvSpPr>
        <p:spPr>
          <a:xfrm flipV="1">
            <a:off x="1066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3" name=""/>
          <p:cNvSpPr/>
          <p:nvPr/>
        </p:nvSpPr>
        <p:spPr>
          <a:xfrm>
            <a:off x="9144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4" name=""/>
          <p:cNvSpPr/>
          <p:nvPr/>
        </p:nvSpPr>
        <p:spPr>
          <a:xfrm flipV="1">
            <a:off x="1143000" y="22096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5" name=""/>
          <p:cNvSpPr/>
          <p:nvPr/>
        </p:nvSpPr>
        <p:spPr>
          <a:xfrm>
            <a:off x="43020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6" name=""/>
          <p:cNvSpPr/>
          <p:nvPr/>
        </p:nvSpPr>
        <p:spPr>
          <a:xfrm>
            <a:off x="5410080" y="19810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7" name=""/>
          <p:cNvSpPr/>
          <p:nvPr/>
        </p:nvSpPr>
        <p:spPr>
          <a:xfrm>
            <a:off x="5410080" y="21337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8" name=""/>
          <p:cNvSpPr/>
          <p:nvPr/>
        </p:nvSpPr>
        <p:spPr>
          <a:xfrm>
            <a:off x="5410080" y="22860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9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0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1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2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3" name=""/>
          <p:cNvSpPr/>
          <p:nvPr/>
        </p:nvSpPr>
        <p:spPr>
          <a:xfrm>
            <a:off x="5638680" y="18446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4" name=""/>
          <p:cNvSpPr/>
          <p:nvPr/>
        </p:nvSpPr>
        <p:spPr>
          <a:xfrm>
            <a:off x="183204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5" name=""/>
          <p:cNvSpPr/>
          <p:nvPr/>
        </p:nvSpPr>
        <p:spPr>
          <a:xfrm flipH="1" flipV="1">
            <a:off x="15998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6" name=""/>
          <p:cNvSpPr/>
          <p:nvPr/>
        </p:nvSpPr>
        <p:spPr>
          <a:xfrm flipH="1">
            <a:off x="1523880" y="5638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8" name=""/>
          <p:cNvSpPr/>
          <p:nvPr/>
        </p:nvSpPr>
        <p:spPr>
          <a:xfrm flipV="1">
            <a:off x="160020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0" name=""/>
          <p:cNvSpPr/>
          <p:nvPr/>
        </p:nvSpPr>
        <p:spPr>
          <a:xfrm flipV="1"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1" name=""/>
          <p:cNvSpPr/>
          <p:nvPr/>
        </p:nvSpPr>
        <p:spPr>
          <a:xfrm>
            <a:off x="430200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2" name=""/>
          <p:cNvSpPr/>
          <p:nvPr/>
        </p:nvSpPr>
        <p:spPr>
          <a:xfrm>
            <a:off x="5727600" y="3665520"/>
            <a:ext cx="28828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3" name=""/>
          <p:cNvSpPr/>
          <p:nvPr/>
        </p:nvSpPr>
        <p:spPr>
          <a:xfrm>
            <a:off x="5956200" y="3657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4" name=""/>
          <p:cNvSpPr/>
          <p:nvPr/>
        </p:nvSpPr>
        <p:spPr>
          <a:xfrm>
            <a:off x="5880240" y="4122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 (DLCI 4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5" name=""/>
          <p:cNvSpPr/>
          <p:nvPr/>
        </p:nvSpPr>
        <p:spPr>
          <a:xfrm>
            <a:off x="5880240" y="457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kopee (DLCI 65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6" name=""/>
          <p:cNvSpPr/>
          <p:nvPr/>
        </p:nvSpPr>
        <p:spPr>
          <a:xfrm>
            <a:off x="5867280" y="3970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Bell (DLCI 2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7" name=""/>
          <p:cNvSpPr/>
          <p:nvPr/>
        </p:nvSpPr>
        <p:spPr>
          <a:xfrm>
            <a:off x="5880240" y="4427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xford (DLCI 64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8" name=""/>
          <p:cNvSpPr/>
          <p:nvPr/>
        </p:nvSpPr>
        <p:spPr>
          <a:xfrm>
            <a:off x="5880240" y="3817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y (DLCI 6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9" name=""/>
          <p:cNvSpPr/>
          <p:nvPr/>
        </p:nvSpPr>
        <p:spPr>
          <a:xfrm>
            <a:off x="5880240" y="425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wood (DLCI 5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0" name=""/>
          <p:cNvSpPr/>
          <p:nvPr/>
        </p:nvSpPr>
        <p:spPr>
          <a:xfrm flipV="1">
            <a:off x="1676520" y="38858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1" name=""/>
          <p:cNvSpPr/>
          <p:nvPr/>
        </p:nvSpPr>
        <p:spPr>
          <a:xfrm>
            <a:off x="1295280" y="2506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2" name=""/>
          <p:cNvSpPr/>
          <p:nvPr/>
        </p:nvSpPr>
        <p:spPr>
          <a:xfrm>
            <a:off x="1315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3" name=""/>
          <p:cNvSpPr/>
          <p:nvPr/>
        </p:nvSpPr>
        <p:spPr>
          <a:xfrm>
            <a:off x="2438280" y="25066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4" name=""/>
          <p:cNvSpPr/>
          <p:nvPr/>
        </p:nvSpPr>
        <p:spPr>
          <a:xfrm>
            <a:off x="2286000" y="2749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5" name=""/>
          <p:cNvSpPr/>
          <p:nvPr/>
        </p:nvSpPr>
        <p:spPr>
          <a:xfrm flipH="1" flipV="1">
            <a:off x="2133720" y="2735280"/>
            <a:ext cx="1828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6" name=""/>
          <p:cNvSpPr/>
          <p:nvPr/>
        </p:nvSpPr>
        <p:spPr>
          <a:xfrm>
            <a:off x="3962520" y="2743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7" name=""/>
          <p:cNvSpPr/>
          <p:nvPr/>
        </p:nvSpPr>
        <p:spPr>
          <a:xfrm>
            <a:off x="5715000" y="4876920"/>
            <a:ext cx="288288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8" name=""/>
          <p:cNvSpPr/>
          <p:nvPr/>
        </p:nvSpPr>
        <p:spPr>
          <a:xfrm>
            <a:off x="5943600" y="4861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9" name=""/>
          <p:cNvSpPr/>
          <p:nvPr/>
        </p:nvSpPr>
        <p:spPr>
          <a:xfrm>
            <a:off x="5867280" y="5607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mont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0" name=""/>
          <p:cNvSpPr/>
          <p:nvPr/>
        </p:nvSpPr>
        <p:spPr>
          <a:xfrm>
            <a:off x="5867280" y="5013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rmingham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1" name=""/>
          <p:cNvSpPr/>
          <p:nvPr/>
        </p:nvSpPr>
        <p:spPr>
          <a:xfrm>
            <a:off x="5854680" y="5454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2" name=""/>
          <p:cNvSpPr/>
          <p:nvPr/>
        </p:nvSpPr>
        <p:spPr>
          <a:xfrm>
            <a:off x="5867280" y="5911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 Angeles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3" name=""/>
          <p:cNvSpPr/>
          <p:nvPr/>
        </p:nvSpPr>
        <p:spPr>
          <a:xfrm>
            <a:off x="5867280" y="5149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4" name=""/>
          <p:cNvSpPr/>
          <p:nvPr/>
        </p:nvSpPr>
        <p:spPr>
          <a:xfrm>
            <a:off x="5867280" y="575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kland (DLCI xxx @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5" name=""/>
          <p:cNvSpPr/>
          <p:nvPr/>
        </p:nvSpPr>
        <p:spPr>
          <a:xfrm>
            <a:off x="5867280" y="6080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ellville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6" name=""/>
          <p:cNvSpPr/>
          <p:nvPr/>
        </p:nvSpPr>
        <p:spPr>
          <a:xfrm>
            <a:off x="5867280" y="5302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7" name=""/>
          <p:cNvSpPr/>
          <p:nvPr/>
        </p:nvSpPr>
        <p:spPr>
          <a:xfrm flipV="1">
            <a:off x="137160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8" name=""/>
          <p:cNvSpPr/>
          <p:nvPr/>
        </p:nvSpPr>
        <p:spPr>
          <a:xfrm>
            <a:off x="1523880" y="3352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9" name=""/>
          <p:cNvSpPr/>
          <p:nvPr/>
        </p:nvSpPr>
        <p:spPr>
          <a:xfrm>
            <a:off x="1544040" y="34434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0" name=""/>
          <p:cNvSpPr/>
          <p:nvPr/>
        </p:nvSpPr>
        <p:spPr>
          <a:xfrm>
            <a:off x="2362320" y="33526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1" name=""/>
          <p:cNvSpPr/>
          <p:nvPr/>
        </p:nvSpPr>
        <p:spPr>
          <a:xfrm>
            <a:off x="2209680" y="35956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2" name=""/>
          <p:cNvSpPr/>
          <p:nvPr/>
        </p:nvSpPr>
        <p:spPr>
          <a:xfrm flipH="1">
            <a:off x="2286000" y="3581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3" name=""/>
          <p:cNvSpPr/>
          <p:nvPr/>
        </p:nvSpPr>
        <p:spPr>
          <a:xfrm>
            <a:off x="4302000" y="4662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4" name=""/>
          <p:cNvSpPr/>
          <p:nvPr/>
        </p:nvSpPr>
        <p:spPr>
          <a:xfrm>
            <a:off x="3733920" y="3581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5" name=""/>
          <p:cNvSpPr/>
          <p:nvPr/>
        </p:nvSpPr>
        <p:spPr>
          <a:xfrm>
            <a:off x="37339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6" name=""/>
          <p:cNvSpPr/>
          <p:nvPr/>
        </p:nvSpPr>
        <p:spPr>
          <a:xfrm>
            <a:off x="396252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7" name=""/>
          <p:cNvSpPr/>
          <p:nvPr/>
        </p:nvSpPr>
        <p:spPr>
          <a:xfrm>
            <a:off x="310320" y="380988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8" name=""/>
          <p:cNvSpPr/>
          <p:nvPr/>
        </p:nvSpPr>
        <p:spPr>
          <a:xfrm>
            <a:off x="914400" y="3948120"/>
            <a:ext cx="457200" cy="6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9" name=""/>
          <p:cNvSpPr/>
          <p:nvPr/>
        </p:nvSpPr>
        <p:spPr>
          <a:xfrm>
            <a:off x="190404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0" name=""/>
          <p:cNvSpPr/>
          <p:nvPr/>
        </p:nvSpPr>
        <p:spPr>
          <a:xfrm flipH="1">
            <a:off x="167616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F9F-B260-4A36-B2D9-3EBB1AE9427B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F5BDF-1CD2-4B1A-AC81-39AFB6727856}" type="datetime1">
              <a:rPr lang="en-US"/>
              <a:t>07/30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4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5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6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7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8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9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0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1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7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3" name=""/>
          <p:cNvSpPr/>
          <p:nvPr/>
        </p:nvSpPr>
        <p:spPr>
          <a:xfrm>
            <a:off x="1143000" y="2583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gerstown (DLCI 7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4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5" name=""/>
          <p:cNvSpPr/>
          <p:nvPr/>
        </p:nvSpPr>
        <p:spPr>
          <a:xfrm>
            <a:off x="838080" y="326880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67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0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1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2" name=""/>
          <p:cNvSpPr/>
          <p:nvPr/>
        </p:nvSpPr>
        <p:spPr>
          <a:xfrm>
            <a:off x="838080" y="2819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mitage (DLCI 8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3" name=""/>
          <p:cNvSpPr/>
          <p:nvPr/>
        </p:nvSpPr>
        <p:spPr>
          <a:xfrm>
            <a:off x="838080" y="2362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innell (DLCI 9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4" name=""/>
          <p:cNvSpPr/>
          <p:nvPr/>
        </p:nvSpPr>
        <p:spPr>
          <a:xfrm>
            <a:off x="838080" y="371808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nks (DLCI 9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5" name=""/>
          <p:cNvSpPr/>
          <p:nvPr/>
        </p:nvSpPr>
        <p:spPr>
          <a:xfrm>
            <a:off x="838080" y="3505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Vinyl) (DLCI 98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6" name=""/>
          <p:cNvSpPr/>
          <p:nvPr/>
        </p:nvSpPr>
        <p:spPr>
          <a:xfrm>
            <a:off x="838080" y="21337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burn (DLCI 8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771-374B-4F33-A364-543912AB8B2A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85C90-D8C6-4407-ADB3-34F3CAF5071B}" type="datetime1">
              <a:rPr lang="en-US"/>
              <a:t>07/30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0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6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7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2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8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9" name=""/>
          <p:cNvSpPr/>
          <p:nvPr/>
        </p:nvSpPr>
        <p:spPr>
          <a:xfrm>
            <a:off x="1143000" y="2178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0" name=""/>
          <p:cNvSpPr/>
          <p:nvPr/>
        </p:nvSpPr>
        <p:spPr>
          <a:xfrm>
            <a:off x="838080" y="2414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1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712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3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4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5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6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7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8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9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0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1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2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3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4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5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6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7" name=""/>
          <p:cNvSpPr/>
          <p:nvPr/>
        </p:nvSpPr>
        <p:spPr>
          <a:xfrm>
            <a:off x="838080" y="265104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00D-4048-4B3C-BBC3-00769C8027A3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72D3C-AE68-48D5-BF4E-5C9A4D6A0B95}" type="datetime1">
              <a:rPr lang="en-US"/>
              <a:t>07/30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1" name=""/>
          <p:cNvSpPr/>
          <p:nvPr/>
        </p:nvSpPr>
        <p:spPr>
          <a:xfrm>
            <a:off x="228600" y="152280"/>
            <a:ext cx="25909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2" name=""/>
          <p:cNvSpPr/>
          <p:nvPr/>
        </p:nvSpPr>
        <p:spPr>
          <a:xfrm>
            <a:off x="304920" y="152280"/>
            <a:ext cx="3047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e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 Office Box 8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ennsylvania 19482-01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7106…Lee Congle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3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4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5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6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7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9" name=""/>
          <p:cNvSpPr/>
          <p:nvPr/>
        </p:nvSpPr>
        <p:spPr>
          <a:xfrm>
            <a:off x="700920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0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1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2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1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8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275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8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9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2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3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4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5" name=""/>
          <p:cNvSpPr/>
          <p:nvPr/>
        </p:nvSpPr>
        <p:spPr>
          <a:xfrm>
            <a:off x="2894760" y="1752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6" name=""/>
          <p:cNvSpPr/>
          <p:nvPr/>
        </p:nvSpPr>
        <p:spPr>
          <a:xfrm>
            <a:off x="4364640" y="17524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7" name=""/>
          <p:cNvSpPr/>
          <p:nvPr/>
        </p:nvSpPr>
        <p:spPr>
          <a:xfrm>
            <a:off x="990720" y="160020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0) 825-9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8" name=""/>
          <p:cNvSpPr/>
          <p:nvPr/>
        </p:nvSpPr>
        <p:spPr>
          <a:xfrm>
            <a:off x="601920" y="44956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9" name=""/>
          <p:cNvGrpSpPr/>
          <p:nvPr/>
        </p:nvGrpSpPr>
        <p:grpSpPr>
          <a:xfrm>
            <a:off x="228600" y="4800600"/>
            <a:ext cx="3962520" cy="1461960"/>
            <a:chOff x="228600" y="4800600"/>
            <a:chExt cx="3962520" cy="1461960"/>
          </a:xfrm>
        </p:grpSpPr>
        <p:sp>
          <p:nvSpPr>
            <p:cNvPr id="12770" name=""/>
            <p:cNvSpPr/>
            <p:nvPr/>
          </p:nvSpPr>
          <p:spPr>
            <a:xfrm>
              <a:off x="2438280" y="601992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Develop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1" name=""/>
            <p:cNvSpPr/>
            <p:nvPr/>
          </p:nvSpPr>
          <p:spPr>
            <a:xfrm>
              <a:off x="1295280" y="60199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2" name=""/>
            <p:cNvSpPr/>
            <p:nvPr/>
          </p:nvSpPr>
          <p:spPr>
            <a:xfrm>
              <a:off x="228600" y="601992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3" name=""/>
            <p:cNvSpPr/>
            <p:nvPr/>
          </p:nvSpPr>
          <p:spPr>
            <a:xfrm>
              <a:off x="2438280" y="5772240"/>
              <a:ext cx="17528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4" name=""/>
            <p:cNvSpPr/>
            <p:nvPr/>
          </p:nvSpPr>
          <p:spPr>
            <a:xfrm>
              <a:off x="1295280" y="5772240"/>
              <a:ext cx="11430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5" name=""/>
            <p:cNvSpPr/>
            <p:nvPr/>
          </p:nvSpPr>
          <p:spPr>
            <a:xfrm>
              <a:off x="228600" y="577224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6" name=""/>
            <p:cNvSpPr/>
            <p:nvPr/>
          </p:nvSpPr>
          <p:spPr>
            <a:xfrm>
              <a:off x="2438280" y="5529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VBPG-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7" name=""/>
            <p:cNvSpPr/>
            <p:nvPr/>
          </p:nvSpPr>
          <p:spPr>
            <a:xfrm>
              <a:off x="1295280" y="5529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8" name=""/>
            <p:cNvSpPr/>
            <p:nvPr/>
          </p:nvSpPr>
          <p:spPr>
            <a:xfrm>
              <a:off x="228600" y="5529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9" name=""/>
            <p:cNvSpPr/>
            <p:nvPr/>
          </p:nvSpPr>
          <p:spPr>
            <a:xfrm>
              <a:off x="2438280" y="5286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Intra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0" name=""/>
            <p:cNvSpPr/>
            <p:nvPr/>
          </p:nvSpPr>
          <p:spPr>
            <a:xfrm>
              <a:off x="1295280" y="5286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1" name=""/>
            <p:cNvSpPr/>
            <p:nvPr/>
          </p:nvSpPr>
          <p:spPr>
            <a:xfrm>
              <a:off x="228600" y="5286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2" name=""/>
            <p:cNvSpPr/>
            <p:nvPr/>
          </p:nvSpPr>
          <p:spPr>
            <a:xfrm>
              <a:off x="2438280" y="504360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– PMD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3" name=""/>
            <p:cNvSpPr/>
            <p:nvPr/>
          </p:nvSpPr>
          <p:spPr>
            <a:xfrm>
              <a:off x="1295280" y="50436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4" name=""/>
            <p:cNvSpPr/>
            <p:nvPr/>
          </p:nvSpPr>
          <p:spPr>
            <a:xfrm>
              <a:off x="228600" y="50436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5" name=""/>
            <p:cNvSpPr/>
            <p:nvPr/>
          </p:nvSpPr>
          <p:spPr>
            <a:xfrm>
              <a:off x="2438280" y="480060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6" name=""/>
            <p:cNvSpPr/>
            <p:nvPr/>
          </p:nvSpPr>
          <p:spPr>
            <a:xfrm>
              <a:off x="1295280" y="48006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7" name=""/>
            <p:cNvSpPr/>
            <p:nvPr/>
          </p:nvSpPr>
          <p:spPr>
            <a:xfrm>
              <a:off x="228600" y="48006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8" name=""/>
            <p:cNvSpPr/>
            <p:nvPr/>
          </p:nvSpPr>
          <p:spPr>
            <a:xfrm>
              <a:off x="228600" y="480060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9" name=""/>
            <p:cNvSpPr/>
            <p:nvPr/>
          </p:nvSpPr>
          <p:spPr>
            <a:xfrm>
              <a:off x="228600" y="504360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0" name=""/>
            <p:cNvSpPr/>
            <p:nvPr/>
          </p:nvSpPr>
          <p:spPr>
            <a:xfrm>
              <a:off x="228600" y="5286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1" name=""/>
            <p:cNvSpPr/>
            <p:nvPr/>
          </p:nvSpPr>
          <p:spPr>
            <a:xfrm>
              <a:off x="228600" y="5529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2" name=""/>
            <p:cNvSpPr/>
            <p:nvPr/>
          </p:nvSpPr>
          <p:spPr>
            <a:xfrm>
              <a:off x="228600" y="5772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3" name=""/>
            <p:cNvSpPr/>
            <p:nvPr/>
          </p:nvSpPr>
          <p:spPr>
            <a:xfrm>
              <a:off x="228600" y="601992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4" name=""/>
            <p:cNvSpPr/>
            <p:nvPr/>
          </p:nvSpPr>
          <p:spPr>
            <a:xfrm>
              <a:off x="228600" y="626256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5" name=""/>
            <p:cNvSpPr/>
            <p:nvPr/>
          </p:nvSpPr>
          <p:spPr>
            <a:xfrm>
              <a:off x="22860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6" name=""/>
            <p:cNvSpPr/>
            <p:nvPr/>
          </p:nvSpPr>
          <p:spPr>
            <a:xfrm>
              <a:off x="1295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7" name=""/>
            <p:cNvSpPr/>
            <p:nvPr/>
          </p:nvSpPr>
          <p:spPr>
            <a:xfrm>
              <a:off x="2438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8" name=""/>
            <p:cNvSpPr/>
            <p:nvPr/>
          </p:nvSpPr>
          <p:spPr>
            <a:xfrm>
              <a:off x="419112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9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0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1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2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3" name=""/>
          <p:cNvSpPr/>
          <p:nvPr/>
        </p:nvSpPr>
        <p:spPr>
          <a:xfrm>
            <a:off x="1066680" y="3276720"/>
            <a:ext cx="403884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Management Module also runs on 161.120.36.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FDE-A898-492C-8587-65794BD09EE9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70304-BFEE-4F1D-88B4-8A903F069D51}" type="datetime1">
              <a:rPr lang="en-US"/>
              <a:t>07/30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7" name=""/>
          <p:cNvSpPr/>
          <p:nvPr/>
        </p:nvSpPr>
        <p:spPr>
          <a:xfrm>
            <a:off x="6184800" y="3963960"/>
            <a:ext cx="749520" cy="379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8" name=""/>
          <p:cNvSpPr/>
          <p:nvPr/>
        </p:nvSpPr>
        <p:spPr>
          <a:xfrm>
            <a:off x="1905120" y="1982880"/>
            <a:ext cx="107316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9" name=""/>
          <p:cNvSpPr/>
          <p:nvPr/>
        </p:nvSpPr>
        <p:spPr>
          <a:xfrm>
            <a:off x="213336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0" name=""/>
          <p:cNvSpPr/>
          <p:nvPr/>
        </p:nvSpPr>
        <p:spPr>
          <a:xfrm>
            <a:off x="5124600" y="213372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2" name=""/>
          <p:cNvSpPr/>
          <p:nvPr/>
        </p:nvSpPr>
        <p:spPr>
          <a:xfrm>
            <a:off x="6019920" y="1981080"/>
            <a:ext cx="10666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3" name=""/>
          <p:cNvSpPr/>
          <p:nvPr/>
        </p:nvSpPr>
        <p:spPr>
          <a:xfrm>
            <a:off x="6095160" y="243828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4" name="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5" name=""/>
          <p:cNvSpPr/>
          <p:nvPr/>
        </p:nvSpPr>
        <p:spPr>
          <a:xfrm>
            <a:off x="4876920" y="1982880"/>
            <a:ext cx="0" cy="38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6" name=""/>
          <p:cNvSpPr/>
          <p:nvPr/>
        </p:nvSpPr>
        <p:spPr>
          <a:xfrm flipV="1">
            <a:off x="2971800" y="2437920"/>
            <a:ext cx="1905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7" name=""/>
          <p:cNvSpPr/>
          <p:nvPr/>
        </p:nvSpPr>
        <p:spPr>
          <a:xfrm>
            <a:off x="2971800" y="2101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8" name=""/>
          <p:cNvSpPr/>
          <p:nvPr/>
        </p:nvSpPr>
        <p:spPr>
          <a:xfrm>
            <a:off x="1983240" y="1630440"/>
            <a:ext cx="91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9" name=""/>
          <p:cNvSpPr/>
          <p:nvPr/>
        </p:nvSpPr>
        <p:spPr>
          <a:xfrm>
            <a:off x="5940360" y="1630440"/>
            <a:ext cx="1195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0" name=""/>
          <p:cNvSpPr/>
          <p:nvPr/>
        </p:nvSpPr>
        <p:spPr>
          <a:xfrm>
            <a:off x="2818800" y="51354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1" name=""/>
          <p:cNvSpPr/>
          <p:nvPr/>
        </p:nvSpPr>
        <p:spPr>
          <a:xfrm>
            <a:off x="2133720" y="528804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2" name=""/>
          <p:cNvSpPr/>
          <p:nvPr/>
        </p:nvSpPr>
        <p:spPr>
          <a:xfrm>
            <a:off x="4876920" y="5257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3" name=""/>
          <p:cNvSpPr/>
          <p:nvPr/>
        </p:nvSpPr>
        <p:spPr>
          <a:xfrm>
            <a:off x="2197080" y="5059440"/>
            <a:ext cx="70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4" name=""/>
          <p:cNvSpPr/>
          <p:nvPr/>
        </p:nvSpPr>
        <p:spPr>
          <a:xfrm>
            <a:off x="452160" y="5821200"/>
            <a:ext cx="121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dir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5" name=""/>
          <p:cNvSpPr/>
          <p:nvPr/>
        </p:nvSpPr>
        <p:spPr>
          <a:xfrm>
            <a:off x="2133720" y="50594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6" name=""/>
          <p:cNvSpPr/>
          <p:nvPr/>
        </p:nvSpPr>
        <p:spPr>
          <a:xfrm>
            <a:off x="3505320" y="527220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7" name=""/>
          <p:cNvSpPr/>
          <p:nvPr/>
        </p:nvSpPr>
        <p:spPr>
          <a:xfrm>
            <a:off x="3581280" y="5486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8" name=""/>
          <p:cNvSpPr/>
          <p:nvPr/>
        </p:nvSpPr>
        <p:spPr>
          <a:xfrm>
            <a:off x="2873520" y="51354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9" name=""/>
          <p:cNvSpPr/>
          <p:nvPr/>
        </p:nvSpPr>
        <p:spPr>
          <a:xfrm>
            <a:off x="756720" y="50594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0" name=""/>
          <p:cNvSpPr/>
          <p:nvPr/>
        </p:nvSpPr>
        <p:spPr>
          <a:xfrm>
            <a:off x="685800" y="505944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1" name=""/>
          <p:cNvSpPr/>
          <p:nvPr/>
        </p:nvSpPr>
        <p:spPr>
          <a:xfrm>
            <a:off x="1371600" y="544032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2" name=""/>
          <p:cNvSpPr/>
          <p:nvPr/>
        </p:nvSpPr>
        <p:spPr>
          <a:xfrm>
            <a:off x="1364400" y="5135400"/>
            <a:ext cx="74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3" name=""/>
          <p:cNvSpPr/>
          <p:nvPr/>
        </p:nvSpPr>
        <p:spPr>
          <a:xfrm>
            <a:off x="7089840" y="4952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4" name=""/>
          <p:cNvSpPr/>
          <p:nvPr/>
        </p:nvSpPr>
        <p:spPr>
          <a:xfrm>
            <a:off x="6248160" y="50608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5" name=""/>
          <p:cNvSpPr/>
          <p:nvPr/>
        </p:nvSpPr>
        <p:spPr>
          <a:xfrm>
            <a:off x="6173280" y="5821200"/>
            <a:ext cx="75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6" name=""/>
          <p:cNvSpPr/>
          <p:nvPr/>
        </p:nvSpPr>
        <p:spPr>
          <a:xfrm>
            <a:off x="6019920" y="4984920"/>
            <a:ext cx="106668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7" name=""/>
          <p:cNvSpPr/>
          <p:nvPr/>
        </p:nvSpPr>
        <p:spPr>
          <a:xfrm>
            <a:off x="7086600" y="5289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8" name=""/>
          <p:cNvSpPr/>
          <p:nvPr/>
        </p:nvSpPr>
        <p:spPr>
          <a:xfrm>
            <a:off x="8229600" y="5060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9" name=""/>
          <p:cNvSpPr/>
          <p:nvPr/>
        </p:nvSpPr>
        <p:spPr>
          <a:xfrm>
            <a:off x="8229600" y="5137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0" name=""/>
          <p:cNvSpPr/>
          <p:nvPr/>
        </p:nvSpPr>
        <p:spPr>
          <a:xfrm>
            <a:off x="8229600" y="5442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1" name=""/>
          <p:cNvSpPr/>
          <p:nvPr/>
        </p:nvSpPr>
        <p:spPr>
          <a:xfrm>
            <a:off x="512460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2" name=""/>
          <p:cNvSpPr/>
          <p:nvPr/>
        </p:nvSpPr>
        <p:spPr>
          <a:xfrm>
            <a:off x="7089840" y="26226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3" name=""/>
          <p:cNvSpPr/>
          <p:nvPr/>
        </p:nvSpPr>
        <p:spPr>
          <a:xfrm>
            <a:off x="7086600" y="311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4" name=""/>
          <p:cNvSpPr/>
          <p:nvPr/>
        </p:nvSpPr>
        <p:spPr>
          <a:xfrm>
            <a:off x="8229600" y="288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5" name=""/>
          <p:cNvSpPr/>
          <p:nvPr/>
        </p:nvSpPr>
        <p:spPr>
          <a:xfrm>
            <a:off x="8229600" y="2959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6" name=""/>
          <p:cNvSpPr/>
          <p:nvPr/>
        </p:nvSpPr>
        <p:spPr>
          <a:xfrm>
            <a:off x="8229600" y="32637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7" name=""/>
          <p:cNvSpPr/>
          <p:nvPr/>
        </p:nvSpPr>
        <p:spPr>
          <a:xfrm>
            <a:off x="7089840" y="190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8" name=""/>
          <p:cNvSpPr/>
          <p:nvPr/>
        </p:nvSpPr>
        <p:spPr>
          <a:xfrm>
            <a:off x="70866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9" name=""/>
          <p:cNvSpPr/>
          <p:nvPr/>
        </p:nvSpPr>
        <p:spPr>
          <a:xfrm>
            <a:off x="8229600" y="2165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0" name=""/>
          <p:cNvSpPr/>
          <p:nvPr/>
        </p:nvSpPr>
        <p:spPr>
          <a:xfrm>
            <a:off x="8229600" y="2241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1" name=""/>
          <p:cNvSpPr/>
          <p:nvPr/>
        </p:nvSpPr>
        <p:spPr>
          <a:xfrm>
            <a:off x="8229600" y="25462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2" name=""/>
          <p:cNvSpPr/>
          <p:nvPr/>
        </p:nvSpPr>
        <p:spPr>
          <a:xfrm>
            <a:off x="655308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3" name=""/>
          <p:cNvSpPr/>
          <p:nvPr/>
        </p:nvSpPr>
        <p:spPr>
          <a:xfrm>
            <a:off x="6556320" y="33973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6" name=""/>
          <p:cNvSpPr/>
          <p:nvPr/>
        </p:nvSpPr>
        <p:spPr>
          <a:xfrm>
            <a:off x="1905120" y="3511440"/>
            <a:ext cx="1066680" cy="67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7" name=""/>
          <p:cNvSpPr/>
          <p:nvPr/>
        </p:nvSpPr>
        <p:spPr>
          <a:xfrm>
            <a:off x="1905120" y="3587760"/>
            <a:ext cx="1066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8" name=""/>
          <p:cNvSpPr/>
          <p:nvPr/>
        </p:nvSpPr>
        <p:spPr>
          <a:xfrm>
            <a:off x="2975040" y="36306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9" name=""/>
          <p:cNvSpPr/>
          <p:nvPr/>
        </p:nvSpPr>
        <p:spPr>
          <a:xfrm>
            <a:off x="2955960" y="3962520"/>
            <a:ext cx="14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0" name=""/>
          <p:cNvSpPr/>
          <p:nvPr/>
        </p:nvSpPr>
        <p:spPr>
          <a:xfrm>
            <a:off x="441972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1" name=""/>
          <p:cNvSpPr/>
          <p:nvPr/>
        </p:nvSpPr>
        <p:spPr>
          <a:xfrm>
            <a:off x="1827360" y="4267080"/>
            <a:ext cx="127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cle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9D9-8ECE-4DBE-BED2-AA172EBE2B67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AB4ED-C00D-4FDD-A853-CEA41B6F904C}" type="datetime1">
              <a:rPr lang="en-US"/>
              <a:t>07/30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5" name=""/>
          <p:cNvSpPr/>
          <p:nvPr/>
        </p:nvSpPr>
        <p:spPr>
          <a:xfrm>
            <a:off x="3983040" y="1911240"/>
            <a:ext cx="1120680" cy="318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6" name=""/>
          <p:cNvSpPr/>
          <p:nvPr/>
        </p:nvSpPr>
        <p:spPr>
          <a:xfrm>
            <a:off x="5186880" y="2347920"/>
            <a:ext cx="96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7" name=""/>
          <p:cNvSpPr/>
          <p:nvPr/>
        </p:nvSpPr>
        <p:spPr>
          <a:xfrm>
            <a:off x="4045680" y="5688000"/>
            <a:ext cx="1049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M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8" name=""/>
          <p:cNvSpPr/>
          <p:nvPr/>
        </p:nvSpPr>
        <p:spPr>
          <a:xfrm>
            <a:off x="5105520" y="266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9" name="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0" name=""/>
          <p:cNvSpPr/>
          <p:nvPr/>
        </p:nvSpPr>
        <p:spPr>
          <a:xfrm flipH="1">
            <a:off x="5105160" y="2514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1" name=""/>
          <p:cNvSpPr/>
          <p:nvPr/>
        </p:nvSpPr>
        <p:spPr>
          <a:xfrm>
            <a:off x="5188680" y="2957400"/>
            <a:ext cx="89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2_R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2" name=""/>
          <p:cNvSpPr/>
          <p:nvPr/>
        </p:nvSpPr>
        <p:spPr>
          <a:xfrm>
            <a:off x="640080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3" name="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4" name=""/>
          <p:cNvSpPr/>
          <p:nvPr/>
        </p:nvSpPr>
        <p:spPr>
          <a:xfrm>
            <a:off x="6400800" y="33526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5" name=""/>
          <p:cNvSpPr/>
          <p:nvPr/>
        </p:nvSpPr>
        <p:spPr>
          <a:xfrm flipH="1">
            <a:off x="5105160" y="31240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6" name=""/>
          <p:cNvSpPr/>
          <p:nvPr/>
        </p:nvSpPr>
        <p:spPr>
          <a:xfrm>
            <a:off x="5189400" y="35672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8" name=""/>
          <p:cNvSpPr/>
          <p:nvPr/>
        </p:nvSpPr>
        <p:spPr>
          <a:xfrm>
            <a:off x="6400800" y="3809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9" name="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0" name=""/>
          <p:cNvSpPr/>
          <p:nvPr/>
        </p:nvSpPr>
        <p:spPr>
          <a:xfrm flipH="1">
            <a:off x="5105160" y="37339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1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2" name=""/>
          <p:cNvSpPr/>
          <p:nvPr/>
        </p:nvSpPr>
        <p:spPr>
          <a:xfrm>
            <a:off x="6400800" y="4419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3" name=""/>
          <p:cNvSpPr/>
          <p:nvPr/>
        </p:nvSpPr>
        <p:spPr>
          <a:xfrm>
            <a:off x="640080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4" name=""/>
          <p:cNvSpPr/>
          <p:nvPr/>
        </p:nvSpPr>
        <p:spPr>
          <a:xfrm flipH="1">
            <a:off x="5105160" y="4343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5" name=""/>
          <p:cNvSpPr/>
          <p:nvPr/>
        </p:nvSpPr>
        <p:spPr>
          <a:xfrm>
            <a:off x="1758960" y="320688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6" name=""/>
          <p:cNvSpPr/>
          <p:nvPr/>
        </p:nvSpPr>
        <p:spPr>
          <a:xfrm flipH="1">
            <a:off x="29718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7" name=""/>
          <p:cNvSpPr/>
          <p:nvPr/>
        </p:nvSpPr>
        <p:spPr>
          <a:xfrm>
            <a:off x="2011320" y="3747960"/>
            <a:ext cx="71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-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8" name=""/>
          <p:cNvSpPr/>
          <p:nvPr/>
        </p:nvSpPr>
        <p:spPr>
          <a:xfrm>
            <a:off x="3011400" y="31860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9" name=""/>
          <p:cNvSpPr/>
          <p:nvPr/>
        </p:nvSpPr>
        <p:spPr>
          <a:xfrm>
            <a:off x="3809880" y="33526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0" name=""/>
          <p:cNvSpPr/>
          <p:nvPr/>
        </p:nvSpPr>
        <p:spPr>
          <a:xfrm>
            <a:off x="6400800" y="2590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1" name=""/>
          <p:cNvSpPr/>
          <p:nvPr/>
        </p:nvSpPr>
        <p:spPr>
          <a:xfrm>
            <a:off x="5105520" y="4495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2" name=""/>
          <p:cNvSpPr/>
          <p:nvPr/>
        </p:nvSpPr>
        <p:spPr>
          <a:xfrm>
            <a:off x="5105520" y="3886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3" name=""/>
          <p:cNvSpPr/>
          <p:nvPr/>
        </p:nvSpPr>
        <p:spPr>
          <a:xfrm>
            <a:off x="51055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4" name=""/>
          <p:cNvSpPr/>
          <p:nvPr/>
        </p:nvSpPr>
        <p:spPr>
          <a:xfrm>
            <a:off x="5186880" y="4176720"/>
            <a:ext cx="95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5" name=""/>
          <p:cNvSpPr/>
          <p:nvPr/>
        </p:nvSpPr>
        <p:spPr>
          <a:xfrm>
            <a:off x="640080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6" name=""/>
          <p:cNvSpPr/>
          <p:nvPr/>
        </p:nvSpPr>
        <p:spPr>
          <a:xfrm>
            <a:off x="6629400" y="651204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L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2E3-1364-4B39-BBA0-201B4D77EE4D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33072-6732-4E18-8406-630B31A549BC}" type="datetime1">
              <a:rPr lang="en-US"/>
              <a:t>07/30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2" name=""/>
          <p:cNvSpPr/>
          <p:nvPr/>
        </p:nvSpPr>
        <p:spPr>
          <a:xfrm>
            <a:off x="1911240" y="2290680"/>
            <a:ext cx="174492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3" name=""/>
          <p:cNvSpPr/>
          <p:nvPr/>
        </p:nvSpPr>
        <p:spPr>
          <a:xfrm>
            <a:off x="4578480" y="4129200"/>
            <a:ext cx="74916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4" name=""/>
          <p:cNvSpPr/>
          <p:nvPr/>
        </p:nvSpPr>
        <p:spPr>
          <a:xfrm>
            <a:off x="4619160" y="426564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5" name=""/>
          <p:cNvSpPr/>
          <p:nvPr/>
        </p:nvSpPr>
        <p:spPr>
          <a:xfrm>
            <a:off x="36576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6" name=""/>
          <p:cNvSpPr/>
          <p:nvPr/>
        </p:nvSpPr>
        <p:spPr>
          <a:xfrm>
            <a:off x="43434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7" name=""/>
          <p:cNvSpPr/>
          <p:nvPr/>
        </p:nvSpPr>
        <p:spPr>
          <a:xfrm>
            <a:off x="3892680" y="4135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8" name=""/>
          <p:cNvSpPr/>
          <p:nvPr/>
        </p:nvSpPr>
        <p:spPr>
          <a:xfrm>
            <a:off x="36576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9" name=""/>
          <p:cNvSpPr/>
          <p:nvPr/>
        </p:nvSpPr>
        <p:spPr>
          <a:xfrm>
            <a:off x="43434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0" name=""/>
          <p:cNvSpPr/>
          <p:nvPr/>
        </p:nvSpPr>
        <p:spPr>
          <a:xfrm>
            <a:off x="3892680" y="50497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1" name=""/>
          <p:cNvSpPr/>
          <p:nvPr/>
        </p:nvSpPr>
        <p:spPr>
          <a:xfrm>
            <a:off x="36576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2" name=""/>
          <p:cNvSpPr/>
          <p:nvPr/>
        </p:nvSpPr>
        <p:spPr>
          <a:xfrm>
            <a:off x="43434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3" name=""/>
          <p:cNvSpPr/>
          <p:nvPr/>
        </p:nvSpPr>
        <p:spPr>
          <a:xfrm>
            <a:off x="3892680" y="5278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4" name=""/>
          <p:cNvSpPr/>
          <p:nvPr/>
        </p:nvSpPr>
        <p:spPr>
          <a:xfrm>
            <a:off x="1911240" y="4592520"/>
            <a:ext cx="173988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5" name=""/>
          <p:cNvSpPr/>
          <p:nvPr/>
        </p:nvSpPr>
        <p:spPr>
          <a:xfrm>
            <a:off x="2244600" y="5035680"/>
            <a:ext cx="142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bin/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6" name=""/>
          <p:cNvSpPr/>
          <p:nvPr/>
        </p:nvSpPr>
        <p:spPr>
          <a:xfrm>
            <a:off x="2903400" y="5264280"/>
            <a:ext cx="768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stl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7" name=""/>
          <p:cNvGrpSpPr/>
          <p:nvPr/>
        </p:nvGrpSpPr>
        <p:grpSpPr>
          <a:xfrm>
            <a:off x="6227640" y="3976560"/>
            <a:ext cx="1684080" cy="1675800"/>
            <a:chOff x="6227640" y="3976560"/>
            <a:chExt cx="1684080" cy="1675800"/>
          </a:xfrm>
        </p:grpSpPr>
        <p:sp>
          <p:nvSpPr>
            <p:cNvPr id="12918" name=""/>
            <p:cNvSpPr/>
            <p:nvPr/>
          </p:nvSpPr>
          <p:spPr>
            <a:xfrm>
              <a:off x="7116120" y="4084560"/>
              <a:ext cx="360720" cy="44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4"/>
                  </a:moveTo>
                  <a:arcTo wR="10800" hR="10800" stAng="-9942556" swAng="1119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4"/>
                  </a:moveTo>
                  <a:arcTo wR="10800" hR="10800" stAng="-9942556" swAng="111917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9" name=""/>
            <p:cNvSpPr/>
            <p:nvPr/>
          </p:nvSpPr>
          <p:spPr>
            <a:xfrm>
              <a:off x="6227640" y="4111200"/>
              <a:ext cx="462960" cy="48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6" y="20710"/>
                  </a:moveTo>
                  <a:arcTo wR="10800" hR="10800" stAng="6805571" swAng="124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6" y="20710"/>
                  </a:moveTo>
                  <a:arcTo wR="10800" hR="10800" stAng="6805571" swAng="124408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0" name=""/>
            <p:cNvSpPr/>
            <p:nvPr/>
          </p:nvSpPr>
          <p:spPr>
            <a:xfrm>
              <a:off x="6651720" y="397656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1" name=""/>
            <p:cNvSpPr/>
            <p:nvPr/>
          </p:nvSpPr>
          <p:spPr>
            <a:xfrm>
              <a:off x="6248520" y="455688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2" y="21203"/>
                  </a:moveTo>
                  <a:arcTo wR="10800" hR="10800" stAng="4464909" swAng="10163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2" y="21203"/>
                  </a:moveTo>
                  <a:arcTo wR="10800" hR="10800" stAng="4464909" swAng="10163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2" name=""/>
            <p:cNvSpPr/>
            <p:nvPr/>
          </p:nvSpPr>
          <p:spPr>
            <a:xfrm>
              <a:off x="6500880" y="4935240"/>
              <a:ext cx="4629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6" y="17442"/>
                  </a:moveTo>
                  <a:arcTo wR="10800" hR="10800" stAng="2276988" swAng="10624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6" y="17442"/>
                  </a:moveTo>
                  <a:arcTo wR="10800" hR="10800" stAng="2276988" swAng="106249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3" name=""/>
            <p:cNvSpPr/>
            <p:nvPr/>
          </p:nvSpPr>
          <p:spPr>
            <a:xfrm>
              <a:off x="6904080" y="5165640"/>
              <a:ext cx="464760" cy="48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4" y="5653"/>
                  </a:moveTo>
                  <a:arcTo wR="10800" hR="10800" stAng="-1707850" swAng="130480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4" y="5653"/>
                  </a:moveTo>
                  <a:arcTo wR="10800" hR="10800" stAng="-1707850" swAng="130480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4" name=""/>
            <p:cNvSpPr/>
            <p:nvPr/>
          </p:nvSpPr>
          <p:spPr>
            <a:xfrm>
              <a:off x="7347960" y="4963680"/>
              <a:ext cx="463680" cy="48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2" y="411"/>
                  </a:moveTo>
                  <a:arcTo wR="10800" hR="10800" stAng="-4448266" swAng="137629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2" y="411"/>
                  </a:moveTo>
                  <a:arcTo wR="10800" hR="10800" stAng="-4448266" swAng="137629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5" name=""/>
            <p:cNvSpPr/>
            <p:nvPr/>
          </p:nvSpPr>
          <p:spPr>
            <a:xfrm>
              <a:off x="7399080" y="4300200"/>
              <a:ext cx="51264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6" y="3033"/>
                  </a:moveTo>
                  <a:arcTo wR="10800" hR="10800" stAng="-8040840" swAng="13462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6" y="3033"/>
                  </a:moveTo>
                  <a:arcTo wR="10800" hR="10800" stAng="-8040840" swAng="1346216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6" name=""/>
          <p:cNvSpPr/>
          <p:nvPr/>
        </p:nvSpPr>
        <p:spPr>
          <a:xfrm>
            <a:off x="53341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7" name=""/>
          <p:cNvSpPr/>
          <p:nvPr/>
        </p:nvSpPr>
        <p:spPr>
          <a:xfrm>
            <a:off x="60199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8" name=""/>
          <p:cNvSpPr/>
          <p:nvPr/>
        </p:nvSpPr>
        <p:spPr>
          <a:xfrm>
            <a:off x="5568840" y="4743360"/>
            <a:ext cx="444600" cy="1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9" name=""/>
          <p:cNvSpPr/>
          <p:nvPr/>
        </p:nvSpPr>
        <p:spPr>
          <a:xfrm>
            <a:off x="6757920" y="4653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0" name=""/>
          <p:cNvSpPr/>
          <p:nvPr/>
        </p:nvSpPr>
        <p:spPr>
          <a:xfrm>
            <a:off x="1059480" y="488304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1" name=""/>
          <p:cNvSpPr/>
          <p:nvPr/>
        </p:nvSpPr>
        <p:spPr>
          <a:xfrm>
            <a:off x="682560" y="2284560"/>
            <a:ext cx="1201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2" name=""/>
          <p:cNvSpPr/>
          <p:nvPr/>
        </p:nvSpPr>
        <p:spPr>
          <a:xfrm>
            <a:off x="3911760" y="412920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3" name=""/>
          <p:cNvSpPr/>
          <p:nvPr/>
        </p:nvSpPr>
        <p:spPr>
          <a:xfrm>
            <a:off x="3835440" y="50436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4" name=""/>
          <p:cNvSpPr/>
          <p:nvPr/>
        </p:nvSpPr>
        <p:spPr>
          <a:xfrm>
            <a:off x="5511960" y="473724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44m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5" name=""/>
          <p:cNvSpPr/>
          <p:nvPr/>
        </p:nvSpPr>
        <p:spPr>
          <a:xfrm>
            <a:off x="1911240" y="4135320"/>
            <a:ext cx="173988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6" name=""/>
          <p:cNvSpPr/>
          <p:nvPr/>
        </p:nvSpPr>
        <p:spPr>
          <a:xfrm>
            <a:off x="2652480" y="4121280"/>
            <a:ext cx="1020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7" name=""/>
          <p:cNvSpPr/>
          <p:nvPr/>
        </p:nvSpPr>
        <p:spPr>
          <a:xfrm>
            <a:off x="2786040" y="457848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rlin/Pla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8" name=""/>
          <p:cNvSpPr/>
          <p:nvPr/>
        </p:nvSpPr>
        <p:spPr>
          <a:xfrm>
            <a:off x="2307240" y="4807080"/>
            <a:ext cx="136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olton/Greensb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9" name=""/>
          <p:cNvSpPr/>
          <p:nvPr/>
        </p:nvSpPr>
        <p:spPr>
          <a:xfrm>
            <a:off x="36576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0" name=""/>
          <p:cNvSpPr/>
          <p:nvPr/>
        </p:nvSpPr>
        <p:spPr>
          <a:xfrm>
            <a:off x="43434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1" name=""/>
          <p:cNvSpPr/>
          <p:nvPr/>
        </p:nvSpPr>
        <p:spPr>
          <a:xfrm>
            <a:off x="3892680" y="48211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2" name=""/>
          <p:cNvSpPr/>
          <p:nvPr/>
        </p:nvSpPr>
        <p:spPr>
          <a:xfrm>
            <a:off x="36576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3" name=""/>
          <p:cNvSpPr/>
          <p:nvPr/>
        </p:nvSpPr>
        <p:spPr>
          <a:xfrm>
            <a:off x="43434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4" name=""/>
          <p:cNvSpPr/>
          <p:nvPr/>
        </p:nvSpPr>
        <p:spPr>
          <a:xfrm>
            <a:off x="3892680" y="45925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5" name=""/>
          <p:cNvSpPr/>
          <p:nvPr/>
        </p:nvSpPr>
        <p:spPr>
          <a:xfrm>
            <a:off x="3835440" y="45864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6" name=""/>
          <p:cNvSpPr/>
          <p:nvPr/>
        </p:nvSpPr>
        <p:spPr>
          <a:xfrm>
            <a:off x="3835440" y="48150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7" name=""/>
          <p:cNvGrpSpPr/>
          <p:nvPr/>
        </p:nvGrpSpPr>
        <p:grpSpPr>
          <a:xfrm>
            <a:off x="6226200" y="2133720"/>
            <a:ext cx="1685520" cy="683280"/>
            <a:chOff x="6226200" y="2133720"/>
            <a:chExt cx="1685520" cy="683280"/>
          </a:xfrm>
        </p:grpSpPr>
        <p:sp>
          <p:nvSpPr>
            <p:cNvPr id="12948" name=""/>
            <p:cNvSpPr/>
            <p:nvPr/>
          </p:nvSpPr>
          <p:spPr>
            <a:xfrm>
              <a:off x="7116120" y="2178000"/>
              <a:ext cx="362160" cy="17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9" name=""/>
            <p:cNvSpPr/>
            <p:nvPr/>
          </p:nvSpPr>
          <p:spPr>
            <a:xfrm>
              <a:off x="6226200" y="218736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0" name=""/>
            <p:cNvSpPr/>
            <p:nvPr/>
          </p:nvSpPr>
          <p:spPr>
            <a:xfrm>
              <a:off x="6651720" y="213372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1" name=""/>
            <p:cNvSpPr/>
            <p:nvPr/>
          </p:nvSpPr>
          <p:spPr>
            <a:xfrm>
              <a:off x="6246720" y="2371320"/>
              <a:ext cx="463680" cy="19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2" name=""/>
            <p:cNvSpPr/>
            <p:nvPr/>
          </p:nvSpPr>
          <p:spPr>
            <a:xfrm>
              <a:off x="6499080" y="252504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3" name=""/>
            <p:cNvSpPr/>
            <p:nvPr/>
          </p:nvSpPr>
          <p:spPr>
            <a:xfrm>
              <a:off x="6904080" y="261828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4" name=""/>
            <p:cNvSpPr/>
            <p:nvPr/>
          </p:nvSpPr>
          <p:spPr>
            <a:xfrm>
              <a:off x="7348680" y="2536200"/>
              <a:ext cx="46296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5" name=""/>
            <p:cNvSpPr/>
            <p:nvPr/>
          </p:nvSpPr>
          <p:spPr>
            <a:xfrm>
              <a:off x="7399800" y="2265120"/>
              <a:ext cx="51192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6" name=""/>
          <p:cNvSpPr/>
          <p:nvPr/>
        </p:nvSpPr>
        <p:spPr>
          <a:xfrm>
            <a:off x="6815880" y="2352600"/>
            <a:ext cx="544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7" name=""/>
          <p:cNvSpPr/>
          <p:nvPr/>
        </p:nvSpPr>
        <p:spPr>
          <a:xfrm flipH="1">
            <a:off x="5791320" y="2436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8" name=""/>
          <p:cNvSpPr/>
          <p:nvPr/>
        </p:nvSpPr>
        <p:spPr>
          <a:xfrm>
            <a:off x="1059480" y="412128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9" name=""/>
          <p:cNvSpPr/>
          <p:nvPr/>
        </p:nvSpPr>
        <p:spPr>
          <a:xfrm>
            <a:off x="6629400" y="6512040"/>
            <a:ext cx="222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W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0" name=""/>
          <p:cNvSpPr/>
          <p:nvPr/>
        </p:nvSpPr>
        <p:spPr>
          <a:xfrm>
            <a:off x="3835440" y="52722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1" name=""/>
          <p:cNvSpPr/>
          <p:nvPr/>
        </p:nvSpPr>
        <p:spPr>
          <a:xfrm>
            <a:off x="171360" y="1713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2" name=""/>
          <p:cNvSpPr/>
          <p:nvPr/>
        </p:nvSpPr>
        <p:spPr>
          <a:xfrm>
            <a:off x="231840" y="2253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3" name=""/>
          <p:cNvSpPr/>
          <p:nvPr/>
        </p:nvSpPr>
        <p:spPr>
          <a:xfrm>
            <a:off x="2445480" y="2352600"/>
            <a:ext cx="122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LC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4" name=""/>
          <p:cNvSpPr/>
          <p:nvPr/>
        </p:nvSpPr>
        <p:spPr>
          <a:xfrm>
            <a:off x="3657600" y="2436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5" name=""/>
          <p:cNvSpPr/>
          <p:nvPr/>
        </p:nvSpPr>
        <p:spPr>
          <a:xfrm>
            <a:off x="4343400" y="243684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6" name=""/>
          <p:cNvSpPr/>
          <p:nvPr/>
        </p:nvSpPr>
        <p:spPr>
          <a:xfrm>
            <a:off x="3892680" y="236700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7" name=""/>
          <p:cNvSpPr/>
          <p:nvPr/>
        </p:nvSpPr>
        <p:spPr>
          <a:xfrm>
            <a:off x="3911760" y="236052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0DC-09CC-4301-A914-F1F20BE0B6B6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DEE15-6599-4EAB-B87E-F756368FF741}" type="datetime1">
              <a:rPr lang="en-US"/>
              <a:t>07/30/26</a:t>
            </a:fld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n Nuy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29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6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08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2" name=""/>
          <p:cNvSpPr/>
          <p:nvPr/>
        </p:nvSpPr>
        <p:spPr>
          <a:xfrm>
            <a:off x="171360" y="171360"/>
            <a:ext cx="26290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01 Woodle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  914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Bob Warner x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Lou Rattlestorfer x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4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 Nu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46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2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n Nuy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3" name=""/>
          <p:cNvSpPr/>
          <p:nvPr/>
        </p:nvSpPr>
        <p:spPr>
          <a:xfrm>
            <a:off x="398520" y="530208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VAN_NU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B25-398B-4025-A61B-776269226A8D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A4D39-34CA-4800-808F-3E2F7A3F8F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02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3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0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4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5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9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0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1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2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2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4501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3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21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D55-04DA-470E-8F0D-DE98928E9168}" type="slidenum">
              <a:t>2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8F711-A7CA-4792-9D53-639911656B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ington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7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088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6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8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9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0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1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2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3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4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5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6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7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8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9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0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1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2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3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4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5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6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7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8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9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0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1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2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3" name=""/>
          <p:cNvSpPr/>
          <p:nvPr/>
        </p:nvSpPr>
        <p:spPr>
          <a:xfrm>
            <a:off x="3527640" y="447984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-222-12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4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5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6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) 222-12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7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s Moul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9 South Colleg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  15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24) 222-7006…Jim Rosenberg x-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1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2" name=""/>
          <p:cNvSpPr/>
          <p:nvPr/>
        </p:nvSpPr>
        <p:spPr>
          <a:xfrm>
            <a:off x="227880" y="5302080"/>
            <a:ext cx="112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89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8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9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875-0956-4096-9C9C-2200DA6E8D5A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560E9-8AE1-46DF-A597-DB4414A0BC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uquerque, New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0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01-Balloon Fiesta Parkway N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ew Mexico  871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Zeljko Ko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Thelma Made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5) 823-1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5-828-1897 / 505-828-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44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379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6BB-7042-4CA1-BC0E-DC1BD98EC8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FF4F2-62FE-4E6D-9E3C-420832BF36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ougal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4" name=""/>
          <p:cNvSpPr/>
          <p:nvPr/>
        </p:nvSpPr>
        <p:spPr>
          <a:xfrm>
            <a:off x="7162920" y="650700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o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5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6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Crystal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South 32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shington  986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8566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9864…Gerald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8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0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2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5" name=""/>
          <p:cNvSpPr/>
          <p:nvPr/>
        </p:nvSpPr>
        <p:spPr>
          <a:xfrm>
            <a:off x="1301760" y="2646360"/>
            <a:ext cx="59688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6" name=""/>
          <p:cNvSpPr/>
          <p:nvPr/>
        </p:nvSpPr>
        <p:spPr>
          <a:xfrm>
            <a:off x="1346040" y="265104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8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9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0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1" name=""/>
          <p:cNvSpPr/>
          <p:nvPr/>
        </p:nvSpPr>
        <p:spPr>
          <a:xfrm flipV="1">
            <a:off x="7620120" y="31237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2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3" name=""/>
          <p:cNvSpPr/>
          <p:nvPr/>
        </p:nvSpPr>
        <p:spPr>
          <a:xfrm>
            <a:off x="8127720" y="49053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5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3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4" name=""/>
          <p:cNvSpPr/>
          <p:nvPr/>
        </p:nvSpPr>
        <p:spPr>
          <a:xfrm>
            <a:off x="633816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5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6" name=""/>
          <p:cNvSpPr/>
          <p:nvPr/>
        </p:nvSpPr>
        <p:spPr>
          <a:xfrm>
            <a:off x="4963320" y="27306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9" name=""/>
          <p:cNvSpPr/>
          <p:nvPr/>
        </p:nvSpPr>
        <p:spPr>
          <a:xfrm>
            <a:off x="2222280" y="26542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0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3181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2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3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4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5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6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9" name=""/>
          <p:cNvSpPr/>
          <p:nvPr/>
        </p:nvSpPr>
        <p:spPr>
          <a:xfrm>
            <a:off x="3533040" y="27432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0" name=""/>
          <p:cNvSpPr/>
          <p:nvPr/>
        </p:nvSpPr>
        <p:spPr>
          <a:xfrm>
            <a:off x="3983040" y="213372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1" name=""/>
          <p:cNvSpPr/>
          <p:nvPr/>
        </p:nvSpPr>
        <p:spPr>
          <a:xfrm>
            <a:off x="5562720" y="2895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2" name=""/>
          <p:cNvSpPr/>
          <p:nvPr/>
        </p:nvSpPr>
        <p:spPr>
          <a:xfrm>
            <a:off x="6098760" y="26686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0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3" name=""/>
          <p:cNvSpPr/>
          <p:nvPr/>
        </p:nvSpPr>
        <p:spPr>
          <a:xfrm>
            <a:off x="7327800" y="2666880"/>
            <a:ext cx="59688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4" name=""/>
          <p:cNvSpPr/>
          <p:nvPr/>
        </p:nvSpPr>
        <p:spPr>
          <a:xfrm>
            <a:off x="7372440" y="267192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A69-66C9-4849-AEBF-9738C07C434C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F5F23-E2C4-47F7-8547-8665B87B1E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xahachi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19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3-45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37-2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9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0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1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00 North Interstate Hwy.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exas  75165-5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937-3430…Dennis Worrell x-5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xahac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6" name=""/>
          <p:cNvSpPr/>
          <p:nvPr/>
        </p:nvSpPr>
        <p:spPr>
          <a:xfrm>
            <a:off x="227520" y="5302080"/>
            <a:ext cx="111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7" name=""/>
          <p:cNvSpPr/>
          <p:nvPr/>
        </p:nvSpPr>
        <p:spPr>
          <a:xfrm>
            <a:off x="99360" y="4038480"/>
            <a:ext cx="1120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8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9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xahach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4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300-5078-41B2-925E-D670CD7B709B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EAA4C-939A-43B2-B048-852A931BEB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8" name=""/>
          <p:cNvSpPr/>
          <p:nvPr/>
        </p:nvSpPr>
        <p:spPr>
          <a:xfrm>
            <a:off x="7543800" y="6512040"/>
            <a:ext cx="1300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9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0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1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2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13263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4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5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6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7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8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9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0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1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2" name=""/>
          <p:cNvSpPr/>
          <p:nvPr/>
        </p:nvSpPr>
        <p:spPr>
          <a:xfrm>
            <a:off x="2102400" y="559260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3" name=""/>
          <p:cNvSpPr/>
          <p:nvPr/>
        </p:nvSpPr>
        <p:spPr>
          <a:xfrm>
            <a:off x="1545840" y="22017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18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4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5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6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7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8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000088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9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0" name=""/>
          <p:cNvSpPr/>
          <p:nvPr/>
        </p:nvSpPr>
        <p:spPr>
          <a:xfrm>
            <a:off x="1297800" y="2887560"/>
            <a:ext cx="252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2" name=""/>
          <p:cNvSpPr/>
          <p:nvPr/>
        </p:nvSpPr>
        <p:spPr>
          <a:xfrm>
            <a:off x="1621080" y="3336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3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4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5" name=""/>
          <p:cNvSpPr/>
          <p:nvPr/>
        </p:nvSpPr>
        <p:spPr>
          <a:xfrm>
            <a:off x="1853640" y="3108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02D-65D0-4A1F-BA4F-53C3CBB1D394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71320-4D6C-4FBA-AA3A-865FE25A6B54}" type="datetime1">
              <a:rPr lang="en-US"/>
              <a:t>07/30/26</a:t>
            </a:fld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0" name=""/>
          <p:cNvSpPr/>
          <p:nvPr/>
        </p:nvSpPr>
        <p:spPr>
          <a:xfrm>
            <a:off x="228600" y="152280"/>
            <a:ext cx="23623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1" name=""/>
          <p:cNvSpPr/>
          <p:nvPr/>
        </p:nvSpPr>
        <p:spPr>
          <a:xfrm>
            <a:off x="228600" y="152280"/>
            <a:ext cx="3048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ew Jersey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zc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3" name=""/>
          <p:cNvSpPr/>
          <p:nvPr/>
        </p:nvSpPr>
        <p:spPr>
          <a:xfrm>
            <a:off x="6475680" y="236052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7" name=""/>
          <p:cNvSpPr/>
          <p:nvPr/>
        </p:nvSpPr>
        <p:spPr>
          <a:xfrm>
            <a:off x="703440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8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0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1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2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3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4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5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6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3307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8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9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0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1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2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3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4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15" name=""/>
          <p:cNvSpPr/>
          <p:nvPr/>
        </p:nvSpPr>
        <p:spPr>
          <a:xfrm>
            <a:off x="7009920" y="403848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6" name=""/>
          <p:cNvSpPr/>
          <p:nvPr/>
        </p:nvSpPr>
        <p:spPr>
          <a:xfrm>
            <a:off x="57902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7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8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9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ne, New Jer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32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5" name=""/>
          <p:cNvSpPr/>
          <p:nvPr/>
        </p:nvSpPr>
        <p:spPr>
          <a:xfrm>
            <a:off x="69969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6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7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9" name=""/>
          <p:cNvSpPr/>
          <p:nvPr/>
        </p:nvSpPr>
        <p:spPr>
          <a:xfrm>
            <a:off x="2907360" y="18288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0" name=""/>
          <p:cNvSpPr/>
          <p:nvPr/>
        </p:nvSpPr>
        <p:spPr>
          <a:xfrm>
            <a:off x="7009200" y="20574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1" name=""/>
          <p:cNvSpPr/>
          <p:nvPr/>
        </p:nvSpPr>
        <p:spPr>
          <a:xfrm>
            <a:off x="422460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2" name=""/>
          <p:cNvSpPr/>
          <p:nvPr/>
        </p:nvSpPr>
        <p:spPr>
          <a:xfrm>
            <a:off x="457344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818-4CA7-45F8-894D-ED4BE5626120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8F86A-566B-4786-978B-E9465ECB1875}" type="datetime1">
              <a:rPr lang="en-US"/>
              <a:t>07/30/26</a:t>
            </a:fld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6" name=""/>
          <p:cNvGrpSpPr/>
          <p:nvPr/>
        </p:nvGrpSpPr>
        <p:grpSpPr>
          <a:xfrm>
            <a:off x="3657600" y="990720"/>
            <a:ext cx="2133360" cy="3503160"/>
            <a:chOff x="3657600" y="990720"/>
            <a:chExt cx="2133360" cy="3503160"/>
          </a:xfrm>
        </p:grpSpPr>
        <p:sp>
          <p:nvSpPr>
            <p:cNvPr id="13347" name=""/>
            <p:cNvSpPr/>
            <p:nvPr/>
          </p:nvSpPr>
          <p:spPr>
            <a:xfrm>
              <a:off x="478476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8" name=""/>
            <p:cNvSpPr/>
            <p:nvPr/>
          </p:nvSpPr>
          <p:spPr>
            <a:xfrm>
              <a:off x="365760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9" name=""/>
            <p:cNvSpPr/>
            <p:nvPr/>
          </p:nvSpPr>
          <p:spPr>
            <a:xfrm>
              <a:off x="419256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0" name=""/>
            <p:cNvSpPr/>
            <p:nvPr/>
          </p:nvSpPr>
          <p:spPr>
            <a:xfrm>
              <a:off x="368316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1" name=""/>
            <p:cNvSpPr/>
            <p:nvPr/>
          </p:nvSpPr>
          <p:spPr>
            <a:xfrm>
              <a:off x="400212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2" name=""/>
            <p:cNvSpPr/>
            <p:nvPr/>
          </p:nvSpPr>
          <p:spPr>
            <a:xfrm>
              <a:off x="451512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3" name=""/>
            <p:cNvSpPr/>
            <p:nvPr/>
          </p:nvSpPr>
          <p:spPr>
            <a:xfrm>
              <a:off x="507564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4" name=""/>
            <p:cNvSpPr/>
            <p:nvPr/>
          </p:nvSpPr>
          <p:spPr>
            <a:xfrm>
              <a:off x="514224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5" name=""/>
          <p:cNvSpPr/>
          <p:nvPr/>
        </p:nvSpPr>
        <p:spPr>
          <a:xfrm>
            <a:off x="7267320" y="5969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6" name=""/>
          <p:cNvSpPr/>
          <p:nvPr/>
        </p:nvSpPr>
        <p:spPr>
          <a:xfrm flipH="1" flipV="1">
            <a:off x="5789520" y="210492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7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8" name=""/>
          <p:cNvSpPr/>
          <p:nvPr/>
        </p:nvSpPr>
        <p:spPr>
          <a:xfrm>
            <a:off x="747720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9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0" name=""/>
          <p:cNvSpPr/>
          <p:nvPr/>
        </p:nvSpPr>
        <p:spPr>
          <a:xfrm flipV="1">
            <a:off x="7846920" y="2895480"/>
            <a:ext cx="18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1" name=""/>
          <p:cNvSpPr/>
          <p:nvPr/>
        </p:nvSpPr>
        <p:spPr>
          <a:xfrm>
            <a:off x="687708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2" name=""/>
          <p:cNvSpPr/>
          <p:nvPr/>
        </p:nvSpPr>
        <p:spPr>
          <a:xfrm>
            <a:off x="371484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3" name=""/>
          <p:cNvSpPr/>
          <p:nvPr/>
        </p:nvSpPr>
        <p:spPr>
          <a:xfrm>
            <a:off x="51055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4" name=""/>
          <p:cNvSpPr/>
          <p:nvPr/>
        </p:nvSpPr>
        <p:spPr>
          <a:xfrm>
            <a:off x="4093200" y="1676520"/>
            <a:ext cx="118944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5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6" name=""/>
          <p:cNvSpPr/>
          <p:nvPr/>
        </p:nvSpPr>
        <p:spPr>
          <a:xfrm>
            <a:off x="1033200" y="3187800"/>
            <a:ext cx="105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7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8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9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0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2" name=""/>
          <p:cNvSpPr/>
          <p:nvPr/>
        </p:nvSpPr>
        <p:spPr>
          <a:xfrm>
            <a:off x="61272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5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8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9" name=""/>
          <p:cNvSpPr/>
          <p:nvPr/>
        </p:nvSpPr>
        <p:spPr>
          <a:xfrm>
            <a:off x="290952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1" name=""/>
          <p:cNvSpPr/>
          <p:nvPr/>
        </p:nvSpPr>
        <p:spPr>
          <a:xfrm>
            <a:off x="7543800" y="6526080"/>
            <a:ext cx="13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2" name=""/>
          <p:cNvSpPr/>
          <p:nvPr/>
        </p:nvSpPr>
        <p:spPr>
          <a:xfrm>
            <a:off x="6246720" y="26193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3" name=""/>
          <p:cNvSpPr/>
          <p:nvPr/>
        </p:nvSpPr>
        <p:spPr>
          <a:xfrm>
            <a:off x="609444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4" name=""/>
          <p:cNvSpPr/>
          <p:nvPr/>
        </p:nvSpPr>
        <p:spPr>
          <a:xfrm>
            <a:off x="233928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5" name=""/>
          <p:cNvSpPr/>
          <p:nvPr/>
        </p:nvSpPr>
        <p:spPr>
          <a:xfrm>
            <a:off x="2135160" y="260496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6" name=""/>
          <p:cNvSpPr/>
          <p:nvPr/>
        </p:nvSpPr>
        <p:spPr>
          <a:xfrm>
            <a:off x="2057400" y="25909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7" name=""/>
          <p:cNvSpPr/>
          <p:nvPr/>
        </p:nvSpPr>
        <p:spPr>
          <a:xfrm>
            <a:off x="2909520" y="48769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8" name=""/>
          <p:cNvSpPr/>
          <p:nvPr/>
        </p:nvSpPr>
        <p:spPr>
          <a:xfrm flipH="1">
            <a:off x="2438280" y="3078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9" name=""/>
          <p:cNvSpPr/>
          <p:nvPr/>
        </p:nvSpPr>
        <p:spPr>
          <a:xfrm>
            <a:off x="2858040" y="2940120"/>
            <a:ext cx="538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0" name=""/>
          <p:cNvSpPr/>
          <p:nvPr/>
        </p:nvSpPr>
        <p:spPr>
          <a:xfrm>
            <a:off x="571500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1" name=""/>
          <p:cNvSpPr/>
          <p:nvPr/>
        </p:nvSpPr>
        <p:spPr>
          <a:xfrm>
            <a:off x="510552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2" name=""/>
          <p:cNvSpPr/>
          <p:nvPr/>
        </p:nvSpPr>
        <p:spPr>
          <a:xfrm>
            <a:off x="6246720" y="20574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3" name=""/>
          <p:cNvSpPr/>
          <p:nvPr/>
        </p:nvSpPr>
        <p:spPr>
          <a:xfrm>
            <a:off x="6251400" y="23004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4" name=""/>
          <p:cNvSpPr/>
          <p:nvPr/>
        </p:nvSpPr>
        <p:spPr>
          <a:xfrm>
            <a:off x="7445520" y="45720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5" name=""/>
          <p:cNvSpPr/>
          <p:nvPr/>
        </p:nvSpPr>
        <p:spPr>
          <a:xfrm>
            <a:off x="6937560" y="1447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6" name=""/>
          <p:cNvSpPr/>
          <p:nvPr/>
        </p:nvSpPr>
        <p:spPr>
          <a:xfrm flipV="1">
            <a:off x="7848720" y="1295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7" name=""/>
          <p:cNvSpPr/>
          <p:nvPr/>
        </p:nvSpPr>
        <p:spPr>
          <a:xfrm flipH="1">
            <a:off x="5790960" y="22860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8" name=""/>
          <p:cNvSpPr/>
          <p:nvPr/>
        </p:nvSpPr>
        <p:spPr>
          <a:xfrm>
            <a:off x="7467480" y="8380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9" name=""/>
          <p:cNvSpPr/>
          <p:nvPr/>
        </p:nvSpPr>
        <p:spPr>
          <a:xfrm>
            <a:off x="7543800" y="8366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0" name=""/>
          <p:cNvSpPr/>
          <p:nvPr/>
        </p:nvSpPr>
        <p:spPr>
          <a:xfrm>
            <a:off x="1695600" y="3809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1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2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C02-AC0D-4FF9-BBD0-4C893ADB756B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8FF28-2890-45D1-9FBC-C0207701CF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7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8" name=""/>
          <p:cNvSpPr/>
          <p:nvPr/>
        </p:nvSpPr>
        <p:spPr>
          <a:xfrm>
            <a:off x="233280" y="263520"/>
            <a:ext cx="2274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23…Kevin Gerh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90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9" name=""/>
          <p:cNvSpPr/>
          <p:nvPr/>
        </p:nvSpPr>
        <p:spPr>
          <a:xfrm>
            <a:off x="7007760" y="6526080"/>
            <a:ext cx="1830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42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2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5" name=""/>
          <p:cNvSpPr/>
          <p:nvPr/>
        </p:nvSpPr>
        <p:spPr>
          <a:xfrm>
            <a:off x="4419720" y="3276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6" name=""/>
          <p:cNvSpPr/>
          <p:nvPr/>
        </p:nvSpPr>
        <p:spPr>
          <a:xfrm>
            <a:off x="5105520" y="3414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7" name=""/>
          <p:cNvSpPr/>
          <p:nvPr/>
        </p:nvSpPr>
        <p:spPr>
          <a:xfrm>
            <a:off x="7471080" y="787320"/>
            <a:ext cx="103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9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0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3" name=""/>
          <p:cNvSpPr/>
          <p:nvPr/>
        </p:nvSpPr>
        <p:spPr>
          <a:xfrm>
            <a:off x="1371600" y="2368440"/>
            <a:ext cx="67932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4" name=""/>
          <p:cNvSpPr/>
          <p:nvPr/>
        </p:nvSpPr>
        <p:spPr>
          <a:xfrm>
            <a:off x="1355040" y="242244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5" name=""/>
          <p:cNvSpPr/>
          <p:nvPr/>
        </p:nvSpPr>
        <p:spPr>
          <a:xfrm flipV="1">
            <a:off x="1752480" y="2895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6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5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8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9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0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1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2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3" name=""/>
          <p:cNvSpPr/>
          <p:nvPr/>
        </p:nvSpPr>
        <p:spPr>
          <a:xfrm>
            <a:off x="398808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6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4" name=""/>
          <p:cNvSpPr/>
          <p:nvPr/>
        </p:nvSpPr>
        <p:spPr>
          <a:xfrm>
            <a:off x="3975480" y="5010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7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8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9" name=""/>
          <p:cNvSpPr/>
          <p:nvPr/>
        </p:nvSpPr>
        <p:spPr>
          <a:xfrm>
            <a:off x="198360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1" name=""/>
          <p:cNvSpPr/>
          <p:nvPr/>
        </p:nvSpPr>
        <p:spPr>
          <a:xfrm>
            <a:off x="5471280" y="32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2" name=""/>
          <p:cNvSpPr/>
          <p:nvPr/>
        </p:nvSpPr>
        <p:spPr>
          <a:xfrm>
            <a:off x="5408280" y="3429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3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4" name=""/>
          <p:cNvSpPr/>
          <p:nvPr/>
        </p:nvSpPr>
        <p:spPr>
          <a:xfrm>
            <a:off x="1214640" y="592776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5" name=""/>
          <p:cNvSpPr/>
          <p:nvPr/>
        </p:nvSpPr>
        <p:spPr>
          <a:xfrm>
            <a:off x="518148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7" name=""/>
          <p:cNvSpPr/>
          <p:nvPr/>
        </p:nvSpPr>
        <p:spPr>
          <a:xfrm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8" name=""/>
          <p:cNvSpPr/>
          <p:nvPr/>
        </p:nvSpPr>
        <p:spPr>
          <a:xfrm>
            <a:off x="54460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9" name=""/>
          <p:cNvSpPr/>
          <p:nvPr/>
        </p:nvSpPr>
        <p:spPr>
          <a:xfrm>
            <a:off x="5412240" y="28195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0" name=""/>
          <p:cNvSpPr/>
          <p:nvPr/>
        </p:nvSpPr>
        <p:spPr>
          <a:xfrm>
            <a:off x="213588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A4E-51AB-4875-A49A-BDDFE14D2AFC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F8953-4F86-46DF-87BD-7DDCA4E053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4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13485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6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7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8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9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0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1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2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5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7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1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2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3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4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5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6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7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8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9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0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2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3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4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1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2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3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5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6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7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0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1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3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4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5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3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6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7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7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8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9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0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1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53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2" name=""/>
          <p:cNvSpPr/>
          <p:nvPr/>
        </p:nvSpPr>
        <p:spPr>
          <a:xfrm>
            <a:off x="7084080" y="6526080"/>
            <a:ext cx="178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3" name=""/>
          <p:cNvSpPr/>
          <p:nvPr/>
        </p:nvSpPr>
        <p:spPr>
          <a:xfrm>
            <a:off x="171360" y="419040"/>
            <a:ext cx="30099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4" name=""/>
          <p:cNvSpPr/>
          <p:nvPr/>
        </p:nvSpPr>
        <p:spPr>
          <a:xfrm>
            <a:off x="203400" y="479520"/>
            <a:ext cx="2999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/Norton Industrial Ceramics Cor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8…Steve Fr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7…Debbie Atk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5F0-EAAB-4001-8378-194DBB3BFBAF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51357-5BA1-4057-800A-07A5ADDBD4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 City, Oreg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8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3549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0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1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2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3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4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5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6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8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1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3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4" name=""/>
          <p:cNvSpPr/>
          <p:nvPr/>
        </p:nvSpPr>
        <p:spPr>
          <a:xfrm>
            <a:off x="7355520" y="787320"/>
            <a:ext cx="126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6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7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8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9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0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1" name=""/>
          <p:cNvSpPr/>
          <p:nvPr/>
        </p:nvSpPr>
        <p:spPr>
          <a:xfrm>
            <a:off x="1454040" y="250524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2" name=""/>
          <p:cNvSpPr/>
          <p:nvPr/>
        </p:nvSpPr>
        <p:spPr>
          <a:xfrm>
            <a:off x="1402560" y="249876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3" name=""/>
          <p:cNvSpPr/>
          <p:nvPr/>
        </p:nvSpPr>
        <p:spPr>
          <a:xfrm flipV="1">
            <a:off x="1752480" y="30477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4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5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6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7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8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9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0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1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2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3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4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5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6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7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8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9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0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1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2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3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4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5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0" name=""/>
          <p:cNvSpPr/>
          <p:nvPr/>
        </p:nvSpPr>
        <p:spPr>
          <a:xfrm>
            <a:off x="5275440" y="3414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2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3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4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5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6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7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Avenu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egon  975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41) 826-5867…Travis Vie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8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9" name=""/>
          <p:cNvSpPr/>
          <p:nvPr/>
        </p:nvSpPr>
        <p:spPr>
          <a:xfrm>
            <a:off x="7391520" y="652608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0" name=""/>
          <p:cNvSpPr/>
          <p:nvPr/>
        </p:nvSpPr>
        <p:spPr>
          <a:xfrm>
            <a:off x="553176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2" name=""/>
          <p:cNvSpPr/>
          <p:nvPr/>
        </p:nvSpPr>
        <p:spPr>
          <a:xfrm>
            <a:off x="548856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C7D-B34C-4251-B84E-5A6BD5BE9E09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FF6AE-05FF-4D55-A12C-7E1B032404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5" name="PlaceHolder 1"/>
          <p:cNvSpPr>
            <a:spLocks noGrp="1"/>
          </p:cNvSpPr>
          <p:nvPr>
            <p:ph type="title"/>
          </p:nvPr>
        </p:nvSpPr>
        <p:spPr>
          <a:xfrm>
            <a:off x="1009440" y="-36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CertainTeed Distribution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6" name=""/>
          <p:cNvSpPr/>
          <p:nvPr/>
        </p:nvSpPr>
        <p:spPr>
          <a:xfrm>
            <a:off x="7238520" y="6526080"/>
            <a:ext cx="159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CD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7" name=""/>
          <p:cNvSpPr/>
          <p:nvPr/>
        </p:nvSpPr>
        <p:spPr>
          <a:xfrm>
            <a:off x="6721560" y="5307120"/>
            <a:ext cx="138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8" name=""/>
          <p:cNvSpPr/>
          <p:nvPr/>
        </p:nvSpPr>
        <p:spPr>
          <a:xfrm>
            <a:off x="191124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9" name=""/>
          <p:cNvSpPr/>
          <p:nvPr/>
        </p:nvSpPr>
        <p:spPr>
          <a:xfrm>
            <a:off x="197244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0" name=""/>
          <p:cNvSpPr/>
          <p:nvPr/>
        </p:nvSpPr>
        <p:spPr>
          <a:xfrm>
            <a:off x="1419120" y="5318280"/>
            <a:ext cx="1648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VCT-CD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1" name=""/>
          <p:cNvSpPr/>
          <p:nvPr/>
        </p:nvSpPr>
        <p:spPr>
          <a:xfrm>
            <a:off x="1100160" y="3610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2" name=""/>
          <p:cNvSpPr/>
          <p:nvPr/>
        </p:nvSpPr>
        <p:spPr>
          <a:xfrm>
            <a:off x="1013040" y="4579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F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3" name=""/>
          <p:cNvSpPr/>
          <p:nvPr/>
        </p:nvSpPr>
        <p:spPr>
          <a:xfrm>
            <a:off x="220968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4" name=""/>
          <p:cNvSpPr/>
          <p:nvPr/>
        </p:nvSpPr>
        <p:spPr>
          <a:xfrm>
            <a:off x="1828800" y="5029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5" name=""/>
          <p:cNvSpPr/>
          <p:nvPr/>
        </p:nvSpPr>
        <p:spPr>
          <a:xfrm>
            <a:off x="198108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6" name=""/>
          <p:cNvSpPr/>
          <p:nvPr/>
        </p:nvSpPr>
        <p:spPr>
          <a:xfrm>
            <a:off x="23623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7" name=""/>
          <p:cNvSpPr/>
          <p:nvPr/>
        </p:nvSpPr>
        <p:spPr>
          <a:xfrm>
            <a:off x="190512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8" name=""/>
          <p:cNvSpPr/>
          <p:nvPr/>
        </p:nvSpPr>
        <p:spPr>
          <a:xfrm flipV="1">
            <a:off x="1905120" y="45716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9" name=""/>
          <p:cNvSpPr/>
          <p:nvPr/>
        </p:nvSpPr>
        <p:spPr>
          <a:xfrm>
            <a:off x="4248360" y="2452680"/>
            <a:ext cx="1120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 HWDA 9040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286-83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0" name=""/>
          <p:cNvSpPr/>
          <p:nvPr/>
        </p:nvSpPr>
        <p:spPr>
          <a:xfrm>
            <a:off x="6127920" y="3595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1" name=""/>
          <p:cNvSpPr/>
          <p:nvPr/>
        </p:nvSpPr>
        <p:spPr>
          <a:xfrm>
            <a:off x="2514600" y="2819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2" name=""/>
          <p:cNvSpPr/>
          <p:nvPr/>
        </p:nvSpPr>
        <p:spPr>
          <a:xfrm flipV="1">
            <a:off x="22096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3" name=""/>
          <p:cNvGrpSpPr/>
          <p:nvPr/>
        </p:nvGrpSpPr>
        <p:grpSpPr>
          <a:xfrm>
            <a:off x="3962520" y="2135160"/>
            <a:ext cx="1601280" cy="1371240"/>
            <a:chOff x="3962520" y="2135160"/>
            <a:chExt cx="1601280" cy="1371240"/>
          </a:xfrm>
        </p:grpSpPr>
        <p:sp>
          <p:nvSpPr>
            <p:cNvPr id="13634" name=""/>
            <p:cNvSpPr/>
            <p:nvPr/>
          </p:nvSpPr>
          <p:spPr>
            <a:xfrm>
              <a:off x="4809960" y="2220840"/>
              <a:ext cx="341280" cy="35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3"/>
                  </a:moveTo>
                  <a:arcTo wR="10800" hR="10800" stAng="-9942264" swAng="11179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3"/>
                  </a:moveTo>
                  <a:arcTo wR="10800" hR="10800" stAng="-9942264" swAng="1117993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5" name=""/>
            <p:cNvSpPr/>
            <p:nvPr/>
          </p:nvSpPr>
          <p:spPr>
            <a:xfrm>
              <a:off x="3962520" y="2241720"/>
              <a:ext cx="441360" cy="40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3" y="20704"/>
                  </a:moveTo>
                  <a:arcTo wR="10800" hR="10800" stAng="6810284" swAng="1243345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3" y="20704"/>
                  </a:moveTo>
                  <a:arcTo wR="10800" hR="10800" stAng="6810284" swAng="124334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6" name=""/>
            <p:cNvSpPr/>
            <p:nvPr/>
          </p:nvSpPr>
          <p:spPr>
            <a:xfrm>
              <a:off x="4367160" y="2135160"/>
              <a:ext cx="441000" cy="39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608" swAng="1063472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608" swAng="1063472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7" name=""/>
            <p:cNvSpPr/>
            <p:nvPr/>
          </p:nvSpPr>
          <p:spPr>
            <a:xfrm>
              <a:off x="3983040" y="2607120"/>
              <a:ext cx="443520" cy="39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75" y="21210"/>
                  </a:moveTo>
                  <a:arcTo wR="10800" hR="10800" stAng="4473614" swAng="1015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75" y="21210"/>
                  </a:moveTo>
                  <a:arcTo wR="10800" hR="10800" stAng="4473614" swAng="1015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8" name=""/>
            <p:cNvSpPr/>
            <p:nvPr/>
          </p:nvSpPr>
          <p:spPr>
            <a:xfrm>
              <a:off x="4221000" y="2918880"/>
              <a:ext cx="441360" cy="40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9" y="17439"/>
                  </a:moveTo>
                  <a:arcTo wR="10800" hR="10800" stAng="2275772" swAng="106385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9" y="17439"/>
                  </a:moveTo>
                  <a:arcTo wR="10800" hR="10800" stAng="2275772" swAng="1063851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9" name=""/>
            <p:cNvSpPr/>
            <p:nvPr/>
          </p:nvSpPr>
          <p:spPr>
            <a:xfrm>
              <a:off x="4605480" y="3107880"/>
              <a:ext cx="44244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6" y="5620"/>
                  </a:moveTo>
                  <a:arcTo wR="10800" hR="10800" stAng="-1719836" swAng="130918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6" y="5620"/>
                  </a:moveTo>
                  <a:arcTo wR="10800" hR="10800" stAng="-1719836" swAng="130918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0" name=""/>
            <p:cNvSpPr/>
            <p:nvPr/>
          </p:nvSpPr>
          <p:spPr>
            <a:xfrm>
              <a:off x="5026680" y="2947320"/>
              <a:ext cx="44172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5" y="384"/>
                  </a:moveTo>
                  <a:arcTo wR="10800" hR="10800" stAng="-4480385" swAng="137964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5" y="384"/>
                  </a:moveTo>
                  <a:arcTo wR="10800" hR="10800" stAng="-4480385" swAng="137964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1" name=""/>
            <p:cNvSpPr/>
            <p:nvPr/>
          </p:nvSpPr>
          <p:spPr>
            <a:xfrm>
              <a:off x="5076360" y="2405160"/>
              <a:ext cx="48744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0" y="3067"/>
                  </a:moveTo>
                  <a:arcTo wR="10800" hR="10800" stAng="-8056565" swAng="13478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0" y="3067"/>
                  </a:moveTo>
                  <a:arcTo wR="10800" hR="10800" stAng="-8056565" swAng="134789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2" name=""/>
          <p:cNvSpPr/>
          <p:nvPr/>
        </p:nvSpPr>
        <p:spPr>
          <a:xfrm>
            <a:off x="701676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3" name=""/>
          <p:cNvSpPr/>
          <p:nvPr/>
        </p:nvSpPr>
        <p:spPr>
          <a:xfrm>
            <a:off x="707796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4" name=""/>
          <p:cNvSpPr/>
          <p:nvPr/>
        </p:nvSpPr>
        <p:spPr>
          <a:xfrm flipV="1">
            <a:off x="731520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5" name=""/>
          <p:cNvSpPr/>
          <p:nvPr/>
        </p:nvSpPr>
        <p:spPr>
          <a:xfrm>
            <a:off x="5562720" y="2819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6" name=""/>
          <p:cNvSpPr/>
          <p:nvPr/>
        </p:nvSpPr>
        <p:spPr>
          <a:xfrm>
            <a:off x="701028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7" name=""/>
          <p:cNvSpPr/>
          <p:nvPr/>
        </p:nvSpPr>
        <p:spPr>
          <a:xfrm>
            <a:off x="171360" y="419040"/>
            <a:ext cx="21718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8" name=""/>
          <p:cNvSpPr/>
          <p:nvPr/>
        </p:nvSpPr>
        <p:spPr>
          <a:xfrm>
            <a:off x="266040" y="520560"/>
            <a:ext cx="2076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CT-C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Call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6-3073…Mike Brow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9" name=""/>
          <p:cNvSpPr/>
          <p:nvPr/>
        </p:nvSpPr>
        <p:spPr>
          <a:xfrm>
            <a:off x="183996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0" name=""/>
          <p:cNvSpPr/>
          <p:nvPr/>
        </p:nvSpPr>
        <p:spPr>
          <a:xfrm>
            <a:off x="694548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150-4237-492F-A0A8-96956B183E9B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9F0CE-0F56-4B87-9343-D05293048089}" type="datetime1">
              <a:rPr lang="en-US"/>
              <a:t>07/30/26</a:t>
            </a:fld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4" name=""/>
          <p:cNvGrpSpPr/>
          <p:nvPr/>
        </p:nvGrpSpPr>
        <p:grpSpPr>
          <a:xfrm>
            <a:off x="3733920" y="533520"/>
            <a:ext cx="2283480" cy="4266000"/>
            <a:chOff x="3733920" y="533520"/>
            <a:chExt cx="2283480" cy="4266000"/>
          </a:xfrm>
        </p:grpSpPr>
        <p:sp>
          <p:nvSpPr>
            <p:cNvPr id="13655" name=""/>
            <p:cNvSpPr/>
            <p:nvPr/>
          </p:nvSpPr>
          <p:spPr>
            <a:xfrm>
              <a:off x="4939920" y="804960"/>
              <a:ext cx="487800" cy="11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6" name=""/>
            <p:cNvSpPr/>
            <p:nvPr/>
          </p:nvSpPr>
          <p:spPr>
            <a:xfrm>
              <a:off x="3733920" y="876600"/>
              <a:ext cx="627840" cy="12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7" name=""/>
            <p:cNvSpPr/>
            <p:nvPr/>
          </p:nvSpPr>
          <p:spPr>
            <a:xfrm>
              <a:off x="4306680" y="533520"/>
              <a:ext cx="631440" cy="123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8" name=""/>
            <p:cNvSpPr/>
            <p:nvPr/>
          </p:nvSpPr>
          <p:spPr>
            <a:xfrm>
              <a:off x="3760560" y="2011680"/>
              <a:ext cx="630720" cy="123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9" name=""/>
            <p:cNvSpPr/>
            <p:nvPr/>
          </p:nvSpPr>
          <p:spPr>
            <a:xfrm>
              <a:off x="4102560" y="2972160"/>
              <a:ext cx="628920" cy="124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0" name=""/>
            <p:cNvSpPr/>
            <p:nvPr/>
          </p:nvSpPr>
          <p:spPr>
            <a:xfrm>
              <a:off x="4651560" y="3564720"/>
              <a:ext cx="628560" cy="123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1" name=""/>
            <p:cNvSpPr/>
            <p:nvPr/>
          </p:nvSpPr>
          <p:spPr>
            <a:xfrm>
              <a:off x="5252760" y="3046680"/>
              <a:ext cx="628920" cy="12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2" name=""/>
            <p:cNvSpPr/>
            <p:nvPr/>
          </p:nvSpPr>
          <p:spPr>
            <a:xfrm>
              <a:off x="5322240" y="1355760"/>
              <a:ext cx="695160" cy="174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3" name=""/>
          <p:cNvSpPr/>
          <p:nvPr/>
        </p:nvSpPr>
        <p:spPr>
          <a:xfrm>
            <a:off x="11430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4" name=""/>
          <p:cNvSpPr/>
          <p:nvPr/>
        </p:nvSpPr>
        <p:spPr>
          <a:xfrm>
            <a:off x="7238520" y="38703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6" name=""/>
          <p:cNvSpPr/>
          <p:nvPr/>
        </p:nvSpPr>
        <p:spPr>
          <a:xfrm>
            <a:off x="183204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7" name=""/>
          <p:cNvSpPr/>
          <p:nvPr/>
        </p:nvSpPr>
        <p:spPr>
          <a:xfrm>
            <a:off x="512280" y="5265720"/>
            <a:ext cx="109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CHITAF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8" name=""/>
          <p:cNvSpPr/>
          <p:nvPr/>
        </p:nvSpPr>
        <p:spPr>
          <a:xfrm flipH="1" flipV="1">
            <a:off x="625320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9" name=""/>
          <p:cNvSpPr/>
          <p:nvPr/>
        </p:nvSpPr>
        <p:spPr>
          <a:xfrm flipV="1">
            <a:off x="160020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1" name=""/>
          <p:cNvSpPr/>
          <p:nvPr/>
        </p:nvSpPr>
        <p:spPr>
          <a:xfrm flipV="1">
            <a:off x="1752480" y="23619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2" name=""/>
          <p:cNvSpPr/>
          <p:nvPr/>
        </p:nvSpPr>
        <p:spPr>
          <a:xfrm>
            <a:off x="2434680" y="1954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3" name=""/>
          <p:cNvSpPr/>
          <p:nvPr/>
        </p:nvSpPr>
        <p:spPr>
          <a:xfrm>
            <a:off x="5944680" y="3824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0" name=""/>
          <p:cNvSpPr/>
          <p:nvPr/>
        </p:nvSpPr>
        <p:spPr>
          <a:xfrm>
            <a:off x="792000" y="43578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2" name=""/>
          <p:cNvSpPr/>
          <p:nvPr/>
        </p:nvSpPr>
        <p:spPr>
          <a:xfrm>
            <a:off x="388620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3" name=""/>
          <p:cNvSpPr/>
          <p:nvPr/>
        </p:nvSpPr>
        <p:spPr>
          <a:xfrm>
            <a:off x="5197320" y="1600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4" name=""/>
          <p:cNvSpPr/>
          <p:nvPr/>
        </p:nvSpPr>
        <p:spPr>
          <a:xfrm>
            <a:off x="4113360" y="1432080"/>
            <a:ext cx="119988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5" name=""/>
          <p:cNvSpPr/>
          <p:nvPr/>
        </p:nvSpPr>
        <p:spPr>
          <a:xfrm>
            <a:off x="7238880" y="159552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6" name=""/>
          <p:cNvSpPr/>
          <p:nvPr/>
        </p:nvSpPr>
        <p:spPr>
          <a:xfrm>
            <a:off x="598212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7" name=""/>
          <p:cNvSpPr/>
          <p:nvPr/>
        </p:nvSpPr>
        <p:spPr>
          <a:xfrm>
            <a:off x="51973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8" name=""/>
          <p:cNvSpPr/>
          <p:nvPr/>
        </p:nvSpPr>
        <p:spPr>
          <a:xfrm>
            <a:off x="7653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9" name=""/>
          <p:cNvSpPr/>
          <p:nvPr/>
        </p:nvSpPr>
        <p:spPr>
          <a:xfrm>
            <a:off x="708480" y="28940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0" name=""/>
          <p:cNvSpPr/>
          <p:nvPr/>
        </p:nvSpPr>
        <p:spPr>
          <a:xfrm>
            <a:off x="5982120" y="1523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1" name=""/>
          <p:cNvSpPr/>
          <p:nvPr/>
        </p:nvSpPr>
        <p:spPr>
          <a:xfrm>
            <a:off x="522540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2" name=""/>
          <p:cNvSpPr/>
          <p:nvPr/>
        </p:nvSpPr>
        <p:spPr>
          <a:xfrm>
            <a:off x="171360" y="190440"/>
            <a:ext cx="255276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3" name=""/>
          <p:cNvSpPr/>
          <p:nvPr/>
        </p:nvSpPr>
        <p:spPr>
          <a:xfrm>
            <a:off x="266400" y="291960"/>
            <a:ext cx="2048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a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4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5" name=""/>
          <p:cNvGrpSpPr/>
          <p:nvPr/>
        </p:nvGrpSpPr>
        <p:grpSpPr>
          <a:xfrm>
            <a:off x="2846520" y="4421160"/>
            <a:ext cx="1216800" cy="914040"/>
            <a:chOff x="2846520" y="4421160"/>
            <a:chExt cx="1216800" cy="914040"/>
          </a:xfrm>
        </p:grpSpPr>
        <p:sp>
          <p:nvSpPr>
            <p:cNvPr id="13696" name=""/>
            <p:cNvSpPr/>
            <p:nvPr/>
          </p:nvSpPr>
          <p:spPr>
            <a:xfrm>
              <a:off x="3489840" y="4479840"/>
              <a:ext cx="26064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7" name=""/>
            <p:cNvSpPr/>
            <p:nvPr/>
          </p:nvSpPr>
          <p:spPr>
            <a:xfrm>
              <a:off x="2846520" y="4495680"/>
              <a:ext cx="335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8" name=""/>
            <p:cNvSpPr/>
            <p:nvPr/>
          </p:nvSpPr>
          <p:spPr>
            <a:xfrm>
              <a:off x="3151080" y="4421160"/>
              <a:ext cx="3358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9" name=""/>
            <p:cNvSpPr/>
            <p:nvPr/>
          </p:nvSpPr>
          <p:spPr>
            <a:xfrm>
              <a:off x="2860560" y="4737960"/>
              <a:ext cx="334080" cy="26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0" name=""/>
            <p:cNvSpPr/>
            <p:nvPr/>
          </p:nvSpPr>
          <p:spPr>
            <a:xfrm>
              <a:off x="3041640" y="4942800"/>
              <a:ext cx="33624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1" name=""/>
            <p:cNvSpPr/>
            <p:nvPr/>
          </p:nvSpPr>
          <p:spPr>
            <a:xfrm>
              <a:off x="3335400" y="5069520"/>
              <a:ext cx="335520" cy="26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2" name=""/>
            <p:cNvSpPr/>
            <p:nvPr/>
          </p:nvSpPr>
          <p:spPr>
            <a:xfrm>
              <a:off x="3656520" y="4960800"/>
              <a:ext cx="33516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3" name=""/>
            <p:cNvSpPr/>
            <p:nvPr/>
          </p:nvSpPr>
          <p:spPr>
            <a:xfrm>
              <a:off x="3693600" y="4595760"/>
              <a:ext cx="369720" cy="37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4" name=""/>
          <p:cNvSpPr/>
          <p:nvPr/>
        </p:nvSpPr>
        <p:spPr>
          <a:xfrm>
            <a:off x="2327400" y="5133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5" name=""/>
          <p:cNvSpPr/>
          <p:nvPr/>
        </p:nvSpPr>
        <p:spPr>
          <a:xfrm flipH="1" flipV="1">
            <a:off x="2133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6" name=""/>
          <p:cNvSpPr/>
          <p:nvPr/>
        </p:nvSpPr>
        <p:spPr>
          <a:xfrm>
            <a:off x="2819520" y="4602240"/>
            <a:ext cx="1320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x xxxx xx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7" name=""/>
          <p:cNvSpPr/>
          <p:nvPr/>
        </p:nvSpPr>
        <p:spPr>
          <a:xfrm>
            <a:off x="4419720" y="4800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istribution Ct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8" name=""/>
          <p:cNvSpPr/>
          <p:nvPr/>
        </p:nvSpPr>
        <p:spPr>
          <a:xfrm>
            <a:off x="2133720" y="49528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9" name=""/>
          <p:cNvSpPr/>
          <p:nvPr/>
        </p:nvSpPr>
        <p:spPr>
          <a:xfrm>
            <a:off x="311040" y="473076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0" name=""/>
          <p:cNvSpPr/>
          <p:nvPr/>
        </p:nvSpPr>
        <p:spPr>
          <a:xfrm>
            <a:off x="248040" y="473868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1" name=""/>
          <p:cNvSpPr/>
          <p:nvPr/>
        </p:nvSpPr>
        <p:spPr>
          <a:xfrm>
            <a:off x="914400" y="4648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2" name=""/>
          <p:cNvSpPr/>
          <p:nvPr/>
        </p:nvSpPr>
        <p:spPr>
          <a:xfrm>
            <a:off x="1219320" y="4800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3" name=""/>
          <p:cNvSpPr/>
          <p:nvPr/>
        </p:nvSpPr>
        <p:spPr>
          <a:xfrm flipH="1">
            <a:off x="914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4" name=""/>
          <p:cNvSpPr/>
          <p:nvPr/>
        </p:nvSpPr>
        <p:spPr>
          <a:xfrm>
            <a:off x="2364480" y="218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5" name=""/>
          <p:cNvSpPr/>
          <p:nvPr/>
        </p:nvSpPr>
        <p:spPr>
          <a:xfrm>
            <a:off x="7239240" y="310824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6" name=""/>
          <p:cNvSpPr/>
          <p:nvPr/>
        </p:nvSpPr>
        <p:spPr>
          <a:xfrm>
            <a:off x="521496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7" name=""/>
          <p:cNvSpPr/>
          <p:nvPr/>
        </p:nvSpPr>
        <p:spPr>
          <a:xfrm>
            <a:off x="5982120" y="1930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8" name=""/>
          <p:cNvSpPr/>
          <p:nvPr/>
        </p:nvSpPr>
        <p:spPr>
          <a:xfrm>
            <a:off x="7238880" y="27273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9" name=""/>
          <p:cNvSpPr/>
          <p:nvPr/>
        </p:nvSpPr>
        <p:spPr>
          <a:xfrm>
            <a:off x="7238880" y="197640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0" name=""/>
          <p:cNvSpPr/>
          <p:nvPr/>
        </p:nvSpPr>
        <p:spPr>
          <a:xfrm>
            <a:off x="5181480" y="20066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1" name=""/>
          <p:cNvSpPr/>
          <p:nvPr/>
        </p:nvSpPr>
        <p:spPr>
          <a:xfrm>
            <a:off x="597456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2" name=""/>
          <p:cNvSpPr/>
          <p:nvPr/>
        </p:nvSpPr>
        <p:spPr>
          <a:xfrm>
            <a:off x="5945760" y="36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3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4" name=""/>
          <p:cNvSpPr/>
          <p:nvPr/>
        </p:nvSpPr>
        <p:spPr>
          <a:xfrm>
            <a:off x="1832040" y="2895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5" name=""/>
          <p:cNvSpPr/>
          <p:nvPr/>
        </p:nvSpPr>
        <p:spPr>
          <a:xfrm>
            <a:off x="521640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6" name=""/>
          <p:cNvSpPr/>
          <p:nvPr/>
        </p:nvSpPr>
        <p:spPr>
          <a:xfrm flipH="1" flipV="1">
            <a:off x="72388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7" name=""/>
          <p:cNvSpPr/>
          <p:nvPr/>
        </p:nvSpPr>
        <p:spPr>
          <a:xfrm>
            <a:off x="7238160" y="3505320"/>
            <a:ext cx="879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8" name=""/>
          <p:cNvSpPr/>
          <p:nvPr/>
        </p:nvSpPr>
        <p:spPr>
          <a:xfrm>
            <a:off x="689400" y="3808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9" name=""/>
          <p:cNvSpPr/>
          <p:nvPr/>
        </p:nvSpPr>
        <p:spPr>
          <a:xfrm>
            <a:off x="59788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0" name=""/>
          <p:cNvSpPr/>
          <p:nvPr/>
        </p:nvSpPr>
        <p:spPr>
          <a:xfrm>
            <a:off x="6019920" y="2133720"/>
            <a:ext cx="1143000" cy="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1" name=""/>
          <p:cNvSpPr/>
          <p:nvPr/>
        </p:nvSpPr>
        <p:spPr>
          <a:xfrm>
            <a:off x="5867280" y="28954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2" name=""/>
          <p:cNvSpPr/>
          <p:nvPr/>
        </p:nvSpPr>
        <p:spPr>
          <a:xfrm>
            <a:off x="5791320" y="3276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3" name=""/>
          <p:cNvSpPr/>
          <p:nvPr/>
        </p:nvSpPr>
        <p:spPr>
          <a:xfrm>
            <a:off x="5867280" y="3657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4" name=""/>
          <p:cNvSpPr/>
          <p:nvPr/>
        </p:nvSpPr>
        <p:spPr>
          <a:xfrm>
            <a:off x="5791320" y="4038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5" name=""/>
          <p:cNvSpPr/>
          <p:nvPr/>
        </p:nvSpPr>
        <p:spPr>
          <a:xfrm>
            <a:off x="598212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6" name=""/>
          <p:cNvSpPr/>
          <p:nvPr/>
        </p:nvSpPr>
        <p:spPr>
          <a:xfrm>
            <a:off x="7238880" y="234648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7" name=""/>
          <p:cNvSpPr/>
          <p:nvPr/>
        </p:nvSpPr>
        <p:spPr>
          <a:xfrm>
            <a:off x="5209560" y="23763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8" name=""/>
          <p:cNvSpPr/>
          <p:nvPr/>
        </p:nvSpPr>
        <p:spPr>
          <a:xfrm>
            <a:off x="60199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9" name=""/>
          <p:cNvSpPr/>
          <p:nvPr/>
        </p:nvSpPr>
        <p:spPr>
          <a:xfrm>
            <a:off x="5943600" y="17524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0" name=""/>
          <p:cNvSpPr/>
          <p:nvPr/>
        </p:nvSpPr>
        <p:spPr>
          <a:xfrm>
            <a:off x="1405080" y="1905120"/>
            <a:ext cx="633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1" name=""/>
          <p:cNvSpPr/>
          <p:nvPr/>
        </p:nvSpPr>
        <p:spPr>
          <a:xfrm>
            <a:off x="1370880" y="196524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2" name=""/>
          <p:cNvSpPr/>
          <p:nvPr/>
        </p:nvSpPr>
        <p:spPr>
          <a:xfrm>
            <a:off x="20574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3" name=""/>
          <p:cNvSpPr/>
          <p:nvPr/>
        </p:nvSpPr>
        <p:spPr>
          <a:xfrm>
            <a:off x="76536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602-A074-46AB-9776-7211069AD3F7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81581-4A7C-446E-B835-F4D2E0F806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n Cany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5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71360" y="190440"/>
            <a:ext cx="24973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“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5 Mezzatta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lifornia  945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558-8548…Randy Tard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838080" y="577548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5280" y="5181480"/>
            <a:ext cx="104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mericanC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476760" y="3427560"/>
            <a:ext cx="106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erican Cany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09268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091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934320" y="6526080"/>
            <a:ext cx="18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4BF-7874-4E31-8F6C-3599EA778B8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A9E7A-B7C6-404C-9D87-9EA3C23C7D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7" name=""/>
          <p:cNvSpPr/>
          <p:nvPr/>
        </p:nvSpPr>
        <p:spPr>
          <a:xfrm>
            <a:off x="228600" y="152280"/>
            <a:ext cx="20574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8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le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9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0" name=""/>
          <p:cNvSpPr/>
          <p:nvPr/>
        </p:nvSpPr>
        <p:spPr>
          <a:xfrm>
            <a:off x="6474240" y="236052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1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2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3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4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1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5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6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7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8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9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0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1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2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3" name=""/>
          <p:cNvGrpSpPr/>
          <p:nvPr/>
        </p:nvGrpSpPr>
        <p:grpSpPr>
          <a:xfrm>
            <a:off x="457200" y="1295280"/>
            <a:ext cx="2437560" cy="1295280"/>
            <a:chOff x="457200" y="1295280"/>
            <a:chExt cx="2437560" cy="1295280"/>
          </a:xfrm>
        </p:grpSpPr>
        <p:sp>
          <p:nvSpPr>
            <p:cNvPr id="13764" name=""/>
            <p:cNvSpPr/>
            <p:nvPr/>
          </p:nvSpPr>
          <p:spPr>
            <a:xfrm>
              <a:off x="1744920" y="1377360"/>
              <a:ext cx="5184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5" name=""/>
            <p:cNvSpPr/>
            <p:nvPr/>
          </p:nvSpPr>
          <p:spPr>
            <a:xfrm>
              <a:off x="457200" y="1397520"/>
              <a:ext cx="66960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6" name=""/>
            <p:cNvSpPr/>
            <p:nvPr/>
          </p:nvSpPr>
          <p:spPr>
            <a:xfrm>
              <a:off x="1070280" y="1295280"/>
              <a:ext cx="67356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7" name=""/>
            <p:cNvSpPr/>
            <p:nvPr/>
          </p:nvSpPr>
          <p:spPr>
            <a:xfrm>
              <a:off x="487440" y="1744560"/>
              <a:ext cx="67284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8" name=""/>
            <p:cNvSpPr/>
            <p:nvPr/>
          </p:nvSpPr>
          <p:spPr>
            <a:xfrm>
              <a:off x="855360" y="2035800"/>
              <a:ext cx="66888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9" name=""/>
            <p:cNvSpPr/>
            <p:nvPr/>
          </p:nvSpPr>
          <p:spPr>
            <a:xfrm>
              <a:off x="1437480" y="2214360"/>
              <a:ext cx="67176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0" name=""/>
            <p:cNvSpPr/>
            <p:nvPr/>
          </p:nvSpPr>
          <p:spPr>
            <a:xfrm>
              <a:off x="2079720" y="2058840"/>
              <a:ext cx="67104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1" name=""/>
            <p:cNvSpPr/>
            <p:nvPr/>
          </p:nvSpPr>
          <p:spPr>
            <a:xfrm>
              <a:off x="2153880" y="1544760"/>
              <a:ext cx="74088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2" name=""/>
          <p:cNvSpPr/>
          <p:nvPr/>
        </p:nvSpPr>
        <p:spPr>
          <a:xfrm>
            <a:off x="7009200" y="403848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3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4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5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6" name=""/>
          <p:cNvSpPr/>
          <p:nvPr/>
        </p:nvSpPr>
        <p:spPr>
          <a:xfrm>
            <a:off x="609480" y="16002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-Tel Communicati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chita Falls, 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940) 767-7873 x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7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778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9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129.171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0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11.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1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2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3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4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5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6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7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8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9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0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1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2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3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4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5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6" name=""/>
          <p:cNvSpPr/>
          <p:nvPr/>
        </p:nvSpPr>
        <p:spPr>
          <a:xfrm>
            <a:off x="2817720" y="18288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7" name=""/>
          <p:cNvSpPr/>
          <p:nvPr/>
        </p:nvSpPr>
        <p:spPr>
          <a:xfrm>
            <a:off x="7008840" y="20574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9" name=""/>
          <p:cNvSpPr/>
          <p:nvPr/>
        </p:nvSpPr>
        <p:spPr>
          <a:xfrm>
            <a:off x="472572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CEF-B31A-42B5-ADC8-A8092084B29A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AA62A-3317-471A-9B98-AF4E3FADE7A3}" type="datetime1">
              <a:rPr lang="en-US"/>
              <a:t>07/30/26</a:t>
            </a:fld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ming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8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2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3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31 West E.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lifornia  907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830-0250…Tiffany Robe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2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4A1-458D-4562-9E79-51E48BC4A5A6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A5582-1502-4E2E-934A-8693649E5D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7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291-5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6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7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0 Firestone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  278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234-5252…Bob Cheever x-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8" name=""/>
          <p:cNvSpPr/>
          <p:nvPr/>
        </p:nvSpPr>
        <p:spPr>
          <a:xfrm>
            <a:off x="204336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9" name=""/>
          <p:cNvSpPr/>
          <p:nvPr/>
        </p:nvSpPr>
        <p:spPr>
          <a:xfrm>
            <a:off x="348768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0" name=""/>
          <p:cNvSpPr/>
          <p:nvPr/>
        </p:nvSpPr>
        <p:spPr>
          <a:xfrm>
            <a:off x="49356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1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2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3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4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5" name=""/>
          <p:cNvSpPr/>
          <p:nvPr/>
        </p:nvSpPr>
        <p:spPr>
          <a:xfrm>
            <a:off x="399960" y="51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6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355-E6E1-4C5E-84A9-9281A06C1809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CF198-9DFC-416C-A18E-639A569548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Uniso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1" name=""/>
          <p:cNvSpPr/>
          <p:nvPr/>
        </p:nvSpPr>
        <p:spPr>
          <a:xfrm>
            <a:off x="6629400" y="6526080"/>
            <a:ext cx="219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Unis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2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s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1 Hat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294-3206…Garry Holli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93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7" name=""/>
          <p:cNvSpPr/>
          <p:nvPr/>
        </p:nvSpPr>
        <p:spPr>
          <a:xfrm>
            <a:off x="151560" y="5113440"/>
            <a:ext cx="123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NTER_HA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7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5927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1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5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2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EC3-4E55-44A7-AAA9-E6D3C02A2BE8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E26EF-F56E-467E-8F96-52209D2E74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98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6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9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0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0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2" name=""/>
          <p:cNvSpPr/>
          <p:nvPr/>
        </p:nvSpPr>
        <p:spPr>
          <a:xfrm>
            <a:off x="6324480" y="6507000"/>
            <a:ext cx="2513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3" name=""/>
          <p:cNvSpPr/>
          <p:nvPr/>
        </p:nvSpPr>
        <p:spPr>
          <a:xfrm>
            <a:off x="171360" y="228600"/>
            <a:ext cx="2552760" cy="81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d River Warehous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00 Recker High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xxx) xxx-xxxx…Kevin He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5080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7" name=""/>
          <p:cNvSpPr/>
          <p:nvPr/>
        </p:nvSpPr>
        <p:spPr>
          <a:xfrm>
            <a:off x="1389240" y="4732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356-2E6C-4257-8BD9-8552272E8ED4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A069F-9F2D-4E49-9370-FEBB7F3756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2" name=""/>
          <p:cNvSpPr/>
          <p:nvPr/>
        </p:nvSpPr>
        <p:spPr>
          <a:xfrm>
            <a:off x="2177640" y="5973840"/>
            <a:ext cx="145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3" name=""/>
          <p:cNvSpPr/>
          <p:nvPr/>
        </p:nvSpPr>
        <p:spPr>
          <a:xfrm>
            <a:off x="3138120" y="144000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4" name=""/>
          <p:cNvSpPr/>
          <p:nvPr/>
        </p:nvSpPr>
        <p:spPr>
          <a:xfrm>
            <a:off x="5943600" y="1371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5" name=""/>
          <p:cNvSpPr/>
          <p:nvPr/>
        </p:nvSpPr>
        <p:spPr>
          <a:xfrm>
            <a:off x="5791320" y="16002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6" name=""/>
          <p:cNvSpPr/>
          <p:nvPr/>
        </p:nvSpPr>
        <p:spPr>
          <a:xfrm>
            <a:off x="27432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tario (DLCI 6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7" name=""/>
          <p:cNvSpPr/>
          <p:nvPr/>
        </p:nvSpPr>
        <p:spPr>
          <a:xfrm>
            <a:off x="27432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8" name=""/>
          <p:cNvSpPr/>
          <p:nvPr/>
        </p:nvSpPr>
        <p:spPr>
          <a:xfrm>
            <a:off x="274320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rren (DLCI 140 @  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9" name=""/>
          <p:cNvSpPr/>
          <p:nvPr/>
        </p:nvSpPr>
        <p:spPr>
          <a:xfrm>
            <a:off x="152280" y="3040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point (DLCI 1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0" name=""/>
          <p:cNvSpPr/>
          <p:nvPr/>
        </p:nvSpPr>
        <p:spPr>
          <a:xfrm>
            <a:off x="194040" y="2362320"/>
            <a:ext cx="26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inesville (DLCI 80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1" name=""/>
          <p:cNvSpPr/>
          <p:nvPr/>
        </p:nvSpPr>
        <p:spPr>
          <a:xfrm>
            <a:off x="27432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1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2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3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4" name=""/>
          <p:cNvSpPr/>
          <p:nvPr/>
        </p:nvSpPr>
        <p:spPr>
          <a:xfrm>
            <a:off x="27432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enville (DLCI 46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5" name=""/>
          <p:cNvSpPr/>
          <p:nvPr/>
        </p:nvSpPr>
        <p:spPr>
          <a:xfrm>
            <a:off x="138240" y="4282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nsenville (DLCI 560 @   153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6" name=""/>
          <p:cNvSpPr/>
          <p:nvPr/>
        </p:nvSpPr>
        <p:spPr>
          <a:xfrm>
            <a:off x="274320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ton (DLCI 6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7" name=""/>
          <p:cNvSpPr/>
          <p:nvPr/>
        </p:nvSpPr>
        <p:spPr>
          <a:xfrm>
            <a:off x="158760" y="1447920"/>
            <a:ext cx="539748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8" name=""/>
          <p:cNvSpPr/>
          <p:nvPr/>
        </p:nvSpPr>
        <p:spPr>
          <a:xfrm>
            <a:off x="7620120" y="1384200"/>
            <a:ext cx="7617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9" name=""/>
          <p:cNvSpPr/>
          <p:nvPr/>
        </p:nvSpPr>
        <p:spPr>
          <a:xfrm>
            <a:off x="7646400" y="143352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0" name=""/>
          <p:cNvSpPr/>
          <p:nvPr/>
        </p:nvSpPr>
        <p:spPr>
          <a:xfrm>
            <a:off x="152280" y="1668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erdeen (DLCI 65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1" name=""/>
          <p:cNvSpPr/>
          <p:nvPr/>
        </p:nvSpPr>
        <p:spPr>
          <a:xfrm>
            <a:off x="306720" y="2133720"/>
            <a:ext cx="251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erton (DLCI 7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2" name=""/>
          <p:cNvSpPr/>
          <p:nvPr/>
        </p:nvSpPr>
        <p:spPr>
          <a:xfrm>
            <a:off x="15228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dalgo (DLCI 7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3" name=""/>
          <p:cNvSpPr/>
          <p:nvPr/>
        </p:nvSpPr>
        <p:spPr>
          <a:xfrm>
            <a:off x="152280" y="1905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ownsville (DLCI 78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4" name=""/>
          <p:cNvSpPr/>
          <p:nvPr/>
        </p:nvSpPr>
        <p:spPr>
          <a:xfrm>
            <a:off x="27432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DLCI 78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5" name=""/>
          <p:cNvSpPr/>
          <p:nvPr/>
        </p:nvSpPr>
        <p:spPr>
          <a:xfrm>
            <a:off x="274320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 (DLCI 151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6" name=""/>
          <p:cNvSpPr/>
          <p:nvPr/>
        </p:nvSpPr>
        <p:spPr>
          <a:xfrm>
            <a:off x="152280" y="2819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ilton (DLCI 12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7" name=""/>
          <p:cNvSpPr/>
          <p:nvPr/>
        </p:nvSpPr>
        <p:spPr>
          <a:xfrm>
            <a:off x="272880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napolis (DLCI 920 @  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8" name=""/>
          <p:cNvSpPr/>
          <p:nvPr/>
        </p:nvSpPr>
        <p:spPr>
          <a:xfrm>
            <a:off x="27432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97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9" name=""/>
          <p:cNvSpPr/>
          <p:nvPr/>
        </p:nvSpPr>
        <p:spPr>
          <a:xfrm>
            <a:off x="0" y="2606760"/>
            <a:ext cx="283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d Rapids (DLCI 74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0" name=""/>
          <p:cNvSpPr/>
          <p:nvPr/>
        </p:nvSpPr>
        <p:spPr>
          <a:xfrm>
            <a:off x="152280" y="40543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1" name=""/>
          <p:cNvSpPr/>
          <p:nvPr/>
        </p:nvSpPr>
        <p:spPr>
          <a:xfrm>
            <a:off x="3123720" y="403848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2" name=""/>
          <p:cNvSpPr/>
          <p:nvPr/>
        </p:nvSpPr>
        <p:spPr>
          <a:xfrm>
            <a:off x="2805120" y="4267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stol (DLCI 560 91 @   25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3" name=""/>
          <p:cNvSpPr/>
          <p:nvPr/>
        </p:nvSpPr>
        <p:spPr>
          <a:xfrm>
            <a:off x="152280" y="4892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vingston (DLCI 36 @  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4" name=""/>
          <p:cNvSpPr/>
          <p:nvPr/>
        </p:nvSpPr>
        <p:spPr>
          <a:xfrm>
            <a:off x="152280" y="4664160"/>
            <a:ext cx="539748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5" name=""/>
          <p:cNvSpPr/>
          <p:nvPr/>
        </p:nvSpPr>
        <p:spPr>
          <a:xfrm>
            <a:off x="3123720" y="464832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6" name=""/>
          <p:cNvSpPr/>
          <p:nvPr/>
        </p:nvSpPr>
        <p:spPr>
          <a:xfrm>
            <a:off x="2805120" y="4937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9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7" name=""/>
          <p:cNvSpPr/>
          <p:nvPr/>
        </p:nvSpPr>
        <p:spPr>
          <a:xfrm>
            <a:off x="5562720" y="418932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8" name=""/>
          <p:cNvSpPr/>
          <p:nvPr/>
        </p:nvSpPr>
        <p:spPr>
          <a:xfrm>
            <a:off x="5943600" y="3975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9" name=""/>
          <p:cNvSpPr/>
          <p:nvPr/>
        </p:nvSpPr>
        <p:spPr>
          <a:xfrm>
            <a:off x="5791320" y="420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0" name=""/>
          <p:cNvSpPr/>
          <p:nvPr/>
        </p:nvSpPr>
        <p:spPr>
          <a:xfrm>
            <a:off x="7620120" y="40384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1" name=""/>
          <p:cNvSpPr/>
          <p:nvPr/>
        </p:nvSpPr>
        <p:spPr>
          <a:xfrm>
            <a:off x="7646400" y="403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2" name=""/>
          <p:cNvSpPr/>
          <p:nvPr/>
        </p:nvSpPr>
        <p:spPr>
          <a:xfrm>
            <a:off x="5562720" y="478296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3" name=""/>
          <p:cNvSpPr/>
          <p:nvPr/>
        </p:nvSpPr>
        <p:spPr>
          <a:xfrm>
            <a:off x="5943600" y="45687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4" name=""/>
          <p:cNvSpPr/>
          <p:nvPr/>
        </p:nvSpPr>
        <p:spPr>
          <a:xfrm>
            <a:off x="5791320" y="47973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5" name=""/>
          <p:cNvSpPr/>
          <p:nvPr/>
        </p:nvSpPr>
        <p:spPr>
          <a:xfrm>
            <a:off x="7620120" y="464832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6" name=""/>
          <p:cNvSpPr/>
          <p:nvPr/>
        </p:nvSpPr>
        <p:spPr>
          <a:xfrm>
            <a:off x="7646400" y="46306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7" name=""/>
          <p:cNvSpPr/>
          <p:nvPr/>
        </p:nvSpPr>
        <p:spPr>
          <a:xfrm>
            <a:off x="5562720" y="1598760"/>
            <a:ext cx="2057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8" name=""/>
          <p:cNvSpPr/>
          <p:nvPr/>
        </p:nvSpPr>
        <p:spPr>
          <a:xfrm>
            <a:off x="138240" y="5089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ulus (DLCI 565 @   640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9" name=""/>
          <p:cNvSpPr/>
          <p:nvPr/>
        </p:nvSpPr>
        <p:spPr>
          <a:xfrm>
            <a:off x="166680" y="54259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0" name=""/>
          <p:cNvSpPr/>
          <p:nvPr/>
        </p:nvSpPr>
        <p:spPr>
          <a:xfrm>
            <a:off x="3207960" y="541008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1" name=""/>
          <p:cNvSpPr/>
          <p:nvPr/>
        </p:nvSpPr>
        <p:spPr>
          <a:xfrm>
            <a:off x="2819520" y="569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den (DLCI 13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2" name=""/>
          <p:cNvSpPr/>
          <p:nvPr/>
        </p:nvSpPr>
        <p:spPr>
          <a:xfrm>
            <a:off x="5576760" y="5545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3" name=""/>
          <p:cNvSpPr/>
          <p:nvPr/>
        </p:nvSpPr>
        <p:spPr>
          <a:xfrm>
            <a:off x="5958000" y="53308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4" name=""/>
          <p:cNvSpPr/>
          <p:nvPr/>
        </p:nvSpPr>
        <p:spPr>
          <a:xfrm>
            <a:off x="5805360" y="55594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986963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5" name=""/>
          <p:cNvSpPr/>
          <p:nvPr/>
        </p:nvSpPr>
        <p:spPr>
          <a:xfrm>
            <a:off x="7693560" y="5392800"/>
            <a:ext cx="6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76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6" name=""/>
          <p:cNvSpPr/>
          <p:nvPr/>
        </p:nvSpPr>
        <p:spPr>
          <a:xfrm>
            <a:off x="7620120" y="54100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313-A227-4EBE-8F2B-EC83D93DCAF5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03EB6-403A-4C82-B600-E84CA77B5069}" type="datetime1">
              <a:rPr lang="en-US"/>
              <a:t>07/30/26</a:t>
            </a:fld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0" name=""/>
          <p:cNvSpPr/>
          <p:nvPr/>
        </p:nvSpPr>
        <p:spPr>
          <a:xfrm>
            <a:off x="2198520" y="4572000"/>
            <a:ext cx="1407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1" name=""/>
          <p:cNvSpPr/>
          <p:nvPr/>
        </p:nvSpPr>
        <p:spPr>
          <a:xfrm>
            <a:off x="3222360" y="189720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2" name=""/>
          <p:cNvSpPr/>
          <p:nvPr/>
        </p:nvSpPr>
        <p:spPr>
          <a:xfrm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3" name=""/>
          <p:cNvSpPr/>
          <p:nvPr/>
        </p:nvSpPr>
        <p:spPr>
          <a:xfrm>
            <a:off x="6400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4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2552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6" name=""/>
          <p:cNvSpPr/>
          <p:nvPr/>
        </p:nvSpPr>
        <p:spPr>
          <a:xfrm>
            <a:off x="2819520" y="3733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7" name=""/>
          <p:cNvSpPr/>
          <p:nvPr/>
        </p:nvSpPr>
        <p:spPr>
          <a:xfrm>
            <a:off x="281952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agara Falls (DLCI 1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8" name=""/>
          <p:cNvSpPr/>
          <p:nvPr/>
        </p:nvSpPr>
        <p:spPr>
          <a:xfrm>
            <a:off x="281952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Hampton (DLCI 1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9" name=""/>
          <p:cNvSpPr/>
          <p:nvPr/>
        </p:nvSpPr>
        <p:spPr>
          <a:xfrm>
            <a:off x="280512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sville (DLCI 1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0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1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2" name=""/>
          <p:cNvSpPr/>
          <p:nvPr/>
        </p:nvSpPr>
        <p:spPr>
          <a:xfrm>
            <a:off x="281952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winigan (DLCI 3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3" name=""/>
          <p:cNvSpPr/>
          <p:nvPr/>
        </p:nvSpPr>
        <p:spPr>
          <a:xfrm>
            <a:off x="158760" y="1758960"/>
            <a:ext cx="539748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4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4125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6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7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8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9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0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1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2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3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4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5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6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7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8" name=""/>
          <p:cNvSpPr/>
          <p:nvPr/>
        </p:nvSpPr>
        <p:spPr>
          <a:xfrm>
            <a:off x="280512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925 @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9" name=""/>
          <p:cNvSpPr/>
          <p:nvPr/>
        </p:nvSpPr>
        <p:spPr>
          <a:xfrm>
            <a:off x="281952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yphant (DLCI 6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0" name=""/>
          <p:cNvSpPr/>
          <p:nvPr/>
        </p:nvSpPr>
        <p:spPr>
          <a:xfrm>
            <a:off x="280512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ppawa (DLCI 3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1" name=""/>
          <p:cNvSpPr/>
          <p:nvPr/>
        </p:nvSpPr>
        <p:spPr>
          <a:xfrm>
            <a:off x="2819520" y="396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79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2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A36-D0B6-42E8-945A-A4167C30828D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E37EF-3949-4754-9E61-841D9FEB8D6C}" type="datetime1">
              <a:rPr lang="en-US"/>
              <a:t>07/30/26</a:t>
            </a:fld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6" name=""/>
          <p:cNvSpPr/>
          <p:nvPr/>
        </p:nvSpPr>
        <p:spPr>
          <a:xfrm>
            <a:off x="3678120" y="5973840"/>
            <a:ext cx="173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 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7" name=""/>
          <p:cNvSpPr/>
          <p:nvPr/>
        </p:nvSpPr>
        <p:spPr>
          <a:xfrm>
            <a:off x="838080" y="3430440"/>
            <a:ext cx="749520" cy="61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8" name=""/>
          <p:cNvSpPr/>
          <p:nvPr/>
        </p:nvSpPr>
        <p:spPr>
          <a:xfrm>
            <a:off x="220968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9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0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1" name=""/>
          <p:cNvSpPr/>
          <p:nvPr/>
        </p:nvSpPr>
        <p:spPr>
          <a:xfrm>
            <a:off x="838080" y="1982880"/>
            <a:ext cx="214020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2" name=""/>
          <p:cNvSpPr/>
          <p:nvPr/>
        </p:nvSpPr>
        <p:spPr>
          <a:xfrm>
            <a:off x="159984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3" name=""/>
          <p:cNvSpPr/>
          <p:nvPr/>
        </p:nvSpPr>
        <p:spPr>
          <a:xfrm>
            <a:off x="1212840" y="26686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4" name=""/>
          <p:cNvSpPr/>
          <p:nvPr/>
        </p:nvSpPr>
        <p:spPr>
          <a:xfrm>
            <a:off x="2590920" y="26686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5" name=""/>
          <p:cNvSpPr/>
          <p:nvPr/>
        </p:nvSpPr>
        <p:spPr>
          <a:xfrm>
            <a:off x="1420920" y="2820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6" name=""/>
          <p:cNvSpPr/>
          <p:nvPr/>
        </p:nvSpPr>
        <p:spPr>
          <a:xfrm>
            <a:off x="289548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7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8" name=""/>
          <p:cNvSpPr/>
          <p:nvPr/>
        </p:nvSpPr>
        <p:spPr>
          <a:xfrm flipH="1" flipV="1">
            <a:off x="2666880" y="274464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9" name=""/>
          <p:cNvSpPr/>
          <p:nvPr/>
        </p:nvSpPr>
        <p:spPr>
          <a:xfrm flipH="1" flipV="1">
            <a:off x="128880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0" name=""/>
          <p:cNvSpPr/>
          <p:nvPr/>
        </p:nvSpPr>
        <p:spPr>
          <a:xfrm>
            <a:off x="733752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1" name=""/>
          <p:cNvSpPr/>
          <p:nvPr/>
        </p:nvSpPr>
        <p:spPr>
          <a:xfrm flipH="1" flipV="1">
            <a:off x="710856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2" name=""/>
          <p:cNvSpPr/>
          <p:nvPr/>
        </p:nvSpPr>
        <p:spPr>
          <a:xfrm>
            <a:off x="6019920" y="1951200"/>
            <a:ext cx="213984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3" name=""/>
          <p:cNvSpPr/>
          <p:nvPr/>
        </p:nvSpPr>
        <p:spPr>
          <a:xfrm>
            <a:off x="678132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4" name=""/>
          <p:cNvSpPr/>
          <p:nvPr/>
        </p:nvSpPr>
        <p:spPr>
          <a:xfrm>
            <a:off x="4495680" y="22114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5" name=""/>
          <p:cNvSpPr/>
          <p:nvPr/>
        </p:nvSpPr>
        <p:spPr>
          <a:xfrm>
            <a:off x="4495680" y="19828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6" name=""/>
          <p:cNvSpPr/>
          <p:nvPr/>
        </p:nvSpPr>
        <p:spPr>
          <a:xfrm flipH="1">
            <a:off x="3047760" y="221148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7" name=""/>
          <p:cNvSpPr/>
          <p:nvPr/>
        </p:nvSpPr>
        <p:spPr>
          <a:xfrm>
            <a:off x="2971800" y="2440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8" name=""/>
          <p:cNvSpPr/>
          <p:nvPr/>
        </p:nvSpPr>
        <p:spPr>
          <a:xfrm flipV="1">
            <a:off x="5791320" y="22874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9" name=""/>
          <p:cNvSpPr/>
          <p:nvPr/>
        </p:nvSpPr>
        <p:spPr>
          <a:xfrm>
            <a:off x="3279240" y="195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0" name=""/>
          <p:cNvSpPr/>
          <p:nvPr/>
        </p:nvSpPr>
        <p:spPr>
          <a:xfrm>
            <a:off x="4955400" y="23320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1" name=""/>
          <p:cNvSpPr/>
          <p:nvPr/>
        </p:nvSpPr>
        <p:spPr>
          <a:xfrm>
            <a:off x="1373040" y="163044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2" name=""/>
          <p:cNvSpPr/>
          <p:nvPr/>
        </p:nvSpPr>
        <p:spPr>
          <a:xfrm>
            <a:off x="6651360" y="1600200"/>
            <a:ext cx="87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3" name=""/>
          <p:cNvSpPr/>
          <p:nvPr/>
        </p:nvSpPr>
        <p:spPr>
          <a:xfrm>
            <a:off x="236232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4" name=""/>
          <p:cNvSpPr/>
          <p:nvPr/>
        </p:nvSpPr>
        <p:spPr>
          <a:xfrm>
            <a:off x="662940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5" name=""/>
          <p:cNvSpPr/>
          <p:nvPr/>
        </p:nvSpPr>
        <p:spPr>
          <a:xfrm>
            <a:off x="67816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6" name=""/>
          <p:cNvSpPr/>
          <p:nvPr/>
        </p:nvSpPr>
        <p:spPr>
          <a:xfrm>
            <a:off x="72388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7" name=""/>
          <p:cNvSpPr/>
          <p:nvPr/>
        </p:nvSpPr>
        <p:spPr>
          <a:xfrm>
            <a:off x="7010280" y="2637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8" name=""/>
          <p:cNvSpPr/>
          <p:nvPr/>
        </p:nvSpPr>
        <p:spPr>
          <a:xfrm>
            <a:off x="5651640" y="4737240"/>
            <a:ext cx="1054080" cy="67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9" name=""/>
          <p:cNvSpPr/>
          <p:nvPr/>
        </p:nvSpPr>
        <p:spPr>
          <a:xfrm>
            <a:off x="5898960" y="47926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0" name=""/>
          <p:cNvSpPr/>
          <p:nvPr/>
        </p:nvSpPr>
        <p:spPr>
          <a:xfrm>
            <a:off x="2298600" y="4730760"/>
            <a:ext cx="10540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1" name=""/>
          <p:cNvSpPr/>
          <p:nvPr/>
        </p:nvSpPr>
        <p:spPr>
          <a:xfrm>
            <a:off x="2417040" y="48690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2" name=""/>
          <p:cNvSpPr/>
          <p:nvPr/>
        </p:nvSpPr>
        <p:spPr>
          <a:xfrm>
            <a:off x="2590920" y="44956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3" name=""/>
          <p:cNvSpPr/>
          <p:nvPr/>
        </p:nvSpPr>
        <p:spPr>
          <a:xfrm>
            <a:off x="5492880" y="5029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4" name=""/>
          <p:cNvSpPr/>
          <p:nvPr/>
        </p:nvSpPr>
        <p:spPr>
          <a:xfrm>
            <a:off x="4780800" y="47689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5" name=""/>
          <p:cNvSpPr/>
          <p:nvPr/>
        </p:nvSpPr>
        <p:spPr>
          <a:xfrm>
            <a:off x="3352680" y="4876920"/>
            <a:ext cx="113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6" name=""/>
          <p:cNvSpPr/>
          <p:nvPr/>
        </p:nvSpPr>
        <p:spPr>
          <a:xfrm>
            <a:off x="449568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7" name=""/>
          <p:cNvSpPr/>
          <p:nvPr/>
        </p:nvSpPr>
        <p:spPr>
          <a:xfrm>
            <a:off x="3446280" y="4557600"/>
            <a:ext cx="66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8" name=""/>
          <p:cNvSpPr/>
          <p:nvPr/>
        </p:nvSpPr>
        <p:spPr>
          <a:xfrm flipH="1">
            <a:off x="335880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9" name=""/>
          <p:cNvSpPr/>
          <p:nvPr/>
        </p:nvSpPr>
        <p:spPr>
          <a:xfrm>
            <a:off x="5850720" y="5486400"/>
            <a:ext cx="74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0" name=""/>
          <p:cNvSpPr/>
          <p:nvPr/>
        </p:nvSpPr>
        <p:spPr>
          <a:xfrm>
            <a:off x="2819520" y="36892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1" name=""/>
          <p:cNvSpPr/>
          <p:nvPr/>
        </p:nvSpPr>
        <p:spPr>
          <a:xfrm>
            <a:off x="449568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2" name=""/>
          <p:cNvSpPr/>
          <p:nvPr/>
        </p:nvSpPr>
        <p:spPr>
          <a:xfrm>
            <a:off x="1771560" y="434340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2AD-277D-4BF3-B501-D75B6F4957EF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63560-C70F-48D8-9F74-16C8F879574A}" type="datetime1">
              <a:rPr lang="en-US"/>
              <a:t>07/30/26</a:t>
            </a:fld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Abrasive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6" name=""/>
          <p:cNvSpPr/>
          <p:nvPr/>
        </p:nvSpPr>
        <p:spPr>
          <a:xfrm>
            <a:off x="171360" y="247680"/>
            <a:ext cx="2343240" cy="127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7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060…Data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488…Steve Jenn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497…Bob Chys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8" name=""/>
          <p:cNvSpPr/>
          <p:nvPr/>
        </p:nvSpPr>
        <p:spPr>
          <a:xfrm>
            <a:off x="2685960" y="3016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9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0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1" name=""/>
          <p:cNvSpPr/>
          <p:nvPr/>
        </p:nvSpPr>
        <p:spPr>
          <a:xfrm>
            <a:off x="4113000" y="335268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2" name=""/>
          <p:cNvSpPr/>
          <p:nvPr/>
        </p:nvSpPr>
        <p:spPr>
          <a:xfrm>
            <a:off x="2742480" y="3886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3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4" name=""/>
          <p:cNvSpPr/>
          <p:nvPr/>
        </p:nvSpPr>
        <p:spPr>
          <a:xfrm>
            <a:off x="3581280" y="1981080"/>
            <a:ext cx="198144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5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6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7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8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9" name=""/>
          <p:cNvSpPr/>
          <p:nvPr/>
        </p:nvSpPr>
        <p:spPr>
          <a:xfrm>
            <a:off x="243828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0" name=""/>
          <p:cNvSpPr/>
          <p:nvPr/>
        </p:nvSpPr>
        <p:spPr>
          <a:xfrm>
            <a:off x="2133720" y="3048120"/>
            <a:ext cx="30456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1" name=""/>
          <p:cNvSpPr/>
          <p:nvPr/>
        </p:nvSpPr>
        <p:spPr>
          <a:xfrm>
            <a:off x="532800" y="3184560"/>
            <a:ext cx="14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Token-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2" name=""/>
          <p:cNvSpPr/>
          <p:nvPr/>
        </p:nvSpPr>
        <p:spPr>
          <a:xfrm>
            <a:off x="2438280" y="4222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3" name=""/>
          <p:cNvSpPr/>
          <p:nvPr/>
        </p:nvSpPr>
        <p:spPr>
          <a:xfrm>
            <a:off x="2438280" y="3994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4" name=""/>
          <p:cNvSpPr/>
          <p:nvPr/>
        </p:nvSpPr>
        <p:spPr>
          <a:xfrm flipH="1">
            <a:off x="2285640" y="4375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5" name=""/>
          <p:cNvSpPr/>
          <p:nvPr/>
        </p:nvSpPr>
        <p:spPr>
          <a:xfrm flipH="1">
            <a:off x="2285640" y="4070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6" name=""/>
          <p:cNvSpPr/>
          <p:nvPr/>
        </p:nvSpPr>
        <p:spPr>
          <a:xfrm>
            <a:off x="324000" y="4054320"/>
            <a:ext cx="161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eramic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7" name=""/>
          <p:cNvSpPr/>
          <p:nvPr/>
        </p:nvSpPr>
        <p:spPr>
          <a:xfrm>
            <a:off x="5562720" y="2209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8" name=""/>
          <p:cNvSpPr/>
          <p:nvPr/>
        </p:nvSpPr>
        <p:spPr>
          <a:xfrm>
            <a:off x="5556240" y="2500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9" name=""/>
          <p:cNvSpPr/>
          <p:nvPr/>
        </p:nvSpPr>
        <p:spPr>
          <a:xfrm>
            <a:off x="5562720" y="2805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0" name=""/>
          <p:cNvSpPr/>
          <p:nvPr/>
        </p:nvSpPr>
        <p:spPr>
          <a:xfrm>
            <a:off x="6826680" y="225576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1" name=""/>
          <p:cNvSpPr/>
          <p:nvPr/>
        </p:nvSpPr>
        <p:spPr>
          <a:xfrm>
            <a:off x="6858720" y="2576520"/>
            <a:ext cx="104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2" name=""/>
          <p:cNvSpPr/>
          <p:nvPr/>
        </p:nvSpPr>
        <p:spPr>
          <a:xfrm>
            <a:off x="6858360" y="288144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3" name=""/>
          <p:cNvSpPr/>
          <p:nvPr/>
        </p:nvSpPr>
        <p:spPr>
          <a:xfrm>
            <a:off x="5562720" y="34146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4" name=""/>
          <p:cNvSpPr/>
          <p:nvPr/>
        </p:nvSpPr>
        <p:spPr>
          <a:xfrm>
            <a:off x="6856560" y="349092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5" name=""/>
          <p:cNvSpPr/>
          <p:nvPr/>
        </p:nvSpPr>
        <p:spPr>
          <a:xfrm>
            <a:off x="556272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6" name=""/>
          <p:cNvSpPr/>
          <p:nvPr/>
        </p:nvSpPr>
        <p:spPr>
          <a:xfrm>
            <a:off x="6856560" y="3809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7" name=""/>
          <p:cNvSpPr/>
          <p:nvPr/>
        </p:nvSpPr>
        <p:spPr>
          <a:xfrm>
            <a:off x="6856560" y="4114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8" name=""/>
          <p:cNvSpPr/>
          <p:nvPr/>
        </p:nvSpPr>
        <p:spPr>
          <a:xfrm>
            <a:off x="6858360" y="441972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9" name=""/>
          <p:cNvSpPr/>
          <p:nvPr/>
        </p:nvSpPr>
        <p:spPr>
          <a:xfrm>
            <a:off x="6857280" y="472428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0" name=""/>
          <p:cNvSpPr/>
          <p:nvPr/>
        </p:nvSpPr>
        <p:spPr>
          <a:xfrm>
            <a:off x="556272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1" name=""/>
          <p:cNvSpPr/>
          <p:nvPr/>
        </p:nvSpPr>
        <p:spPr>
          <a:xfrm>
            <a:off x="5562720" y="4343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2" name=""/>
          <p:cNvSpPr/>
          <p:nvPr/>
        </p:nvSpPr>
        <p:spPr>
          <a:xfrm>
            <a:off x="5562360" y="464832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3" name=""/>
          <p:cNvSpPr/>
          <p:nvPr/>
        </p:nvSpPr>
        <p:spPr>
          <a:xfrm>
            <a:off x="5562360" y="49528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4" name=""/>
          <p:cNvSpPr/>
          <p:nvPr/>
        </p:nvSpPr>
        <p:spPr>
          <a:xfrm>
            <a:off x="6857280" y="502920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5" name=""/>
          <p:cNvSpPr/>
          <p:nvPr/>
        </p:nvSpPr>
        <p:spPr>
          <a:xfrm>
            <a:off x="5561640" y="525780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6" name=""/>
          <p:cNvSpPr/>
          <p:nvPr/>
        </p:nvSpPr>
        <p:spPr>
          <a:xfrm>
            <a:off x="6856560" y="5303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7" name=""/>
          <p:cNvSpPr/>
          <p:nvPr/>
        </p:nvSpPr>
        <p:spPr>
          <a:xfrm>
            <a:off x="5562720" y="31100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8" name=""/>
          <p:cNvSpPr/>
          <p:nvPr/>
        </p:nvSpPr>
        <p:spPr>
          <a:xfrm>
            <a:off x="6858360" y="318600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9" name="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0" name=""/>
          <p:cNvSpPr/>
          <p:nvPr/>
        </p:nvSpPr>
        <p:spPr>
          <a:xfrm>
            <a:off x="55627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1" name=""/>
          <p:cNvSpPr/>
          <p:nvPr/>
        </p:nvSpPr>
        <p:spPr>
          <a:xfrm>
            <a:off x="556272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2" name=""/>
          <p:cNvSpPr/>
          <p:nvPr/>
        </p:nvSpPr>
        <p:spPr>
          <a:xfrm>
            <a:off x="55627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3" name=""/>
          <p:cNvSpPr/>
          <p:nvPr/>
        </p:nvSpPr>
        <p:spPr>
          <a:xfrm>
            <a:off x="556272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4" name=""/>
          <p:cNvSpPr/>
          <p:nvPr/>
        </p:nvSpPr>
        <p:spPr>
          <a:xfrm>
            <a:off x="556272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5" name=""/>
          <p:cNvSpPr/>
          <p:nvPr/>
        </p:nvSpPr>
        <p:spPr>
          <a:xfrm>
            <a:off x="556272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6" name=""/>
          <p:cNvSpPr/>
          <p:nvPr/>
        </p:nvSpPr>
        <p:spPr>
          <a:xfrm>
            <a:off x="5562720" y="3962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7" name=""/>
          <p:cNvSpPr/>
          <p:nvPr/>
        </p:nvSpPr>
        <p:spPr>
          <a:xfrm>
            <a:off x="5562720" y="4267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8" name=""/>
          <p:cNvSpPr/>
          <p:nvPr/>
        </p:nvSpPr>
        <p:spPr>
          <a:xfrm>
            <a:off x="5562720" y="4572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9" name=""/>
          <p:cNvSpPr/>
          <p:nvPr/>
        </p:nvSpPr>
        <p:spPr>
          <a:xfrm>
            <a:off x="5562720" y="4876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CBF-76B4-4D9B-B021-3A826E8FD735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86E3B-8BF5-4120-B364-323964250B13}" type="datetime1">
              <a:rPr lang="en-US"/>
              <a:t>07/30/26</a:t>
            </a:fld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Ceramic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3" name=""/>
          <p:cNvSpPr/>
          <p:nvPr/>
        </p:nvSpPr>
        <p:spPr>
          <a:xfrm>
            <a:off x="171360" y="247680"/>
            <a:ext cx="2343240" cy="142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4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037…Archie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68-5459…Archie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922…Jeff Co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954-5241…Jeff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5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6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7" name=""/>
          <p:cNvSpPr/>
          <p:nvPr/>
        </p:nvSpPr>
        <p:spPr>
          <a:xfrm>
            <a:off x="4113000" y="320040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8" name=""/>
          <p:cNvSpPr/>
          <p:nvPr/>
        </p:nvSpPr>
        <p:spPr>
          <a:xfrm>
            <a:off x="2742480" y="2971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9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0" name=""/>
          <p:cNvSpPr/>
          <p:nvPr/>
        </p:nvSpPr>
        <p:spPr>
          <a:xfrm>
            <a:off x="3581280" y="1981080"/>
            <a:ext cx="19814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1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2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3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4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5" name=""/>
          <p:cNvSpPr/>
          <p:nvPr/>
        </p:nvSpPr>
        <p:spPr>
          <a:xfrm>
            <a:off x="2438280" y="3308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6" name=""/>
          <p:cNvSpPr/>
          <p:nvPr/>
        </p:nvSpPr>
        <p:spPr>
          <a:xfrm>
            <a:off x="2438280" y="3079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7" name=""/>
          <p:cNvSpPr/>
          <p:nvPr/>
        </p:nvSpPr>
        <p:spPr>
          <a:xfrm flipH="1">
            <a:off x="2285640" y="3460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8" name=""/>
          <p:cNvSpPr/>
          <p:nvPr/>
        </p:nvSpPr>
        <p:spPr>
          <a:xfrm flipH="1">
            <a:off x="2285640" y="3156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9" name=""/>
          <p:cNvSpPr/>
          <p:nvPr/>
        </p:nvSpPr>
        <p:spPr>
          <a:xfrm>
            <a:off x="303840" y="3139920"/>
            <a:ext cx="163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Abrasive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0" name=""/>
          <p:cNvSpPr/>
          <p:nvPr/>
        </p:nvSpPr>
        <p:spPr>
          <a:xfrm>
            <a:off x="55627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1" name=""/>
          <p:cNvSpPr/>
          <p:nvPr/>
        </p:nvSpPr>
        <p:spPr>
          <a:xfrm>
            <a:off x="556272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2" name=""/>
          <p:cNvSpPr/>
          <p:nvPr/>
        </p:nvSpPr>
        <p:spPr>
          <a:xfrm>
            <a:off x="5562720" y="2300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3" name=""/>
          <p:cNvSpPr/>
          <p:nvPr/>
        </p:nvSpPr>
        <p:spPr>
          <a:xfrm>
            <a:off x="6826320" y="2346480"/>
            <a:ext cx="1239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4" name=""/>
          <p:cNvSpPr/>
          <p:nvPr/>
        </p:nvSpPr>
        <p:spPr>
          <a:xfrm>
            <a:off x="6856920" y="2666880"/>
            <a:ext cx="1142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boro (672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5" name=""/>
          <p:cNvSpPr/>
          <p:nvPr/>
        </p:nvSpPr>
        <p:spPr>
          <a:xfrm>
            <a:off x="55627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6" name=""/>
          <p:cNvSpPr/>
          <p:nvPr/>
        </p:nvSpPr>
        <p:spPr>
          <a:xfrm>
            <a:off x="6856560" y="2971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7" name=""/>
          <p:cNvSpPr/>
          <p:nvPr/>
        </p:nvSpPr>
        <p:spPr>
          <a:xfrm>
            <a:off x="5562720" y="3429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8" name=""/>
          <p:cNvSpPr/>
          <p:nvPr/>
        </p:nvSpPr>
        <p:spPr>
          <a:xfrm>
            <a:off x="5562720" y="321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9" name=""/>
          <p:cNvSpPr/>
          <p:nvPr/>
        </p:nvSpPr>
        <p:spPr>
          <a:xfrm>
            <a:off x="6857280" y="420516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0" name=""/>
          <p:cNvSpPr/>
          <p:nvPr/>
        </p:nvSpPr>
        <p:spPr>
          <a:xfrm>
            <a:off x="556272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1" name=""/>
          <p:cNvSpPr/>
          <p:nvPr/>
        </p:nvSpPr>
        <p:spPr>
          <a:xfrm>
            <a:off x="5562720" y="4038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2" name=""/>
          <p:cNvSpPr/>
          <p:nvPr/>
        </p:nvSpPr>
        <p:spPr>
          <a:xfrm>
            <a:off x="5562720" y="4343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3" name=""/>
          <p:cNvSpPr/>
          <p:nvPr/>
        </p:nvSpPr>
        <p:spPr>
          <a:xfrm>
            <a:off x="5562720" y="4648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4" name=""/>
          <p:cNvSpPr/>
          <p:nvPr/>
        </p:nvSpPr>
        <p:spPr>
          <a:xfrm>
            <a:off x="5562720" y="3519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5" name=""/>
          <p:cNvSpPr/>
          <p:nvPr/>
        </p:nvSpPr>
        <p:spPr>
          <a:xfrm>
            <a:off x="5562720" y="38242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6" name=""/>
          <p:cNvSpPr/>
          <p:nvPr/>
        </p:nvSpPr>
        <p:spPr>
          <a:xfrm>
            <a:off x="5562360" y="412920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7" name=""/>
          <p:cNvSpPr/>
          <p:nvPr/>
        </p:nvSpPr>
        <p:spPr>
          <a:xfrm>
            <a:off x="5562360" y="443376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8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9" name=""/>
          <p:cNvSpPr/>
          <p:nvPr/>
        </p:nvSpPr>
        <p:spPr>
          <a:xfrm>
            <a:off x="5562720" y="3124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0" name=""/>
          <p:cNvSpPr/>
          <p:nvPr/>
        </p:nvSpPr>
        <p:spPr>
          <a:xfrm>
            <a:off x="5561640" y="473868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1" name=""/>
          <p:cNvSpPr/>
          <p:nvPr/>
        </p:nvSpPr>
        <p:spPr>
          <a:xfrm>
            <a:off x="5562720" y="2604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2" name=""/>
          <p:cNvSpPr/>
          <p:nvPr/>
        </p:nvSpPr>
        <p:spPr>
          <a:xfrm>
            <a:off x="6856560" y="3260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3" name=""/>
          <p:cNvSpPr/>
          <p:nvPr/>
        </p:nvSpPr>
        <p:spPr>
          <a:xfrm>
            <a:off x="6856560" y="356544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4" name=""/>
          <p:cNvSpPr/>
          <p:nvPr/>
        </p:nvSpPr>
        <p:spPr>
          <a:xfrm>
            <a:off x="6856560" y="38703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5" name=""/>
          <p:cNvSpPr/>
          <p:nvPr/>
        </p:nvSpPr>
        <p:spPr>
          <a:xfrm>
            <a:off x="6856560" y="47847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6" name=""/>
          <p:cNvSpPr/>
          <p:nvPr/>
        </p:nvSpPr>
        <p:spPr>
          <a:xfrm>
            <a:off x="6857280" y="447984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4F8-38FF-440A-976F-E76E42B8D062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5DD5F-9970-4694-924A-AC7C25F56B49}" type="datetime1">
              <a:rPr lang="en-US"/>
              <a:t>07/30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hers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3429000" y="1143000"/>
            <a:ext cx="2208960" cy="3199680"/>
            <a:chOff x="3429000" y="1143000"/>
            <a:chExt cx="2208960" cy="3199680"/>
          </a:xfrm>
        </p:grpSpPr>
        <p:sp>
          <p:nvSpPr>
            <p:cNvPr id="1628" name=""/>
            <p:cNvSpPr/>
            <p:nvPr/>
          </p:nvSpPr>
          <p:spPr>
            <a:xfrm>
              <a:off x="4596120" y="13474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29000" y="14011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82680" y="11430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55280" y="22528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85760" y="29721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316760" y="34153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897080" y="30301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966560" y="17604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7618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her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71360" y="190440"/>
            <a:ext cx="33908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50920" y="291960"/>
            <a:ext cx="3330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Boron Nitrid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8 Creeksid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  14228-20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91-2039…Cathy McCormick (BN Amher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07552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85480" y="1965240"/>
            <a:ext cx="138600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 T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HCGL 193117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9E6-B03F-40E6-B291-40B011A42D1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871AD-86B4-4059-8137-D1EDC04F39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0" name=""/>
          <p:cNvSpPr/>
          <p:nvPr/>
        </p:nvSpPr>
        <p:spPr>
          <a:xfrm>
            <a:off x="171360" y="343080"/>
            <a:ext cx="2019240" cy="95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1" name=""/>
          <p:cNvSpPr/>
          <p:nvPr/>
        </p:nvSpPr>
        <p:spPr>
          <a:xfrm>
            <a:off x="155520" y="399960"/>
            <a:ext cx="213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3" name=""/>
          <p:cNvSpPr/>
          <p:nvPr/>
        </p:nvSpPr>
        <p:spPr>
          <a:xfrm>
            <a:off x="6534360" y="18270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4" name=""/>
          <p:cNvSpPr/>
          <p:nvPr/>
        </p:nvSpPr>
        <p:spPr>
          <a:xfrm>
            <a:off x="2057400" y="20574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5" name=""/>
          <p:cNvSpPr/>
          <p:nvPr/>
        </p:nvSpPr>
        <p:spPr>
          <a:xfrm>
            <a:off x="6472080" y="1752480"/>
            <a:ext cx="10670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6" name=""/>
          <p:cNvSpPr/>
          <p:nvPr/>
        </p:nvSpPr>
        <p:spPr>
          <a:xfrm>
            <a:off x="6945480" y="2362320"/>
            <a:ext cx="98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1.154.88.1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7" name=""/>
          <p:cNvSpPr/>
          <p:nvPr/>
        </p:nvSpPr>
        <p:spPr>
          <a:xfrm>
            <a:off x="5701320" y="18129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8" name=""/>
          <p:cNvSpPr/>
          <p:nvPr/>
        </p:nvSpPr>
        <p:spPr>
          <a:xfrm>
            <a:off x="2056680" y="2041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9" name=""/>
          <p:cNvSpPr/>
          <p:nvPr/>
        </p:nvSpPr>
        <p:spPr>
          <a:xfrm>
            <a:off x="912960" y="1752480"/>
            <a:ext cx="1049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800) 475-78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0" name=""/>
          <p:cNvSpPr/>
          <p:nvPr/>
        </p:nvSpPr>
        <p:spPr>
          <a:xfrm>
            <a:off x="70102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1" name=""/>
          <p:cNvGrpSpPr/>
          <p:nvPr/>
        </p:nvGrpSpPr>
        <p:grpSpPr>
          <a:xfrm>
            <a:off x="685800" y="1523880"/>
            <a:ext cx="1447560" cy="1066320"/>
            <a:chOff x="685800" y="1523880"/>
            <a:chExt cx="1447560" cy="1066320"/>
          </a:xfrm>
        </p:grpSpPr>
        <p:sp>
          <p:nvSpPr>
            <p:cNvPr id="14312" name=""/>
            <p:cNvSpPr/>
            <p:nvPr/>
          </p:nvSpPr>
          <p:spPr>
            <a:xfrm>
              <a:off x="1450800" y="1591560"/>
              <a:ext cx="307440" cy="28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3" name=""/>
            <p:cNvSpPr/>
            <p:nvPr/>
          </p:nvSpPr>
          <p:spPr>
            <a:xfrm>
              <a:off x="685800" y="1608120"/>
              <a:ext cx="39744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4" name=""/>
            <p:cNvSpPr/>
            <p:nvPr/>
          </p:nvSpPr>
          <p:spPr>
            <a:xfrm>
              <a:off x="1049760" y="1523880"/>
              <a:ext cx="39960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5" name=""/>
            <p:cNvSpPr/>
            <p:nvPr/>
          </p:nvSpPr>
          <p:spPr>
            <a:xfrm>
              <a:off x="703800" y="1893960"/>
              <a:ext cx="399600" cy="30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6" name=""/>
            <p:cNvSpPr/>
            <p:nvPr/>
          </p:nvSpPr>
          <p:spPr>
            <a:xfrm>
              <a:off x="921960" y="2133720"/>
              <a:ext cx="397080" cy="30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7" name=""/>
            <p:cNvSpPr/>
            <p:nvPr/>
          </p:nvSpPr>
          <p:spPr>
            <a:xfrm>
              <a:off x="1267920" y="2280960"/>
              <a:ext cx="398520" cy="30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8" name=""/>
            <p:cNvSpPr/>
            <p:nvPr/>
          </p:nvSpPr>
          <p:spPr>
            <a:xfrm>
              <a:off x="1649160" y="2152800"/>
              <a:ext cx="398160" cy="30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9" name=""/>
            <p:cNvSpPr/>
            <p:nvPr/>
          </p:nvSpPr>
          <p:spPr>
            <a:xfrm>
              <a:off x="1693440" y="1729440"/>
              <a:ext cx="43992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0" name=""/>
          <p:cNvSpPr/>
          <p:nvPr/>
        </p:nvSpPr>
        <p:spPr>
          <a:xfrm>
            <a:off x="3659400" y="1828800"/>
            <a:ext cx="121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5.HFGJ.583314 (T-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1" name=""/>
          <p:cNvSpPr/>
          <p:nvPr/>
        </p:nvSpPr>
        <p:spPr>
          <a:xfrm>
            <a:off x="5638680" y="3581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2" name=""/>
          <p:cNvSpPr/>
          <p:nvPr/>
        </p:nvSpPr>
        <p:spPr>
          <a:xfrm>
            <a:off x="63244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3" name=""/>
          <p:cNvSpPr/>
          <p:nvPr/>
        </p:nvSpPr>
        <p:spPr>
          <a:xfrm>
            <a:off x="63244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4" name=""/>
          <p:cNvSpPr/>
          <p:nvPr/>
        </p:nvSpPr>
        <p:spPr>
          <a:xfrm>
            <a:off x="625968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5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6" name=""/>
          <p:cNvSpPr/>
          <p:nvPr/>
        </p:nvSpPr>
        <p:spPr>
          <a:xfrm>
            <a:off x="57150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7" name=""/>
          <p:cNvSpPr/>
          <p:nvPr/>
        </p:nvSpPr>
        <p:spPr>
          <a:xfrm>
            <a:off x="57913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8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9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0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1" name=""/>
          <p:cNvSpPr/>
          <p:nvPr/>
        </p:nvSpPr>
        <p:spPr>
          <a:xfrm>
            <a:off x="624744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2" name=""/>
          <p:cNvSpPr/>
          <p:nvPr/>
        </p:nvSpPr>
        <p:spPr>
          <a:xfrm>
            <a:off x="5748480" y="3200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3" name=""/>
          <p:cNvSpPr/>
          <p:nvPr/>
        </p:nvSpPr>
        <p:spPr>
          <a:xfrm>
            <a:off x="67824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34" name=""/>
          <p:cNvGrpSpPr/>
          <p:nvPr/>
        </p:nvGrpSpPr>
        <p:grpSpPr>
          <a:xfrm>
            <a:off x="228600" y="3809880"/>
            <a:ext cx="3429000" cy="2433600"/>
            <a:chOff x="228600" y="3809880"/>
            <a:chExt cx="3429000" cy="2433600"/>
          </a:xfrm>
        </p:grpSpPr>
        <p:sp>
          <p:nvSpPr>
            <p:cNvPr id="14335" name=""/>
            <p:cNvSpPr/>
            <p:nvPr/>
          </p:nvSpPr>
          <p:spPr>
            <a:xfrm>
              <a:off x="2140560" y="502920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6" name=""/>
            <p:cNvSpPr/>
            <p:nvPr/>
          </p:nvSpPr>
          <p:spPr>
            <a:xfrm>
              <a:off x="1151640" y="502920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7" name=""/>
            <p:cNvSpPr/>
            <p:nvPr/>
          </p:nvSpPr>
          <p:spPr>
            <a:xfrm>
              <a:off x="228600" y="502920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8" name=""/>
            <p:cNvSpPr/>
            <p:nvPr/>
          </p:nvSpPr>
          <p:spPr>
            <a:xfrm>
              <a:off x="2140560" y="5271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9" name=""/>
            <p:cNvSpPr/>
            <p:nvPr/>
          </p:nvSpPr>
          <p:spPr>
            <a:xfrm>
              <a:off x="1151640" y="5271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0" name=""/>
            <p:cNvSpPr/>
            <p:nvPr/>
          </p:nvSpPr>
          <p:spPr>
            <a:xfrm>
              <a:off x="228600" y="5271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1" name=""/>
            <p:cNvSpPr/>
            <p:nvPr/>
          </p:nvSpPr>
          <p:spPr>
            <a:xfrm>
              <a:off x="2140560" y="5514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2" name=""/>
            <p:cNvSpPr/>
            <p:nvPr/>
          </p:nvSpPr>
          <p:spPr>
            <a:xfrm>
              <a:off x="1151640" y="5514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3" name=""/>
            <p:cNvSpPr/>
            <p:nvPr/>
          </p:nvSpPr>
          <p:spPr>
            <a:xfrm>
              <a:off x="228600" y="5514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4" name=""/>
            <p:cNvSpPr/>
            <p:nvPr/>
          </p:nvSpPr>
          <p:spPr>
            <a:xfrm>
              <a:off x="2140560" y="575784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5" name=""/>
            <p:cNvSpPr/>
            <p:nvPr/>
          </p:nvSpPr>
          <p:spPr>
            <a:xfrm>
              <a:off x="1151640" y="575784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6" name=""/>
            <p:cNvSpPr/>
            <p:nvPr/>
          </p:nvSpPr>
          <p:spPr>
            <a:xfrm>
              <a:off x="228600" y="575784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7" name=""/>
            <p:cNvSpPr/>
            <p:nvPr/>
          </p:nvSpPr>
          <p:spPr>
            <a:xfrm>
              <a:off x="2140560" y="60004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- Saphi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8" name=""/>
            <p:cNvSpPr/>
            <p:nvPr/>
          </p:nvSpPr>
          <p:spPr>
            <a:xfrm>
              <a:off x="1151640" y="60004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9" name=""/>
            <p:cNvSpPr/>
            <p:nvPr/>
          </p:nvSpPr>
          <p:spPr>
            <a:xfrm>
              <a:off x="228600" y="60004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6.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0" name=""/>
            <p:cNvSpPr/>
            <p:nvPr/>
          </p:nvSpPr>
          <p:spPr>
            <a:xfrm>
              <a:off x="2140560" y="4781520"/>
              <a:ext cx="151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1" name=""/>
            <p:cNvSpPr/>
            <p:nvPr/>
          </p:nvSpPr>
          <p:spPr>
            <a:xfrm>
              <a:off x="1151640" y="4781520"/>
              <a:ext cx="988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2" name=""/>
            <p:cNvSpPr/>
            <p:nvPr/>
          </p:nvSpPr>
          <p:spPr>
            <a:xfrm>
              <a:off x="228600" y="4781520"/>
              <a:ext cx="923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3" name=""/>
            <p:cNvSpPr/>
            <p:nvPr/>
          </p:nvSpPr>
          <p:spPr>
            <a:xfrm>
              <a:off x="2140560" y="4538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4" name=""/>
            <p:cNvSpPr/>
            <p:nvPr/>
          </p:nvSpPr>
          <p:spPr>
            <a:xfrm>
              <a:off x="1151640" y="4538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5" name=""/>
            <p:cNvSpPr/>
            <p:nvPr/>
          </p:nvSpPr>
          <p:spPr>
            <a:xfrm>
              <a:off x="228600" y="4538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6" name=""/>
            <p:cNvSpPr/>
            <p:nvPr/>
          </p:nvSpPr>
          <p:spPr>
            <a:xfrm>
              <a:off x="2140560" y="4295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7" name=""/>
            <p:cNvSpPr/>
            <p:nvPr/>
          </p:nvSpPr>
          <p:spPr>
            <a:xfrm>
              <a:off x="1151640" y="4295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8" name=""/>
            <p:cNvSpPr/>
            <p:nvPr/>
          </p:nvSpPr>
          <p:spPr>
            <a:xfrm>
              <a:off x="228600" y="4295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9" name=""/>
            <p:cNvSpPr/>
            <p:nvPr/>
          </p:nvSpPr>
          <p:spPr>
            <a:xfrm>
              <a:off x="2140560" y="405288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0" name=""/>
            <p:cNvSpPr/>
            <p:nvPr/>
          </p:nvSpPr>
          <p:spPr>
            <a:xfrm>
              <a:off x="1151640" y="405288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1" name=""/>
            <p:cNvSpPr/>
            <p:nvPr/>
          </p:nvSpPr>
          <p:spPr>
            <a:xfrm>
              <a:off x="228600" y="405288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2" name=""/>
            <p:cNvSpPr/>
            <p:nvPr/>
          </p:nvSpPr>
          <p:spPr>
            <a:xfrm>
              <a:off x="2140560" y="38098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3" name=""/>
            <p:cNvSpPr/>
            <p:nvPr/>
          </p:nvSpPr>
          <p:spPr>
            <a:xfrm>
              <a:off x="1151640" y="38098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4" name=""/>
            <p:cNvSpPr/>
            <p:nvPr/>
          </p:nvSpPr>
          <p:spPr>
            <a:xfrm>
              <a:off x="228600" y="38098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5" name=""/>
            <p:cNvSpPr/>
            <p:nvPr/>
          </p:nvSpPr>
          <p:spPr>
            <a:xfrm>
              <a:off x="228600" y="38098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6" name=""/>
            <p:cNvSpPr/>
            <p:nvPr/>
          </p:nvSpPr>
          <p:spPr>
            <a:xfrm>
              <a:off x="228600" y="40528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7" name=""/>
            <p:cNvSpPr/>
            <p:nvPr/>
          </p:nvSpPr>
          <p:spPr>
            <a:xfrm>
              <a:off x="228600" y="4295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8" name=""/>
            <p:cNvSpPr/>
            <p:nvPr/>
          </p:nvSpPr>
          <p:spPr>
            <a:xfrm>
              <a:off x="228600" y="4538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9" name=""/>
            <p:cNvSpPr/>
            <p:nvPr/>
          </p:nvSpPr>
          <p:spPr>
            <a:xfrm>
              <a:off x="228600" y="4781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0" name=""/>
            <p:cNvSpPr/>
            <p:nvPr/>
          </p:nvSpPr>
          <p:spPr>
            <a:xfrm>
              <a:off x="228600" y="50292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1" name=""/>
            <p:cNvSpPr/>
            <p:nvPr/>
          </p:nvSpPr>
          <p:spPr>
            <a:xfrm>
              <a:off x="228600" y="62434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2" name=""/>
            <p:cNvSpPr/>
            <p:nvPr/>
          </p:nvSpPr>
          <p:spPr>
            <a:xfrm>
              <a:off x="228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3" name=""/>
            <p:cNvSpPr/>
            <p:nvPr/>
          </p:nvSpPr>
          <p:spPr>
            <a:xfrm>
              <a:off x="115164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4" name=""/>
            <p:cNvSpPr/>
            <p:nvPr/>
          </p:nvSpPr>
          <p:spPr>
            <a:xfrm>
              <a:off x="214056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5" name=""/>
            <p:cNvSpPr/>
            <p:nvPr/>
          </p:nvSpPr>
          <p:spPr>
            <a:xfrm>
              <a:off x="3657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6" name=""/>
            <p:cNvSpPr/>
            <p:nvPr/>
          </p:nvSpPr>
          <p:spPr>
            <a:xfrm>
              <a:off x="228600" y="60004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7" name=""/>
            <p:cNvSpPr/>
            <p:nvPr/>
          </p:nvSpPr>
          <p:spPr>
            <a:xfrm>
              <a:off x="228600" y="5757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8" name=""/>
            <p:cNvSpPr/>
            <p:nvPr/>
          </p:nvSpPr>
          <p:spPr>
            <a:xfrm>
              <a:off x="228600" y="5514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9" name=""/>
            <p:cNvSpPr/>
            <p:nvPr/>
          </p:nvSpPr>
          <p:spPr>
            <a:xfrm>
              <a:off x="228600" y="5271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0" name=""/>
          <p:cNvSpPr/>
          <p:nvPr/>
        </p:nvSpPr>
        <p:spPr>
          <a:xfrm>
            <a:off x="36576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1" name=""/>
          <p:cNvSpPr/>
          <p:nvPr/>
        </p:nvSpPr>
        <p:spPr>
          <a:xfrm>
            <a:off x="3505320" y="42670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2" name=""/>
          <p:cNvSpPr/>
          <p:nvPr/>
        </p:nvSpPr>
        <p:spPr>
          <a:xfrm>
            <a:off x="364032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3" name=""/>
          <p:cNvSpPr/>
          <p:nvPr/>
        </p:nvSpPr>
        <p:spPr>
          <a:xfrm>
            <a:off x="495180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4" name=""/>
          <p:cNvSpPr/>
          <p:nvPr/>
        </p:nvSpPr>
        <p:spPr>
          <a:xfrm>
            <a:off x="5334120" y="2971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5" name=""/>
          <p:cNvSpPr/>
          <p:nvPr/>
        </p:nvSpPr>
        <p:spPr>
          <a:xfrm>
            <a:off x="3767400" y="2057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6" name=""/>
          <p:cNvSpPr/>
          <p:nvPr/>
        </p:nvSpPr>
        <p:spPr>
          <a:xfrm>
            <a:off x="777240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7" name=""/>
          <p:cNvSpPr/>
          <p:nvPr/>
        </p:nvSpPr>
        <p:spPr>
          <a:xfrm>
            <a:off x="77724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8" name=""/>
          <p:cNvSpPr/>
          <p:nvPr/>
        </p:nvSpPr>
        <p:spPr>
          <a:xfrm>
            <a:off x="770760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9" name=""/>
          <p:cNvSpPr/>
          <p:nvPr/>
        </p:nvSpPr>
        <p:spPr>
          <a:xfrm>
            <a:off x="7238880" y="43434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0" name=""/>
          <p:cNvSpPr/>
          <p:nvPr/>
        </p:nvSpPr>
        <p:spPr>
          <a:xfrm>
            <a:off x="723888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1" name=""/>
          <p:cNvSpPr/>
          <p:nvPr/>
        </p:nvSpPr>
        <p:spPr>
          <a:xfrm>
            <a:off x="769500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990-28C8-43B3-933A-E7810CCA546A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841D5-1731-4568-93CE-690425E3D538}" type="datetime1">
              <a:rPr lang="en-US"/>
              <a:t>07/30/26</a:t>
            </a:fld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5" name=""/>
          <p:cNvSpPr/>
          <p:nvPr/>
        </p:nvSpPr>
        <p:spPr>
          <a:xfrm>
            <a:off x="7922520" y="6512040"/>
            <a:ext cx="93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6" name=""/>
          <p:cNvSpPr/>
          <p:nvPr/>
        </p:nvSpPr>
        <p:spPr>
          <a:xfrm>
            <a:off x="2139840" y="1828800"/>
            <a:ext cx="159228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7" name=""/>
          <p:cNvSpPr/>
          <p:nvPr/>
        </p:nvSpPr>
        <p:spPr>
          <a:xfrm>
            <a:off x="4654440" y="2597040"/>
            <a:ext cx="74952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8" name=""/>
          <p:cNvSpPr/>
          <p:nvPr/>
        </p:nvSpPr>
        <p:spPr>
          <a:xfrm>
            <a:off x="4695480" y="433548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9" name=""/>
          <p:cNvSpPr/>
          <p:nvPr/>
        </p:nvSpPr>
        <p:spPr>
          <a:xfrm>
            <a:off x="3062880" y="3276720"/>
            <a:ext cx="68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0" name=""/>
          <p:cNvSpPr/>
          <p:nvPr/>
        </p:nvSpPr>
        <p:spPr>
          <a:xfrm>
            <a:off x="3028320" y="3048120"/>
            <a:ext cx="7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1" name=""/>
          <p:cNvSpPr/>
          <p:nvPr/>
        </p:nvSpPr>
        <p:spPr>
          <a:xfrm>
            <a:off x="37339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2" name=""/>
          <p:cNvSpPr/>
          <p:nvPr/>
        </p:nvSpPr>
        <p:spPr>
          <a:xfrm>
            <a:off x="44197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3" name=""/>
          <p:cNvSpPr/>
          <p:nvPr/>
        </p:nvSpPr>
        <p:spPr>
          <a:xfrm>
            <a:off x="3968640" y="30542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4" name=""/>
          <p:cNvSpPr/>
          <p:nvPr/>
        </p:nvSpPr>
        <p:spPr>
          <a:xfrm>
            <a:off x="37339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5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6" name=""/>
          <p:cNvSpPr/>
          <p:nvPr/>
        </p:nvSpPr>
        <p:spPr>
          <a:xfrm>
            <a:off x="3968640" y="3282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7" name=""/>
          <p:cNvSpPr/>
          <p:nvPr/>
        </p:nvSpPr>
        <p:spPr>
          <a:xfrm>
            <a:off x="37339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8" name=""/>
          <p:cNvSpPr/>
          <p:nvPr/>
        </p:nvSpPr>
        <p:spPr>
          <a:xfrm>
            <a:off x="44197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9" name=""/>
          <p:cNvSpPr/>
          <p:nvPr/>
        </p:nvSpPr>
        <p:spPr>
          <a:xfrm>
            <a:off x="3968640" y="54928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0" name=""/>
          <p:cNvSpPr/>
          <p:nvPr/>
        </p:nvSpPr>
        <p:spPr>
          <a:xfrm>
            <a:off x="37339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1" name=""/>
          <p:cNvSpPr/>
          <p:nvPr/>
        </p:nvSpPr>
        <p:spPr>
          <a:xfrm>
            <a:off x="44197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2" name=""/>
          <p:cNvSpPr/>
          <p:nvPr/>
        </p:nvSpPr>
        <p:spPr>
          <a:xfrm>
            <a:off x="3968640" y="57214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3" name=""/>
          <p:cNvSpPr/>
          <p:nvPr/>
        </p:nvSpPr>
        <p:spPr>
          <a:xfrm>
            <a:off x="2825640" y="54928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4" name=""/>
          <p:cNvSpPr/>
          <p:nvPr/>
        </p:nvSpPr>
        <p:spPr>
          <a:xfrm>
            <a:off x="2952360" y="547848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5" name=""/>
          <p:cNvSpPr/>
          <p:nvPr/>
        </p:nvSpPr>
        <p:spPr>
          <a:xfrm>
            <a:off x="3135600" y="5707080"/>
            <a:ext cx="61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6" name=""/>
          <p:cNvGrpSpPr/>
          <p:nvPr/>
        </p:nvGrpSpPr>
        <p:grpSpPr>
          <a:xfrm>
            <a:off x="6608880" y="3811680"/>
            <a:ext cx="1683720" cy="2209320"/>
            <a:chOff x="6608880" y="3811680"/>
            <a:chExt cx="1683720" cy="2209320"/>
          </a:xfrm>
        </p:grpSpPr>
        <p:sp>
          <p:nvSpPr>
            <p:cNvPr id="14417" name=""/>
            <p:cNvSpPr/>
            <p:nvPr/>
          </p:nvSpPr>
          <p:spPr>
            <a:xfrm>
              <a:off x="7497000" y="3956040"/>
              <a:ext cx="362520" cy="57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" y="8156"/>
                  </a:moveTo>
                  <a:arcTo wR="10800" hR="10800" stAng="-9949588" swAng="1120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" y="8156"/>
                  </a:moveTo>
                  <a:arcTo wR="10800" hR="10800" stAng="-9949588" swAng="1120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8" name=""/>
            <p:cNvSpPr/>
            <p:nvPr/>
          </p:nvSpPr>
          <p:spPr>
            <a:xfrm>
              <a:off x="6608880" y="3989520"/>
              <a:ext cx="46260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4" y="20709"/>
                  </a:moveTo>
                  <a:arcTo wR="10800" hR="10800" stAng="6806404" swAng="1244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4" y="20709"/>
                  </a:moveTo>
                  <a:arcTo wR="10800" hR="10800" stAng="6806404" swAng="124434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9" name=""/>
            <p:cNvSpPr/>
            <p:nvPr/>
          </p:nvSpPr>
          <p:spPr>
            <a:xfrm>
              <a:off x="7032600" y="3811680"/>
              <a:ext cx="464760" cy="64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081" swAng="10645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081" swAng="10645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0" name=""/>
            <p:cNvSpPr/>
            <p:nvPr/>
          </p:nvSpPr>
          <p:spPr>
            <a:xfrm>
              <a:off x="6629400" y="4579200"/>
              <a:ext cx="465120" cy="63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2" y="21206"/>
                  </a:moveTo>
                  <a:arcTo wR="10800" hR="10800" stAng="4468049" swAng="10162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2" y="21206"/>
                  </a:moveTo>
                  <a:arcTo wR="10800" hR="10800" stAng="4468049" swAng="101622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1" name=""/>
            <p:cNvSpPr/>
            <p:nvPr/>
          </p:nvSpPr>
          <p:spPr>
            <a:xfrm>
              <a:off x="6881760" y="5074560"/>
              <a:ext cx="462240" cy="64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4" y="17418"/>
                  </a:moveTo>
                  <a:arcTo wR="10800" hR="10800" stAng="2267610" swAng="106347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4" y="17418"/>
                  </a:moveTo>
                  <a:arcTo wR="10800" hR="10800" stAng="2267610" swAng="106347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2" name=""/>
            <p:cNvSpPr/>
            <p:nvPr/>
          </p:nvSpPr>
          <p:spPr>
            <a:xfrm>
              <a:off x="7284960" y="5379120"/>
              <a:ext cx="464760" cy="64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3" y="5649"/>
                  </a:moveTo>
                  <a:arcTo wR="10800" hR="10800" stAng="-1709036" swAng="130662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3" y="5649"/>
                  </a:moveTo>
                  <a:arcTo wR="10800" hR="10800" stAng="-1709036" swAng="130662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3" name=""/>
            <p:cNvSpPr/>
            <p:nvPr/>
          </p:nvSpPr>
          <p:spPr>
            <a:xfrm>
              <a:off x="7729200" y="5110920"/>
              <a:ext cx="46368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410"/>
                  </a:moveTo>
                  <a:arcTo wR="10800" hR="10800" stAng="-4449500" swAng="137683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410"/>
                  </a:moveTo>
                  <a:arcTo wR="10800" hR="10800" stAng="-4449500" swAng="137683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4" name=""/>
            <p:cNvSpPr/>
            <p:nvPr/>
          </p:nvSpPr>
          <p:spPr>
            <a:xfrm>
              <a:off x="7780680" y="4237200"/>
              <a:ext cx="511920" cy="90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5" name=""/>
          <p:cNvSpPr/>
          <p:nvPr/>
        </p:nvSpPr>
        <p:spPr>
          <a:xfrm>
            <a:off x="5410080" y="5029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6" name=""/>
          <p:cNvSpPr/>
          <p:nvPr/>
        </p:nvSpPr>
        <p:spPr>
          <a:xfrm>
            <a:off x="7215120" y="4869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7" name=""/>
          <p:cNvSpPr/>
          <p:nvPr/>
        </p:nvSpPr>
        <p:spPr>
          <a:xfrm>
            <a:off x="2219040" y="5630760"/>
            <a:ext cx="59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8" name=""/>
          <p:cNvSpPr/>
          <p:nvPr/>
        </p:nvSpPr>
        <p:spPr>
          <a:xfrm>
            <a:off x="1395720" y="274320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9" name=""/>
          <p:cNvSpPr/>
          <p:nvPr/>
        </p:nvSpPr>
        <p:spPr>
          <a:xfrm>
            <a:off x="3848760" y="14940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0" name=""/>
          <p:cNvSpPr/>
          <p:nvPr/>
        </p:nvSpPr>
        <p:spPr>
          <a:xfrm>
            <a:off x="3911760" y="236232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1" name=""/>
          <p:cNvSpPr/>
          <p:nvPr/>
        </p:nvSpPr>
        <p:spPr>
          <a:xfrm>
            <a:off x="3987720" y="30481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2" name=""/>
          <p:cNvSpPr/>
          <p:nvPr/>
        </p:nvSpPr>
        <p:spPr>
          <a:xfrm>
            <a:off x="3987720" y="32767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3" name=""/>
          <p:cNvSpPr/>
          <p:nvPr/>
        </p:nvSpPr>
        <p:spPr>
          <a:xfrm>
            <a:off x="3987720" y="54864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4" name=""/>
          <p:cNvSpPr/>
          <p:nvPr/>
        </p:nvSpPr>
        <p:spPr>
          <a:xfrm>
            <a:off x="3987720" y="57150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5" name=""/>
          <p:cNvSpPr/>
          <p:nvPr/>
        </p:nvSpPr>
        <p:spPr>
          <a:xfrm>
            <a:off x="2527920" y="2354400"/>
            <a:ext cx="122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6" name=""/>
          <p:cNvSpPr/>
          <p:nvPr/>
        </p:nvSpPr>
        <p:spPr>
          <a:xfrm>
            <a:off x="373392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7" name=""/>
          <p:cNvSpPr/>
          <p:nvPr/>
        </p:nvSpPr>
        <p:spPr>
          <a:xfrm>
            <a:off x="4419720" y="2438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8" name=""/>
          <p:cNvSpPr/>
          <p:nvPr/>
        </p:nvSpPr>
        <p:spPr>
          <a:xfrm>
            <a:off x="3968640" y="23684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9" name=""/>
          <p:cNvSpPr/>
          <p:nvPr/>
        </p:nvSpPr>
        <p:spPr>
          <a:xfrm>
            <a:off x="5715000" y="24382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0" name=""/>
          <p:cNvSpPr/>
          <p:nvPr/>
        </p:nvSpPr>
        <p:spPr>
          <a:xfrm flipH="1">
            <a:off x="571500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1" name=""/>
          <p:cNvSpPr/>
          <p:nvPr/>
        </p:nvSpPr>
        <p:spPr>
          <a:xfrm>
            <a:off x="5562720" y="3886200"/>
            <a:ext cx="119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0) 560-09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2" name=""/>
          <p:cNvSpPr/>
          <p:nvPr/>
        </p:nvSpPr>
        <p:spPr>
          <a:xfrm>
            <a:off x="5356080" y="4724280"/>
            <a:ext cx="1425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3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4" name=""/>
          <p:cNvSpPr/>
          <p:nvPr/>
        </p:nvSpPr>
        <p:spPr>
          <a:xfrm>
            <a:off x="61722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45" name=""/>
          <p:cNvGrpSpPr/>
          <p:nvPr/>
        </p:nvGrpSpPr>
        <p:grpSpPr>
          <a:xfrm>
            <a:off x="6607080" y="2592360"/>
            <a:ext cx="1685520" cy="684000"/>
            <a:chOff x="6607080" y="2592360"/>
            <a:chExt cx="1685520" cy="684000"/>
          </a:xfrm>
        </p:grpSpPr>
        <p:sp>
          <p:nvSpPr>
            <p:cNvPr id="14446" name=""/>
            <p:cNvSpPr/>
            <p:nvPr/>
          </p:nvSpPr>
          <p:spPr>
            <a:xfrm>
              <a:off x="7497000" y="2637000"/>
              <a:ext cx="362520" cy="18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7" name=""/>
            <p:cNvSpPr/>
            <p:nvPr/>
          </p:nvSpPr>
          <p:spPr>
            <a:xfrm>
              <a:off x="6607080" y="264636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8" name=""/>
            <p:cNvSpPr/>
            <p:nvPr/>
          </p:nvSpPr>
          <p:spPr>
            <a:xfrm>
              <a:off x="7032600" y="2592360"/>
              <a:ext cx="464760" cy="19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9" name=""/>
            <p:cNvSpPr/>
            <p:nvPr/>
          </p:nvSpPr>
          <p:spPr>
            <a:xfrm>
              <a:off x="6627960" y="2830320"/>
              <a:ext cx="463680" cy="1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0" name=""/>
            <p:cNvSpPr/>
            <p:nvPr/>
          </p:nvSpPr>
          <p:spPr>
            <a:xfrm>
              <a:off x="6880320" y="2984040"/>
              <a:ext cx="46296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1" name=""/>
            <p:cNvSpPr/>
            <p:nvPr/>
          </p:nvSpPr>
          <p:spPr>
            <a:xfrm>
              <a:off x="7284960" y="3077280"/>
              <a:ext cx="464760" cy="19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2" name=""/>
            <p:cNvSpPr/>
            <p:nvPr/>
          </p:nvSpPr>
          <p:spPr>
            <a:xfrm>
              <a:off x="7729560" y="299520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3" name=""/>
            <p:cNvSpPr/>
            <p:nvPr/>
          </p:nvSpPr>
          <p:spPr>
            <a:xfrm>
              <a:off x="7781040" y="2724120"/>
              <a:ext cx="511560" cy="28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4" name=""/>
          <p:cNvSpPr/>
          <p:nvPr/>
        </p:nvSpPr>
        <p:spPr>
          <a:xfrm>
            <a:off x="7015320" y="273528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5" name=""/>
          <p:cNvSpPr/>
          <p:nvPr/>
        </p:nvSpPr>
        <p:spPr>
          <a:xfrm>
            <a:off x="2838600" y="212580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6" name=""/>
          <p:cNvSpPr/>
          <p:nvPr/>
        </p:nvSpPr>
        <p:spPr>
          <a:xfrm>
            <a:off x="3968640" y="2139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7" name=""/>
          <p:cNvSpPr/>
          <p:nvPr/>
        </p:nvSpPr>
        <p:spPr>
          <a:xfrm>
            <a:off x="373392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8" name=""/>
          <p:cNvSpPr/>
          <p:nvPr/>
        </p:nvSpPr>
        <p:spPr>
          <a:xfrm>
            <a:off x="3886200" y="2133720"/>
            <a:ext cx="584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9" name=""/>
          <p:cNvSpPr/>
          <p:nvPr/>
        </p:nvSpPr>
        <p:spPr>
          <a:xfrm>
            <a:off x="4419720" y="22096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0" name=""/>
          <p:cNvSpPr/>
          <p:nvPr/>
        </p:nvSpPr>
        <p:spPr>
          <a:xfrm>
            <a:off x="6172200" y="2209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1" name=""/>
          <p:cNvSpPr/>
          <p:nvPr/>
        </p:nvSpPr>
        <p:spPr>
          <a:xfrm>
            <a:off x="61722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2" name=""/>
          <p:cNvSpPr/>
          <p:nvPr/>
        </p:nvSpPr>
        <p:spPr>
          <a:xfrm flipV="1">
            <a:off x="6400800" y="2971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3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4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5" name=""/>
          <p:cNvSpPr/>
          <p:nvPr/>
        </p:nvSpPr>
        <p:spPr>
          <a:xfrm>
            <a:off x="58525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6" name=""/>
          <p:cNvSpPr/>
          <p:nvPr/>
        </p:nvSpPr>
        <p:spPr>
          <a:xfrm>
            <a:off x="57891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7F7-2D08-4580-ABDE-29242E9D7269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56773-C9CF-4183-AF9A-4EF3807810DF}" type="datetime1">
              <a:rPr lang="en-US"/>
              <a:t>07/30/26</a:t>
            </a:fld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WAITING FOR INSTALLATION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172-6E28-49D4-8F06-F822DBBBF7AC}" type="slidenum">
              <a:t>2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360A8-3C09-4724-A626-63507791D3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diz, Oh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2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473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4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5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6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7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8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9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0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2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5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6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7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8" name=""/>
          <p:cNvSpPr/>
          <p:nvPr/>
        </p:nvSpPr>
        <p:spPr>
          <a:xfrm>
            <a:off x="78120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2" name=""/>
          <p:cNvSpPr/>
          <p:nvPr/>
        </p:nvSpPr>
        <p:spPr>
          <a:xfrm>
            <a:off x="6877080" y="4343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3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4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029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  439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942-4442…Tom Hug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6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7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9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0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1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67D-6744-4432-9D11-000E9AD76E8C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D8B8D-7100-4D13-950C-5CDD75CED3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gary, Alberta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5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26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7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8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9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0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1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2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3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5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8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9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0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1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2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3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4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5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7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40M - 80th Avenue S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  T2C 2J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3) 279-6009…Paula DeFrus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0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1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2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3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4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5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6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7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8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9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0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1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2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3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4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66E-7421-4B3D-9DAD-B96CC6C85FCD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1FA3C-8D4D-4031-8BB0-D2CAEB228C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rill, Wisconsi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78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79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0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1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2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3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4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5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6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8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1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2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3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4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8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9 West Taylo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  54452-0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5) 539-0003…Dave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2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3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5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6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7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7A6-51E4-4E52-BEBD-3F5380493549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5A7D2-0878-4DA1-9CFB-D47ED34852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1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32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3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4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5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6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7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8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9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1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4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5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6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7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8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0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7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1" name=""/>
          <p:cNvSpPr/>
          <p:nvPr/>
        </p:nvSpPr>
        <p:spPr>
          <a:xfrm>
            <a:off x="6821280" y="3505320"/>
            <a:ext cx="953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3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4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5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6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7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8" name=""/>
          <p:cNvSpPr/>
          <p:nvPr/>
        </p:nvSpPr>
        <p:spPr>
          <a:xfrm>
            <a:off x="2241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9" name=""/>
          <p:cNvSpPr/>
          <p:nvPr/>
        </p:nvSpPr>
        <p:spPr>
          <a:xfrm>
            <a:off x="22118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0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1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2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3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814-A896-44AD-BB13-C46577343E41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D4822-0350-41B3-8D43-054298495A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7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88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9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0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1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2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3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4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5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7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0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1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2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3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3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7" name=""/>
          <p:cNvSpPr/>
          <p:nvPr/>
        </p:nvSpPr>
        <p:spPr>
          <a:xfrm>
            <a:off x="6663240" y="350532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8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0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1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2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3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4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5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6" name=""/>
          <p:cNvSpPr/>
          <p:nvPr/>
        </p:nvSpPr>
        <p:spPr>
          <a:xfrm>
            <a:off x="22410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7" name=""/>
          <p:cNvSpPr/>
          <p:nvPr/>
        </p:nvSpPr>
        <p:spPr>
          <a:xfrm>
            <a:off x="221184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8" name=""/>
          <p:cNvSpPr/>
          <p:nvPr/>
        </p:nvSpPr>
        <p:spPr>
          <a:xfrm>
            <a:off x="171360" y="228600"/>
            <a:ext cx="21909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9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47D-BCD3-481F-8A76-6A765742987E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B9397-E2BF-4332-AA0B-62B02FE044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d Forg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3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xxxxxx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d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4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pont Distributing &amp; Tru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Moosic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  185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547-6645…Joe Talar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6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4C9-EB23-4791-A1C8-064A7A1AF69A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C15F4-0EF6-4933-99F7-7819375256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co, Washing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0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801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2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3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4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5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8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0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1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3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4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5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6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0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2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3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90 East Ainswor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  99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9) 547-7997…Eileen Cord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547-7997…Janet Darv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4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5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7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8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55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0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1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2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3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4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5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6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509) 542-929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7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9" name=""/>
          <p:cNvSpPr/>
          <p:nvPr/>
        </p:nvSpPr>
        <p:spPr>
          <a:xfrm>
            <a:off x="261756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509-543-7177 / 509-543-7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D95-9308-43E1-9858-E748CEC3D6F8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3380E-5C8B-4124-AA58-AAC8FED389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d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67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447440" y="2895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38960" y="787320"/>
            <a:ext cx="130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752480" y="365760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775520" y="3048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372280" y="34434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442480" y="3672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986963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71360" y="171360"/>
            <a:ext cx="31813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28600" y="22860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Diamond Tool D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 Be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 NC 287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11…John McF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09…Nola Sta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52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179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28) 654-88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029200" y="30481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001000" y="1600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423760" y="28195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412600" y="306216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13588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346560" y="496728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828-684-4485  / 828-684-4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D09-1992-4422-A6E1-18B2745FB4F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29102-A156-4D1D-851C-1120FEC5B1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3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854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5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6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7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8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3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6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7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8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9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9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3" name=""/>
          <p:cNvSpPr/>
          <p:nvPr/>
        </p:nvSpPr>
        <p:spPr>
          <a:xfrm>
            <a:off x="685296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4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5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6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7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8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9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0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1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2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22449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971-7ED4-4419-A426-EE1D3F750692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85B2A-ACF1-49DE-B869-54090DA796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new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0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90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1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1" name=""/>
          <p:cNvSpPr/>
          <p:nvPr/>
        </p:nvSpPr>
        <p:spPr>
          <a:xfrm>
            <a:off x="314280" y="406728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2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9" name=""/>
          <p:cNvSpPr/>
          <p:nvPr/>
        </p:nvSpPr>
        <p:spPr>
          <a:xfrm>
            <a:off x="6257880" y="467676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4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5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40 West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7-4228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6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7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2B7-1F82-46F5-9B82-DFFDDCE0D0C3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E6656-7AAC-4C12-8139-E8FDE8BD52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Apollinaire, Quebec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6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967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8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9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0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1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2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3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4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6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9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0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1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2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5" name=""/>
          <p:cNvSpPr/>
          <p:nvPr/>
        </p:nvSpPr>
        <p:spPr>
          <a:xfrm>
            <a:off x="838080" y="6095880"/>
            <a:ext cx="182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6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8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9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8B, Rang Gas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  G0S 2E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8) 881-2613…Gilles Gr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0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1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3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4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5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196-C802-4F04-A998-4530A223EE40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7D4E2-A431-4FC8-968C-D99721A7C5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ston, Ontar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9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15020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1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2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3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4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5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6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7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8" name=""/>
          <p:cNvSpPr/>
          <p:nvPr/>
        </p:nvSpPr>
        <p:spPr>
          <a:xfrm>
            <a:off x="75240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9" name=""/>
          <p:cNvSpPr/>
          <p:nvPr/>
        </p:nvSpPr>
        <p:spPr>
          <a:xfrm>
            <a:off x="1752480" y="297180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2" name=""/>
          <p:cNvSpPr/>
          <p:nvPr/>
        </p:nvSpPr>
        <p:spPr>
          <a:xfrm flipV="1">
            <a:off x="1600200" y="21333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3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4" name=""/>
          <p:cNvSpPr/>
          <p:nvPr/>
        </p:nvSpPr>
        <p:spPr>
          <a:xfrm>
            <a:off x="35053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5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6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7" name=""/>
          <p:cNvSpPr/>
          <p:nvPr/>
        </p:nvSpPr>
        <p:spPr>
          <a:xfrm>
            <a:off x="6541920" y="609480"/>
            <a:ext cx="64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8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9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0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1" name=""/>
          <p:cNvSpPr/>
          <p:nvPr/>
        </p:nvSpPr>
        <p:spPr>
          <a:xfrm>
            <a:off x="613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2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3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4" name=""/>
          <p:cNvSpPr/>
          <p:nvPr/>
        </p:nvSpPr>
        <p:spPr>
          <a:xfrm>
            <a:off x="7705800" y="609480"/>
            <a:ext cx="563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5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6" name=""/>
          <p:cNvSpPr/>
          <p:nvPr/>
        </p:nvSpPr>
        <p:spPr>
          <a:xfrm>
            <a:off x="6315120" y="5892840"/>
            <a:ext cx="103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7" name=""/>
          <p:cNvSpPr/>
          <p:nvPr/>
        </p:nvSpPr>
        <p:spPr>
          <a:xfrm>
            <a:off x="6909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8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9" name=""/>
          <p:cNvSpPr/>
          <p:nvPr/>
        </p:nvSpPr>
        <p:spPr>
          <a:xfrm>
            <a:off x="1756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0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1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2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3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4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1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2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3" name=""/>
          <p:cNvSpPr/>
          <p:nvPr/>
        </p:nvSpPr>
        <p:spPr>
          <a:xfrm>
            <a:off x="2460600" y="44197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4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5" name=""/>
          <p:cNvSpPr/>
          <p:nvPr/>
        </p:nvSpPr>
        <p:spPr>
          <a:xfrm>
            <a:off x="2445120" y="51195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6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7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8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9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0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1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2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3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4" name=""/>
          <p:cNvSpPr/>
          <p:nvPr/>
        </p:nvSpPr>
        <p:spPr>
          <a:xfrm>
            <a:off x="6909120" y="1496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5" name=""/>
          <p:cNvSpPr/>
          <p:nvPr/>
        </p:nvSpPr>
        <p:spPr>
          <a:xfrm>
            <a:off x="8052120" y="1498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6" name=""/>
          <p:cNvSpPr/>
          <p:nvPr/>
        </p:nvSpPr>
        <p:spPr>
          <a:xfrm>
            <a:off x="808056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7" name=""/>
          <p:cNvSpPr/>
          <p:nvPr/>
        </p:nvSpPr>
        <p:spPr>
          <a:xfrm>
            <a:off x="5433480" y="5892840"/>
            <a:ext cx="556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8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9" name=""/>
          <p:cNvSpPr/>
          <p:nvPr/>
        </p:nvSpPr>
        <p:spPr>
          <a:xfrm>
            <a:off x="5766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0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1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2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3" name=""/>
          <p:cNvSpPr/>
          <p:nvPr/>
        </p:nvSpPr>
        <p:spPr>
          <a:xfrm>
            <a:off x="1752480" y="350352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4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5" name=""/>
          <p:cNvSpPr/>
          <p:nvPr/>
        </p:nvSpPr>
        <p:spPr>
          <a:xfrm>
            <a:off x="171360" y="171360"/>
            <a:ext cx="2876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6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Barmac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  M9I 2X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6) 746-0662…Gur Bayk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7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8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9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ston (BayFo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1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2" name=""/>
          <p:cNvSpPr/>
          <p:nvPr/>
        </p:nvSpPr>
        <p:spPr>
          <a:xfrm>
            <a:off x="5419440" y="609480"/>
            <a:ext cx="523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3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4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5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6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7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8" name=""/>
          <p:cNvSpPr/>
          <p:nvPr/>
        </p:nvSpPr>
        <p:spPr>
          <a:xfrm>
            <a:off x="61308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9" name=""/>
          <p:cNvSpPr/>
          <p:nvPr/>
        </p:nvSpPr>
        <p:spPr>
          <a:xfrm>
            <a:off x="2433960" y="487692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0" name=""/>
          <p:cNvSpPr/>
          <p:nvPr/>
        </p:nvSpPr>
        <p:spPr>
          <a:xfrm>
            <a:off x="2433960" y="53481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1" name=""/>
          <p:cNvSpPr/>
          <p:nvPr/>
        </p:nvSpPr>
        <p:spPr>
          <a:xfrm>
            <a:off x="1981080" y="457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2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4" name=""/>
          <p:cNvSpPr/>
          <p:nvPr/>
        </p:nvSpPr>
        <p:spPr>
          <a:xfrm>
            <a:off x="1219320" y="448632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5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6" name=""/>
          <p:cNvSpPr/>
          <p:nvPr/>
        </p:nvSpPr>
        <p:spPr>
          <a:xfrm>
            <a:off x="123552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7" name=""/>
          <p:cNvSpPr/>
          <p:nvPr/>
        </p:nvSpPr>
        <p:spPr>
          <a:xfrm>
            <a:off x="1219320" y="47149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8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216-F866-4076-8959-F8DF68ECA5DD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D7692-B264-4C68-AB10-9C1C43BEB8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CANCELLED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B70-318E-4801-B970-64339C6CA063}" type="slidenum">
              <a:t>2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24467-A238-40EB-A85C-D218817349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heim, Californi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4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15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6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7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8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9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0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1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2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3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4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5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6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7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8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0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1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2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3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4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5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6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7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8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9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0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1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2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3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4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5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6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7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8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9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0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nahei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1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2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3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4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5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6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7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8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9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3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4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5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6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7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8" name=""/>
          <p:cNvSpPr/>
          <p:nvPr/>
        </p:nvSpPr>
        <p:spPr>
          <a:xfrm>
            <a:off x="248400" y="223920"/>
            <a:ext cx="1992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01 East La Palma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  928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970-3000…Rhonda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9" name=""/>
          <p:cNvSpPr/>
          <p:nvPr/>
        </p:nvSpPr>
        <p:spPr>
          <a:xfrm>
            <a:off x="1982880" y="2730600"/>
            <a:ext cx="143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NA96-457307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4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5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D94-3E23-4F40-999B-C12138ACD5AD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3D8CE-7F67-4951-AF43-BF79D4B269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ton Rouge, Louisian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9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80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1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2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3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4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5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6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7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9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0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1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5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6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7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8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9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0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1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2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3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4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5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6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7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8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9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0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1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2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3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4" name=""/>
          <p:cNvSpPr/>
          <p:nvPr/>
        </p:nvSpPr>
        <p:spPr>
          <a:xfrm>
            <a:off x="6329160" y="4344840"/>
            <a:ext cx="84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aton Rou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6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7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8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9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0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1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2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3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4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5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6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7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8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9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on Ro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4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5" name=""/>
          <p:cNvSpPr/>
          <p:nvPr/>
        </p:nvSpPr>
        <p:spPr>
          <a:xfrm>
            <a:off x="228600" y="152280"/>
            <a:ext cx="2400480" cy="133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6" name=""/>
          <p:cNvSpPr/>
          <p:nvPr/>
        </p:nvSpPr>
        <p:spPr>
          <a:xfrm>
            <a:off x="247680" y="223920"/>
            <a:ext cx="23065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137 South Sherwood Forest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  708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Joi Spears x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...Larry Breeting x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Don Hackney x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7" name=""/>
          <p:cNvSpPr/>
          <p:nvPr/>
        </p:nvSpPr>
        <p:spPr>
          <a:xfrm>
            <a:off x="1982520" y="2681280"/>
            <a:ext cx="142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AT96-45729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8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9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0" name=""/>
          <p:cNvSpPr/>
          <p:nvPr/>
        </p:nvSpPr>
        <p:spPr>
          <a:xfrm>
            <a:off x="6553080" y="6858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OSING MARCH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1" name=""/>
          <p:cNvSpPr/>
          <p:nvPr/>
        </p:nvSpPr>
        <p:spPr>
          <a:xfrm>
            <a:off x="6553080" y="533520"/>
            <a:ext cx="2133720" cy="5331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02E-C425-4C5D-8803-F521680361D7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B8A48-A4AB-4827-8725-93398CF24C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24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5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9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5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2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Daren Campbell x-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0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1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009-5A32-4536-9030-8FF0198069E5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C7049-583D-4AC4-84D1-770BFE478A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30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1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6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0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y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9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0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1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Cor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ew Jersey  08810-15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355-1560…Ray Gabri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0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5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2744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3B9-5A6C-4CBD-A24E-3FB225A6C3CF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7C76D-94D4-4E8A-8C7B-B16479DF92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k Grove, Illinois (clos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3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k Gr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2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1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6" name=""/>
          <p:cNvSpPr/>
          <p:nvPr/>
        </p:nvSpPr>
        <p:spPr>
          <a:xfrm>
            <a:off x="2069640" y="3062160"/>
            <a:ext cx="1055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6059 (T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k Gro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2" name=""/>
          <p:cNvSpPr/>
          <p:nvPr/>
        </p:nvSpPr>
        <p:spPr>
          <a:xfrm>
            <a:off x="171360" y="190440"/>
            <a:ext cx="247644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3" name=""/>
          <p:cNvSpPr/>
          <p:nvPr/>
        </p:nvSpPr>
        <p:spPr>
          <a:xfrm>
            <a:off x="237240" y="216000"/>
            <a:ext cx="2294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Gaylo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  60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72-2710…Sandra Co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740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9423…router cons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8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9" name=""/>
          <p:cNvSpPr/>
          <p:nvPr/>
        </p:nvSpPr>
        <p:spPr>
          <a:xfrm>
            <a:off x="20260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3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0" name=""/>
          <p:cNvSpPr/>
          <p:nvPr/>
        </p:nvSpPr>
        <p:spPr>
          <a:xfrm>
            <a:off x="6553080" y="59364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Aurora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Wayn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1" name=""/>
          <p:cNvSpPr/>
          <p:nvPr/>
        </p:nvSpPr>
        <p:spPr>
          <a:xfrm>
            <a:off x="6553080" y="5335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7D9-B287-4BB1-8A00-22D015FCCCF2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4C4A1-5356-4D90-9367-873419D40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lingto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4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39920" y="511344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101680" y="42958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1599840" y="44197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52360" y="216000"/>
            <a:ext cx="2338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40 West I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exas  76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7) 483-4299…Billie Mow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866040" y="24685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037280" y="5969160"/>
            <a:ext cx="118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78296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7738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9051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A7C-1B0C-4FDC-8FCB-45BB5479D51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FE83A-9ECE-4CA5-9088-134D8C1B9F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dalg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41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5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0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1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4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6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7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9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0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5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3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6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7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8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9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la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3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6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4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immy Santo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2 High-Low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  785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7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9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5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6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7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8" name=""/>
          <p:cNvSpPr/>
          <p:nvPr/>
        </p:nvSpPr>
        <p:spPr>
          <a:xfrm>
            <a:off x="5181480" y="974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circuit to canc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9" name=""/>
          <p:cNvSpPr/>
          <p:nvPr/>
        </p:nvSpPr>
        <p:spPr>
          <a:xfrm>
            <a:off x="518148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17E-0985-4ABB-A35B-A92BF35FBAFA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2D17C-0C24-4005-8767-14CA38673E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land, Florida (closing April 18th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48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518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9" name=""/>
          <p:cNvSpPr/>
          <p:nvPr/>
        </p:nvSpPr>
        <p:spPr>
          <a:xfrm>
            <a:off x="171360" y="19044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0" name=""/>
          <p:cNvSpPr/>
          <p:nvPr/>
        </p:nvSpPr>
        <p:spPr>
          <a:xfrm>
            <a:off x="190440" y="216000"/>
            <a:ext cx="201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18 Water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orida  33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667-2032…Al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1" name=""/>
          <p:cNvSpPr/>
          <p:nvPr/>
        </p:nvSpPr>
        <p:spPr>
          <a:xfrm>
            <a:off x="7999200" y="6526080"/>
            <a:ext cx="848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2" name=""/>
          <p:cNvSpPr/>
          <p:nvPr/>
        </p:nvSpPr>
        <p:spPr>
          <a:xfrm>
            <a:off x="475200" y="5189400"/>
            <a:ext cx="95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8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9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A28-F3A9-4B4A-8079-7946E5FE9BEC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32003-9C60-45F6-A29A-3D2DE5615B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s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54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s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1 Las Positias 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7434…Valerie Goh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8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7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8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D26-A63C-4C45-BA21-E74C9C851EB9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2939E-0AA4-41F9-96AE-D5D45DE51D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61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1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2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3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s I &amp; 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902 Patterson Pass Roa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5130…Dennis Duflo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12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6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7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F66-25B5-4154-86DA-574F77E7B14D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0D19A-EA5F-4671-B0B9-FE8129D052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---OL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6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3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8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9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5B7-3EE5-4209-A793-0F4FB5D3064B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33DE2-E67A-40AB-8EFA-155CD0755A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 Pocono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7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547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1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 Poco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2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3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us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  183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839-6233…Basil Barbac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 Poc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5" name=""/>
          <p:cNvSpPr/>
          <p:nvPr/>
        </p:nvSpPr>
        <p:spPr>
          <a:xfrm>
            <a:off x="6591240" y="914400"/>
            <a:ext cx="170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ing February 6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6" name=""/>
          <p:cNvSpPr/>
          <p:nvPr/>
        </p:nvSpPr>
        <p:spPr>
          <a:xfrm>
            <a:off x="6400800" y="83808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CF4-5DE3-4339-A8DA-F3753990F04E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F2E98-0B56-4EED-8CC7-8A3D6F11BB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 (old 56k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0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801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2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3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4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5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6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7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8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1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7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9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9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4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5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0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1" name=""/>
          <p:cNvSpPr/>
          <p:nvPr/>
        </p:nvSpPr>
        <p:spPr>
          <a:xfrm>
            <a:off x="188640" y="216000"/>
            <a:ext cx="225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eie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2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5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4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5" name=""/>
          <p:cNvSpPr/>
          <p:nvPr/>
        </p:nvSpPr>
        <p:spPr>
          <a:xfrm>
            <a:off x="6550200" y="1066680"/>
            <a:ext cx="175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56k Cancel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6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FFB-63A9-4924-91CE-1FE88CCD555C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53D09-756C-4030-B5B6-105E51D331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8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0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c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5" name=""/>
          <p:cNvSpPr/>
          <p:nvPr/>
        </p:nvSpPr>
        <p:spPr>
          <a:xfrm>
            <a:off x="466560" y="5113440"/>
            <a:ext cx="99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LACENT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36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cent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7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8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1 Kimberl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72-1210…Irene Lockh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5C3-60D6-413A-B03F-25A6DD81773E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98D9F-3F72-470C-9645-2FF5000831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 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65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4" name=""/>
          <p:cNvSpPr/>
          <p:nvPr/>
        </p:nvSpPr>
        <p:spPr>
          <a:xfrm>
            <a:off x="171360" y="19044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5" name=""/>
          <p:cNvSpPr/>
          <p:nvPr/>
        </p:nvSpPr>
        <p:spPr>
          <a:xfrm>
            <a:off x="188640" y="216000"/>
            <a:ext cx="23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x-33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6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7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8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E82-DD8F-456F-980C-423B3C645A8A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8EE1D-2654-4951-AA77-5C1F486797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gate, California (cancelled on 4/01/20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9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5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1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2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301 S. Gar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lifornia  90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952-8800…Bill Thompson x-88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1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39A-1740-4786-8DEA-258C05D0EBB9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775B3-F430-4FED-9710-9DEF45B648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hens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9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0016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8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the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89000" y="216000"/>
            <a:ext cx="249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5 Athen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a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eorgia  306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6) 546-9005…Ben Alexenberg x-3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8152560" y="6526080"/>
            <a:ext cx="701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0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87C-D474-4699-AB5E-4703459EA8D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8E607-5AFF-41C0-AE26-CA94943AC8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05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5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1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1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2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3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4" name=""/>
          <p:cNvSpPr/>
          <p:nvPr/>
        </p:nvSpPr>
        <p:spPr>
          <a:xfrm>
            <a:off x="1905120" y="32767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721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7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 flipH="1">
            <a:off x="1218960" y="426708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9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0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1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2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3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4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6" name=""/>
          <p:cNvSpPr/>
          <p:nvPr/>
        </p:nvSpPr>
        <p:spPr>
          <a:xfrm flipH="1">
            <a:off x="7162560" y="487692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8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9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7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C92-944C-4A0E-9AAE-6F951B41F5FE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2C528-390C-424A-A6B4-E382D47FE6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Michigan (Sekuri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2" name=""/>
          <p:cNvSpPr/>
          <p:nvPr/>
        </p:nvSpPr>
        <p:spPr>
          <a:xfrm>
            <a:off x="7391520" y="650700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Sekur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3" name=""/>
          <p:cNvSpPr/>
          <p:nvPr/>
        </p:nvSpPr>
        <p:spPr>
          <a:xfrm>
            <a:off x="171360" y="190440"/>
            <a:ext cx="272412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kurit Saint-Gobain USA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1 West Big Beaver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chigan  480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816-0060…Ed D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7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9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2" name=""/>
          <p:cNvSpPr/>
          <p:nvPr/>
        </p:nvSpPr>
        <p:spPr>
          <a:xfrm>
            <a:off x="1301760" y="249408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3" name=""/>
          <p:cNvSpPr/>
          <p:nvPr/>
        </p:nvSpPr>
        <p:spPr>
          <a:xfrm>
            <a:off x="1249200" y="248760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5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6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7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8" name=""/>
          <p:cNvSpPr/>
          <p:nvPr/>
        </p:nvSpPr>
        <p:spPr>
          <a:xfrm>
            <a:off x="5562720" y="2868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9" name=""/>
          <p:cNvSpPr/>
          <p:nvPr/>
        </p:nvSpPr>
        <p:spPr>
          <a:xfrm flipV="1">
            <a:off x="76201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0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1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0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1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2" name=""/>
          <p:cNvSpPr/>
          <p:nvPr/>
        </p:nvSpPr>
        <p:spPr>
          <a:xfrm>
            <a:off x="6281640" y="4495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3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4" name=""/>
          <p:cNvSpPr/>
          <p:nvPr/>
        </p:nvSpPr>
        <p:spPr>
          <a:xfrm>
            <a:off x="4935600" y="273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2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3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4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5" name=""/>
          <p:cNvSpPr/>
          <p:nvPr/>
        </p:nvSpPr>
        <p:spPr>
          <a:xfrm>
            <a:off x="2209680" y="5103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7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8" name=""/>
          <p:cNvSpPr/>
          <p:nvPr/>
        </p:nvSpPr>
        <p:spPr>
          <a:xfrm>
            <a:off x="2043360" y="265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0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9" name=""/>
          <p:cNvSpPr/>
          <p:nvPr/>
        </p:nvSpPr>
        <p:spPr>
          <a:xfrm>
            <a:off x="5867280" y="26049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0" name=""/>
          <p:cNvSpPr/>
          <p:nvPr/>
        </p:nvSpPr>
        <p:spPr>
          <a:xfrm>
            <a:off x="5715000" y="28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615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60" name=""/>
          <p:cNvSpPr/>
          <p:nvPr/>
        </p:nvSpPr>
        <p:spPr>
          <a:xfrm>
            <a:off x="35053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1" name=""/>
          <p:cNvSpPr/>
          <p:nvPr/>
        </p:nvSpPr>
        <p:spPr>
          <a:xfrm>
            <a:off x="391356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2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3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320-97D3-4134-BD21-080521F6B20B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EDF38-F9C3-4716-B8A0-5BCAA47642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6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16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9236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3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4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5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6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3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4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6C3-1A5F-41FA-9763-BA4724881071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E27A5-5756-4BA6-A4EE-DC949D680C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xom, Michigan (Fashon Wal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2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22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x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X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0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xo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5" name=""/>
          <p:cNvSpPr/>
          <p:nvPr/>
        </p:nvSpPr>
        <p:spPr>
          <a:xfrm>
            <a:off x="228600" y="152280"/>
            <a:ext cx="262908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6" name=""/>
          <p:cNvSpPr/>
          <p:nvPr/>
        </p:nvSpPr>
        <p:spPr>
          <a:xfrm>
            <a:off x="239760" y="249120"/>
            <a:ext cx="2655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shon 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755 Bec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chig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960-9300…Lynn Lindquist x-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449-7266…Lynn Lindquist (hom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4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5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4B7-C552-4903-8524-41CEEB755140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94409-E6D8-406D-B415-E1A12994DD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8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U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bu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153640" y="6526080"/>
            <a:ext cx="72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71360" y="190440"/>
            <a:ext cx="29336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90440" y="216000"/>
            <a:ext cx="3009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n, Washington 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 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12976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8226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100960" y="32767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3345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8FC-640A-42E0-9DA0-9E68765C5B4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34278-0412-40FF-864A-65E3D72452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shington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55200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009560" y="19810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400800" y="42670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400800" y="42670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34120" y="5486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523880" y="1371600"/>
            <a:ext cx="1523520" cy="990000"/>
            <a:chOff x="1523880" y="1371600"/>
            <a:chExt cx="1523520" cy="990000"/>
          </a:xfrm>
        </p:grpSpPr>
        <p:sp>
          <p:nvSpPr>
            <p:cNvPr id="1938" name=""/>
            <p:cNvSpPr/>
            <p:nvPr/>
          </p:nvSpPr>
          <p:spPr>
            <a:xfrm>
              <a:off x="2328840" y="1434240"/>
              <a:ext cx="324000" cy="26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523880" y="1449720"/>
              <a:ext cx="418320" cy="28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906920" y="1371600"/>
              <a:ext cx="420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42600" y="1715040"/>
              <a:ext cx="42048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72640" y="1937880"/>
              <a:ext cx="41796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136600" y="2074320"/>
              <a:ext cx="419760" cy="28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38360" y="1955880"/>
              <a:ext cx="41904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584800" y="1562400"/>
              <a:ext cx="462600" cy="40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6" name=""/>
          <p:cNvSpPr/>
          <p:nvPr/>
        </p:nvSpPr>
        <p:spPr>
          <a:xfrm>
            <a:off x="7009560" y="39625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5009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0095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715000" y="457200"/>
            <a:ext cx="7621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095880" y="990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793120" y="5335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560920" y="190512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tran T-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093360" y="11430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048120" y="1752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047040" y="18288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828080" y="160020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&amp;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80880" y="5257800"/>
            <a:ext cx="3733920" cy="485640"/>
            <a:chOff x="380880" y="5257800"/>
            <a:chExt cx="3733920" cy="485640"/>
          </a:xfrm>
        </p:grpSpPr>
        <p:sp>
          <p:nvSpPr>
            <p:cNvPr id="1961" name=""/>
            <p:cNvSpPr/>
            <p:nvPr/>
          </p:nvSpPr>
          <p:spPr>
            <a:xfrm>
              <a:off x="2590920" y="5500800"/>
              <a:ext cx="15238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bur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523880" y="55008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.18.128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0880" y="55008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98.1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90920" y="5257800"/>
              <a:ext cx="1523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523880" y="52578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0880" y="52578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0880" y="525780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80880" y="5500800"/>
              <a:ext cx="373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0880" y="574344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088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2388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59092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1148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90684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273-B7D7-4E15-9191-464234D01C8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24E10-6AF5-4118-9234-5973E3465219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(SGPP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3505320" y="1754280"/>
            <a:ext cx="2133000" cy="3503160"/>
            <a:chOff x="3505320" y="1754280"/>
            <a:chExt cx="2133000" cy="3503160"/>
          </a:xfrm>
        </p:grpSpPr>
        <p:sp>
          <p:nvSpPr>
            <p:cNvPr id="1983" name=""/>
            <p:cNvSpPr/>
            <p:nvPr/>
          </p:nvSpPr>
          <p:spPr>
            <a:xfrm>
              <a:off x="463212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505320" y="2036880"/>
              <a:ext cx="586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040280" y="1754280"/>
              <a:ext cx="590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53052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49840" y="3756960"/>
              <a:ext cx="587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362480" y="4242240"/>
              <a:ext cx="587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923360" y="3819960"/>
              <a:ext cx="586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98960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05080" y="5113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16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225440" y="3048120"/>
            <a:ext cx="75564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98108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210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82236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5622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94056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7390800" y="594360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8578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638680" y="32767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7550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391040" y="3184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78487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722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0199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1366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3CB-B116-4F9D-9939-3D70178FCD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AF7DB-F0A0-4A71-923A-0DA79F8C5E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13800" y="320040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CHANDL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0120" y="335268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35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06640" y="190512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81040" y="1371600"/>
            <a:ext cx="121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3809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09720" y="342900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13800" y="380988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0120" y="4565520"/>
          <a:ext cx="24120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56552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850160" y="4405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29640" y="44053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0120" y="51436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5143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 flipH="1">
            <a:off x="5257800" y="52196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50160" y="4983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0360" y="49831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562360" y="4648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203-A830-432B-9D9B-CA1B761865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F2B59-DA36-4FC0-9D17-E230970208D1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2029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7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099160" y="5592600"/>
            <a:ext cx="685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476000" y="220176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94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999800" y="2438280"/>
            <a:ext cx="1824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kron (DLCI 2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824840" y="3786120"/>
            <a:ext cx="200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venna (DLCI 2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247400" y="3328920"/>
            <a:ext cx="2577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k Grove (DLCI 20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227960" y="2887560"/>
            <a:ext cx="2597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373760" y="3557520"/>
            <a:ext cx="24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ville (DLCI 1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621080" y="4479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195560" y="3108240"/>
            <a:ext cx="26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dgewater (DLCI 6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853640" y="4251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697040" y="4022640"/>
            <a:ext cx="2111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gboro (DLCI 9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E11-40CB-4C81-8FA1-E3D378BA8D8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4C691-AC8A-4FF3-A639-482D5D07AFF2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06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9624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ve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519 US Route 250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io  44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Tom Gwynn x-2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Jeff Kendra x-2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848720" y="6526080"/>
            <a:ext cx="1012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0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9F5-09C9-4145-B7AF-06C72656178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E8BAE-26FB-41A5-B942-2BE0945E02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verton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12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v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1106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7031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av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71360" y="190440"/>
            <a:ext cx="201924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52360" y="216000"/>
            <a:ext cx="1957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  486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9533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8221…Rick La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0944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7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F07-7911-4720-98C0-BB3600540F8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7613B-7ED8-4B10-B2A4-268192519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sen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733392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181480" y="23623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794340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453360" y="787320"/>
            <a:ext cx="83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980680" y="1676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6858000" y="15998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389720" y="787320"/>
            <a:ext cx="937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889400" y="167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7848720" y="15998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467480" y="1150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477120" y="1149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65680" y="216000"/>
            <a:ext cx="220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4 O’Leary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linois  60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0) 238-3300 x-215…Doug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s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477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412960" y="32767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84872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19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3584880" y="129528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4197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447440" y="22096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1752480" y="22860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463920" y="2149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7432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33720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0) 595-4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40600" y="27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884960" y="2741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752480" y="22860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110680" y="20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13080" y="5256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502920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90764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447440" y="36100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05520" y="37339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1055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332040" y="5927760"/>
            <a:ext cx="105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96844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685800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060280" y="2286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492160" y="26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460120" y="2819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477760" y="3533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463000" y="37479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92160" y="213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66240" y="2333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737080" y="49356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30-350-2971- / 630-350-48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1337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278-1394-4703-93FC-86270561F1A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D182C-9F53-425C-A00D-A1CC6AFEE2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rmingham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26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irmingha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27 Eri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abama  35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5) 785-1145…Don Fitts x-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rming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97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36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213000" y="489276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137040" y="4876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921480" y="4968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071-E1A8-4888-BF6E-55A40A7F09F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91C3C-F994-4A08-927A-166DDC60D3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omington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31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83960" y="5103720"/>
            <a:ext cx="118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LOOM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2.18.20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oo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9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5 East 78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  554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2) 703-5620…Tim Mc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AAD-D5CD-4358-9A9F-D1F77747FA1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3489F-0B3A-46C6-8ECA-74528BAF3F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ue Bel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31840" y="5149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 flipV="1">
            <a:off x="5560920" y="152388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5549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425920" y="1981080"/>
            <a:ext cx="2498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7924680" y="198108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4716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V="1">
            <a:off x="792468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950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799160" y="18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761760" y="2023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076480" y="51814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 flipV="1">
            <a:off x="19047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190512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301760" y="2368440"/>
            <a:ext cx="5968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376640" y="24382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52360" y="216000"/>
            <a:ext cx="2262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0 Union Meeting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ennsylvania  1942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6253…Ken Lew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ue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637240" y="17524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484960" y="19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386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0170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882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986480" y="2604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65646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167652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84120" y="365760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94120" y="304812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425920" y="2590920"/>
            <a:ext cx="1508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7268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696640" y="265284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799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3200400" y="990720"/>
            <a:ext cx="2284200" cy="3199680"/>
            <a:chOff x="3200400" y="990720"/>
            <a:chExt cx="2284200" cy="3199680"/>
          </a:xfrm>
        </p:grpSpPr>
        <p:sp>
          <p:nvSpPr>
            <p:cNvPr id="2429" name=""/>
            <p:cNvSpPr/>
            <p:nvPr/>
          </p:nvSpPr>
          <p:spPr>
            <a:xfrm>
              <a:off x="4409280" y="1195560"/>
              <a:ext cx="486360" cy="84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200400" y="1249920"/>
              <a:ext cx="627840" cy="93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774960" y="990720"/>
              <a:ext cx="63324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227400" y="2098440"/>
              <a:ext cx="633960" cy="93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71920" y="2820240"/>
              <a:ext cx="627840" cy="9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119480" y="3264480"/>
              <a:ext cx="628560" cy="92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721040" y="2878920"/>
              <a:ext cx="628560" cy="92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790520" y="1609200"/>
              <a:ext cx="694080" cy="13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7" name=""/>
          <p:cNvSpPr/>
          <p:nvPr/>
        </p:nvSpPr>
        <p:spPr>
          <a:xfrm>
            <a:off x="3659760" y="160020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534000" y="52592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712620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69343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92964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9343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98D-0F2B-4185-82EF-1BAF5CCFB97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DD025-C8D7-409C-98BF-5E04112C5B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44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1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2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086600" y="655632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04560" y="518148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55520" y="403848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664848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ass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041-7D88-4AF7-A7E2-53E6118419D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43DED-BE7D-4C87-BAEE-299F5BA500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50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3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03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81680" y="655632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04560" y="522612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648480" y="3429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ehouse 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512-5E9D-4313-90F5-7C1DF4E7C03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FFE4A-DC05-4B63-BFE0-83AE4EDD96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mp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56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y Mi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Holtb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  L6X 2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456-3394…Craig Samu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 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EA8-9C51-4245-BE4D-2530BBD3C4F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47900-A718-47EF-A4F6-E04902342F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2767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12720" y="3276720"/>
            <a:ext cx="77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256/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LOUISVIL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0120" y="34290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04480" y="21477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 (25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86400" y="1614600"/>
            <a:ext cx="85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3962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EP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4120" y="3505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5600" y="39625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620120" y="41227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22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 flipH="1">
            <a:off x="5334120" y="41911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14520" y="46483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0120" y="48085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808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H="1">
            <a:off x="5257800" y="48848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50160" y="4648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E7B-58B2-41FC-AF43-BECD0D1A095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1DA83-09B7-4BD0-9FF1-57A6679C23F9}" type="datetime1">
              <a:rPr lang="en-US"/>
              <a:t>07/30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sto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3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24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2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9444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510960" y="15224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485080" y="481500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215-788-6940 / 215-788-74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6196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026080" y="28051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71360" y="190440"/>
            <a:ext cx="27241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28600" y="216000"/>
            <a:ext cx="2666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Whar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ennsylvania  19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Walt Baumbach x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Ed Lusher x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924680" y="655488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st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290052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5) 781-94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600624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94180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B4D-F494-4B94-AC06-B19BD68140A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0BE8B-C67C-451D-86DB-F13D521843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ns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96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4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18320" y="32767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499800" y="44956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3913560" y="21337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8864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542-2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150280" y="2577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116800" y="2806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225440" y="2411280"/>
            <a:ext cx="75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1600200" y="1954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1297080" y="1573200"/>
            <a:ext cx="59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1201680" y="2514600"/>
            <a:ext cx="7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op/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19240" y="209520"/>
            <a:ext cx="24285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72160" y="236520"/>
            <a:ext cx="237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5 Morningsid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 78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41-5285…Luis Morrison x-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847280" y="650880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n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03920" y="3884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1981080" y="28195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580000" y="2590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95288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6091560" y="2362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189560" y="53352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477840" y="15224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7620120" y="13712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252180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56-982-2274 / 956-982-2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9F6-3999-48D9-9511-A3E72C4A87F9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D1C3F-0E46-42E9-8B3F-11D629A4BA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unswick, Ma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7" name=""/>
          <p:cNvGrpSpPr/>
          <p:nvPr/>
        </p:nvGrpSpPr>
        <p:grpSpPr>
          <a:xfrm>
            <a:off x="3962520" y="990720"/>
            <a:ext cx="1904400" cy="3503160"/>
            <a:chOff x="3962520" y="990720"/>
            <a:chExt cx="1904400" cy="3503160"/>
          </a:xfrm>
        </p:grpSpPr>
        <p:sp>
          <p:nvSpPr>
            <p:cNvPr id="2768" name=""/>
            <p:cNvSpPr/>
            <p:nvPr/>
          </p:nvSpPr>
          <p:spPr>
            <a:xfrm>
              <a:off x="4968360" y="1214640"/>
              <a:ext cx="40644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962520" y="1273320"/>
              <a:ext cx="523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439880" y="990720"/>
              <a:ext cx="52668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98484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269960" y="2993400"/>
              <a:ext cx="52416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727520" y="3478680"/>
              <a:ext cx="524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228640" y="3056400"/>
              <a:ext cx="523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287680" y="1666800"/>
              <a:ext cx="57924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29480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02920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02920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418160" y="787320"/>
            <a:ext cx="8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81200" y="3579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 flipV="1">
            <a:off x="1752480" y="3429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9974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81200" y="4114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7) 725-5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 flipH="1">
            <a:off x="571464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5714640" y="36576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6204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58804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07-798-6688 / 207-798-66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1722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0199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187320" y="2654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150600" y="290988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unsw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71360" y="171360"/>
            <a:ext cx="234324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39760" y="249120"/>
            <a:ext cx="21985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 Bibber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aine  04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Mark 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Phil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193400" y="25146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066680" y="2514600"/>
            <a:ext cx="13590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1433880" y="291456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1265400" y="312912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1736640" y="2518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765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9907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9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2438280" y="27432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066680" y="3124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066680" y="2895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676-5384-482D-847B-D67B0D04D82A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0940A-15BE-461E-AE17-CB5940E248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ya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36760" y="487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y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71360" y="190440"/>
            <a:ext cx="249552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48400" y="223920"/>
            <a:ext cx="232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Independen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  77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…Mike Roberts x-1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...John Covey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924680" y="655488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y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755000" y="29862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RY99-1680109 (384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98288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168005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131280" y="45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79-691-8673 /  979-691-28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8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2859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200400" y="4146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089160" y="4114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1981080" y="4375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845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9) 775-2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D65-78D2-496A-95E3-EB94FE929DD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D5C8A-21C6-4C90-9B1C-DD8AC514DA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ckhannon, West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89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714240" y="5265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04) 472-04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171360" y="190440"/>
            <a:ext cx="24955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228600" y="228600"/>
            <a:ext cx="2438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way 33 W Route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est Virginia  262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2-400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96…Steve 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6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3370680" y="49528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04-472-8985 /  304-472-89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151720" y="27576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7165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829-4E96-40A9-8618-A0AC78F933E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F21D5-F3CD-4704-AA44-CDBF9D0CB1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96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Joe Pointkowski - 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32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5DF-7A33-443F-8848-FF25109719F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D01EA-6197-40D1-9577-BC4B1642D4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rlington, Wiscons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63-68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15 South McHen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WI  53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) 763-9161…Karen Reily x-37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127440" y="4038480"/>
            <a:ext cx="1100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28600" y="5133960"/>
            <a:ext cx="109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497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0BB-7C02-4530-A742-2EE76BD1FF6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9545F-BD4F-483E-AB59-DB2705BDA1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teret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8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2) 969-38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inue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  07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969-1400…Peter Lens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te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45880" y="4159080"/>
            <a:ext cx="98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380160" y="518004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883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rter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4C0-3F3F-4212-9821-BF9AF7FDB5A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F9173-AE1B-4051-A2E8-8C2637E5B3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dler, Arizo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0" name=""/>
          <p:cNvGrpSpPr/>
          <p:nvPr/>
        </p:nvGrpSpPr>
        <p:grpSpPr>
          <a:xfrm>
            <a:off x="3276720" y="685800"/>
            <a:ext cx="2133000" cy="3885480"/>
            <a:chOff x="3276720" y="685800"/>
            <a:chExt cx="2133000" cy="3885480"/>
          </a:xfrm>
        </p:grpSpPr>
        <p:sp>
          <p:nvSpPr>
            <p:cNvPr id="3141" name=""/>
            <p:cNvSpPr/>
            <p:nvPr/>
          </p:nvSpPr>
          <p:spPr>
            <a:xfrm>
              <a:off x="4403520" y="93384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3276720" y="99900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811680" y="68580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301920" y="203364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621240" y="290664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133880" y="344556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694760" y="297684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761000" y="143568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V="1">
            <a:off x="1600200" y="21337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5334120" y="1905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4665600" y="31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253920" y="609480"/>
            <a:ext cx="123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6858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665600" y="2209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612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612000" y="2971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466560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7533000" y="60948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683240" y="36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6456240" y="589284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908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6858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1755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525744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1600200" y="5029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83196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13716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2460600" y="45100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480) 785-499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1981080" y="487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2457360" y="47102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   480-763-8106 / 480-763-81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8001000" y="1422000"/>
            <a:ext cx="0" cy="93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V="1">
            <a:off x="800100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5257800" y="28195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182880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19051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828800" y="5334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6908040" y="1496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8051040" y="1498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80798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5311440" y="589284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765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53341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446200" y="4952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   480-785-3926 / 480-785-39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2446200" y="5195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   480-785-3946 / 480-785-39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171360" y="171360"/>
            <a:ext cx="24955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145 West Detroi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rizona  852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2) 793-7966…Denni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16765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1676520" y="2147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2355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19051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175248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2446200" y="54244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3   480-785-3958 / 480-785-39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175248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A48-AFD4-4E33-BFF9-17ED2DD83A6F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DB5EF-8EAF-4140-950E-7BB1000251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171360" y="190440"/>
            <a:ext cx="2705040" cy="90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8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3229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7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940040" y="207324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 4228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7923600" y="6508800"/>
            <a:ext cx="98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0" name=""/>
          <p:cNvGrpSpPr/>
          <p:nvPr/>
        </p:nvGrpSpPr>
        <p:grpSpPr>
          <a:xfrm>
            <a:off x="5702400" y="1873080"/>
            <a:ext cx="1120680" cy="959040"/>
            <a:chOff x="5702400" y="1873080"/>
            <a:chExt cx="1120680" cy="959040"/>
          </a:xfrm>
        </p:grpSpPr>
        <p:sp>
          <p:nvSpPr>
            <p:cNvPr id="3241" name=""/>
            <p:cNvSpPr/>
            <p:nvPr/>
          </p:nvSpPr>
          <p:spPr>
            <a:xfrm>
              <a:off x="5739480" y="1940040"/>
              <a:ext cx="1038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1  Multiplex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lot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S0 Channel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&amp;T 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HEC 416516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702400" y="1873080"/>
              <a:ext cx="1120680" cy="95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3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931000" y="5264280"/>
            <a:ext cx="635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1969920" y="5807160"/>
            <a:ext cx="84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845680" y="576432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248520" y="4172040"/>
            <a:ext cx="0" cy="10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44080" y="216000"/>
            <a:ext cx="2625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on and Bar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64 Azale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 29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745-2477…Lee Edenfield (system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554-9550…Bob Nelson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1854360" y="5273640"/>
            <a:ext cx="1110960" cy="43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eron &amp; Bar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B8F-0ACC-4334-BB24-94F88E380497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5681F-BE92-4D95-9340-3400712174AD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7760" y="1309680"/>
            <a:ext cx="69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3736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4118040"/>
            <a:ext cx="121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44989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4879800"/>
            <a:ext cx="1336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9120" y="6110280"/>
            <a:ext cx="81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z Br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24320" y="6099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72400" y="560700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6200" y="6099120"/>
            <a:ext cx="121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5257800"/>
            <a:ext cx="12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6099120"/>
            <a:ext cx="1218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6099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609588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505320" y="1905120"/>
          <a:ext cx="228600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2286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400800" y="59436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371600" y="30481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371600" y="34290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 flipV="1">
            <a:off x="1600200" y="3962520"/>
            <a:ext cx="220968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00200" y="4191120"/>
            <a:ext cx="2286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5943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590920" y="59436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543800" y="41911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543800" y="57150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438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162920" y="594360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62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543800" y="5334120"/>
          <a:ext cx="24120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438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543800" y="4952880"/>
          <a:ext cx="24120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438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7543800" y="4572000"/>
          <a:ext cx="24120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5438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371600" y="228600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716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flipV="1">
            <a:off x="1600200" y="4419360"/>
            <a:ext cx="2286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00200" y="4572000"/>
            <a:ext cx="23623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23880" y="4724280"/>
            <a:ext cx="2514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057400" y="4876560"/>
            <a:ext cx="205740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81280" y="4952880"/>
            <a:ext cx="8384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5029200"/>
            <a:ext cx="6858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952880"/>
            <a:ext cx="12952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200520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04080" y="3192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648320"/>
            <a:ext cx="22860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4419720"/>
            <a:ext cx="228600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4267080"/>
            <a:ext cx="22100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114800"/>
            <a:ext cx="2057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562360" y="3963960"/>
            <a:ext cx="1981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638680" y="3733560"/>
            <a:ext cx="19051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638680" y="3505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543800" y="19051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438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543800" y="228600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5438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7543800" y="304812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5438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371600" y="2666880"/>
          <a:ext cx="241200" cy="986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371600" y="2666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419720" y="1068480"/>
          <a:ext cx="469800" cy="172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419720" y="1068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63360" y="1752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7672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rlington, W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1905120"/>
          <a:ext cx="241200" cy="982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3716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600200" y="35053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543800" y="1523880"/>
          <a:ext cx="24120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7543800" y="1523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600200" y="3124080"/>
            <a:ext cx="19810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9051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409720" y="1600200"/>
            <a:ext cx="21337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562360" y="1981080"/>
            <a:ext cx="19810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638680" y="2362320"/>
            <a:ext cx="1905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638680" y="2743200"/>
            <a:ext cx="190512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38680" y="3124080"/>
            <a:ext cx="1905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12193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599840" y="3733920"/>
            <a:ext cx="2133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485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57440" y="40384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5816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5816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58160" y="51195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5816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62360" y="56530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680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159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6824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68240" y="50436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6824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6824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81680" y="2529000"/>
            <a:ext cx="92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6824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6824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6824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68240" y="1843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68240" y="1461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352680" y="5943600"/>
          <a:ext cx="24156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52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3944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876920" y="5943600"/>
          <a:ext cx="241200" cy="98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876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724280" y="5105520"/>
            <a:ext cx="152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160" y="2133720"/>
            <a:ext cx="128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2743200"/>
            <a:ext cx="19810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MUNC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371600" y="3809880"/>
          <a:ext cx="241200" cy="98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3716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63360" y="3657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360" y="2514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360" y="2895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360" y="4083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2362320"/>
            <a:ext cx="19810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360" y="4464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360" y="4844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60" y="5226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360" y="5607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Monte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0560" y="6064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6095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638680" y="5943600"/>
          <a:ext cx="24156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638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flipH="1">
            <a:off x="4343040" y="510552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343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22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71600" y="49528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3716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371600" y="533412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3716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371600" y="571500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3716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7848720" y="3355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848720" y="2975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2212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48720" y="1832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ss-Mou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543800" y="1143000"/>
          <a:ext cx="241200" cy="982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7543800" y="1143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543800" y="3429000"/>
          <a:ext cx="241200" cy="982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75438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068240" y="1081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1069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114800" y="594360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4114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391520" y="2668680"/>
          <a:ext cx="469800" cy="1728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7391520" y="26686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7848720" y="2593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543800" y="380988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75438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068240" y="3367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58160" y="1766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5816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58160" y="2604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5816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58160" y="32907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5816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19520" y="4952880"/>
            <a:ext cx="1371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30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6824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334120" y="1219320"/>
            <a:ext cx="220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48720" y="1386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6ED-4F59-405E-BF78-B2B961F85E5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2BA47-4A21-4BE9-A24B-3984C5679810}" type="datetime1">
              <a:rPr lang="en-US"/>
              <a:t>07/30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 South Carolin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1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262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0 B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outh Carolina  294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3) 744-7451…Paul Evangelist x-2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014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89F-0B81-411F-B424-E41A0D5037E2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4A90D-DCFF-4FD3-AC2E-74F756CA85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ott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7696080" y="6526080"/>
            <a:ext cx="112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S Warehouse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01-E Southern Pine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orth Carolina  282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521-3241…John Finkbeiner x-17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2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3333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1236600" y="43448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38040" y="36100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1301760" y="26733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1371240" y="2735280"/>
            <a:ext cx="459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V="1">
            <a:off x="1600200" y="35053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 flipV="1">
            <a:off x="1447920" y="32763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1447920" y="3276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1905120" y="3048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104920" y="2833560"/>
            <a:ext cx="110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 SGC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 flipH="1">
            <a:off x="121896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628164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rlot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7221600" y="566424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 flipV="1">
            <a:off x="7391520" y="32767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92524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84748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7793280" y="45990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7162560" y="4038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410-8721-415D-AB97-D0D2BD9E5CD0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156A0-024E-41D7-B607-99D571D926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37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71360" y="171360"/>
            <a:ext cx="226692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228600" y="289080"/>
            <a:ext cx="2133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 W. Fro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ennsylvania  19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874-5222…Ed Co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57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37B-A48F-4424-8DCB-617955294A7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19E08-1364-436D-B78D-62435160ED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field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43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Chesterfield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issouri  63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8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94…Aaron Hopk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7162920" y="655488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151920" y="5226120"/>
            <a:ext cx="119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ESTE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62856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664848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351576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2334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973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2288160" y="2743200"/>
            <a:ext cx="121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 91553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 flipH="1">
            <a:off x="220932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5A4-31C7-468C-BAAA-E05425AE8A06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8F01B-B4C8-4C0A-BAEA-363277A0EE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pawa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1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3502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1958040" y="2522520"/>
            <a:ext cx="116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352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ippaw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974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 flipH="1">
            <a:off x="160020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171360" y="190440"/>
            <a:ext cx="2857680" cy="91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214200" y="326880"/>
            <a:ext cx="2780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 of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1 Dal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  L2G 6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295-4311...Jim Davis x-2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7772400" y="6526080"/>
            <a:ext cx="111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pp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41592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638712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 flipH="1">
            <a:off x="624852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850-7725-4A23-A6E2-49E1ED9CB86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2EADC-52EA-4454-8218-F9D40A3650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5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5112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922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2208600" y="5362560"/>
            <a:ext cx="1111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7331040" y="6526080"/>
            <a:ext cx="1508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93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266760" y="21600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775 Avenue 23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4831…Rick Goddard x-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D81-5F4B-407B-8506-4D0D31FEA9AC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307EA-5F86-469C-83B5-FF0ECBABE3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3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35604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19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7296840" y="6526080"/>
            <a:ext cx="154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tle Distribu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05 Ave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3716…Brenda Ha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1DB-4967-4238-B9F3-1FD615B62BD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53469-141D-4ED3-A9DC-D87A41CFE4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477120" y="6507000"/>
            <a:ext cx="236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(Calm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9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??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7788960" y="4905360"/>
            <a:ext cx="104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1_FR_WOR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5980680" y="306216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818115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774800" y="4205160"/>
            <a:ext cx="587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243120" y="4676760"/>
            <a:ext cx="93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ty of Indust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3923640" y="2590920"/>
            <a:ext cx="1070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I/World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80-96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171360" y="457200"/>
            <a:ext cx="2400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266760" y="48276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633…Suzi Fl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172240" y="304812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19395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E9F-8584-4DEF-93E3-07656418CA6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45DCA-DA12-45E7-9CD1-3468EC3A58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228600" y="152280"/>
            <a:ext cx="2209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228600" y="152280"/>
            <a:ext cx="304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655524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5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541008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376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7008840" y="4038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5748480" y="356544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1066680" y="15238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U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449640" y="47242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4288320" y="4572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5612400" y="45720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9" name=""/>
          <p:cNvGrpSpPr/>
          <p:nvPr/>
        </p:nvGrpSpPr>
        <p:grpSpPr>
          <a:xfrm>
            <a:off x="304920" y="5105520"/>
            <a:ext cx="3276360" cy="728640"/>
            <a:chOff x="304920" y="5105520"/>
            <a:chExt cx="3276360" cy="728640"/>
          </a:xfrm>
        </p:grpSpPr>
        <p:sp>
          <p:nvSpPr>
            <p:cNvPr id="3780" name=""/>
            <p:cNvSpPr/>
            <p:nvPr/>
          </p:nvSpPr>
          <p:spPr>
            <a:xfrm>
              <a:off x="2590920" y="5591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447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04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2.168.10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590920" y="5348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47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304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69.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590920" y="5105520"/>
              <a:ext cx="990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47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04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04920" y="510552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04920" y="5348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04920" y="5591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04920" y="583416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0492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447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590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58128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7" name=""/>
          <p:cNvSpPr/>
          <p:nvPr/>
        </p:nvSpPr>
        <p:spPr>
          <a:xfrm>
            <a:off x="4649400" y="175248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LCI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6EA7-1502-49A5-89C2-50B3F8CDCFE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35CF7-BCDE-4C22-BFD7-7CC1BF5F5003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nton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80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LI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628164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19461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rven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10 South 2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owa  527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9) 242-3554…Randy McBr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7772400" y="647712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06B-1748-4200-B4B2-0284C0BDE127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B4E48-DCD0-4B07-822B-B70BB73B4B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4872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13800" y="25909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7620120" y="2743200"/>
          <a:ext cx="24120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7432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04480" y="129528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79320" y="762120"/>
            <a:ext cx="102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erma-Glas Mes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409720" y="2819520"/>
            <a:ext cx="2210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3144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620120" y="3360600"/>
          <a:ext cx="24120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360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 flipH="1">
            <a:off x="5638680" y="3429000"/>
            <a:ext cx="198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7620120" y="3956040"/>
          <a:ext cx="24120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395604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785016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 Mi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29640" y="37958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20120" y="4572000"/>
          <a:ext cx="24120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45720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785016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29640" y="43736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562360" y="4038480"/>
            <a:ext cx="2057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9720" y="4646520"/>
            <a:ext cx="2210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62480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480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7854840" y="4997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49975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181480" y="5256360"/>
            <a:ext cx="2438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C08-FAA6-4144-85D9-3BD18B01C7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C0525-3F1D-4B3F-98F8-D40CED1E212A}" type="datetime1">
              <a:rPr lang="en-US"/>
              <a:t>07/30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47600" y="200160"/>
            <a:ext cx="2138400" cy="8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193320" y="277920"/>
            <a:ext cx="2003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umbus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8-8980…ask for ti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290-5959…Sean Weish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8" name=""/>
          <p:cNvGrpSpPr/>
          <p:nvPr/>
        </p:nvGrpSpPr>
        <p:grpSpPr>
          <a:xfrm>
            <a:off x="606600" y="1754280"/>
            <a:ext cx="1683720" cy="3808080"/>
            <a:chOff x="606600" y="1754280"/>
            <a:chExt cx="1683720" cy="3808080"/>
          </a:xfrm>
        </p:grpSpPr>
        <p:sp>
          <p:nvSpPr>
            <p:cNvPr id="3879" name=""/>
            <p:cNvSpPr/>
            <p:nvPr/>
          </p:nvSpPr>
          <p:spPr>
            <a:xfrm>
              <a:off x="1495080" y="1998720"/>
              <a:ext cx="361800" cy="10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6"/>
                  </a:moveTo>
                  <a:arcTo wR="10800" hR="10800" stAng="-9959550" swAng="11218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6"/>
                  </a:moveTo>
                  <a:arcTo wR="10800" hR="10800" stAng="-9959550" swAng="112180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06600" y="2060640"/>
              <a:ext cx="462600" cy="111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9" y="20715"/>
                  </a:moveTo>
                  <a:arcTo wR="10800" hR="10800" stAng="6801294" swAng="12446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9" y="20715"/>
                  </a:moveTo>
                  <a:arcTo wR="10800" hR="10800" stAng="6801294" swAng="12446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030320" y="1754280"/>
              <a:ext cx="464760" cy="110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3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3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627120" y="3072240"/>
              <a:ext cx="465120" cy="11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0" y="21206"/>
                  </a:moveTo>
                  <a:arcTo wR="10800" hR="10800" stAng="4468583" swAng="10158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0" y="21206"/>
                  </a:moveTo>
                  <a:arcTo wR="10800" hR="10800" stAng="4468583" swAng="101583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879480" y="3933720"/>
              <a:ext cx="462600" cy="110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7" y="17428"/>
                  </a:moveTo>
                  <a:arcTo wR="10800" hR="10800" stAng="2271602" swAng="106272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7" y="17428"/>
                  </a:moveTo>
                  <a:arcTo wR="10800" hR="10800" stAng="2271602" swAng="106272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1282680" y="4457880"/>
              <a:ext cx="464760" cy="110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5" y="5673"/>
                  </a:moveTo>
                  <a:arcTo wR="10800" hR="10800" stAng="-1700484" swAng="1304116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5" y="5673"/>
                  </a:moveTo>
                  <a:arcTo wR="10800" hR="10800" stAng="-1700484" swAng="1304116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726560" y="4000320"/>
              <a:ext cx="462240" cy="110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6" y="413"/>
                  </a:moveTo>
                  <a:arcTo wR="10800" hR="10800" stAng="-4446805" swAng="13754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6" y="413"/>
                  </a:moveTo>
                  <a:arcTo wR="10800" hR="10800" stAng="-4446805" swAng="137541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778040" y="2486160"/>
              <a:ext cx="51228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7" y="3051"/>
                  </a:moveTo>
                  <a:arcTo wR="10800" hR="10800" stAng="-8049279" swAng="1347056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7" y="3051"/>
                  </a:moveTo>
                  <a:arcTo wR="10800" hR="10800" stAng="-8049279" swAng="1347056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7" name=""/>
          <p:cNvSpPr/>
          <p:nvPr/>
        </p:nvSpPr>
        <p:spPr>
          <a:xfrm>
            <a:off x="1056960" y="3510000"/>
            <a:ext cx="911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2360" y="23684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3321000" y="2630520"/>
            <a:ext cx="52092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 flipH="1">
            <a:off x="2286000" y="28954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3316320" y="3306600"/>
            <a:ext cx="5205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 flipH="1">
            <a:off x="22860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2747880" y="4219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325680" y="43498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 flipH="1" flipV="1">
            <a:off x="2133360" y="480060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2360" y="41972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3809880" y="4572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089840" y="4773600"/>
            <a:ext cx="89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070760" y="300348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3325680" y="50356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 flipH="1" flipV="1">
            <a:off x="2133360" y="426672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2747880" y="49053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2747880" y="3305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2747880" y="26956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3809880" y="52578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H="1"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H="1">
            <a:off x="6705720" y="3124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3200400" y="1523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3809880" y="35053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380988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324480" y="1371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962520" y="17524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324480" y="1600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324480" y="1905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7070760" y="160020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6705720" y="1720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flipV="1">
            <a:off x="2133720" y="175248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443-A8D3-410E-AC1D-076B6980D2E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BADC5-6AFF-4D58-8584-CF8322A641D9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vington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7315200" y="655488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v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417600" y="511344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OV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58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120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v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GD G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41 Technology Drive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eorgia  30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385-3824…Larry Bow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98C-4337-4892-BF7B-35B427AF600E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ED0BE-1381-4D82-AC1C-1C004D8863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Airve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9" name=""/>
          <p:cNvGrpSpPr/>
          <p:nvPr/>
        </p:nvGrpSpPr>
        <p:grpSpPr>
          <a:xfrm>
            <a:off x="3278160" y="1066680"/>
            <a:ext cx="2284200" cy="3732120"/>
            <a:chOff x="3278160" y="1066680"/>
            <a:chExt cx="2284200" cy="3732120"/>
          </a:xfrm>
        </p:grpSpPr>
        <p:sp>
          <p:nvSpPr>
            <p:cNvPr id="3980" name=""/>
            <p:cNvSpPr/>
            <p:nvPr/>
          </p:nvSpPr>
          <p:spPr>
            <a:xfrm>
              <a:off x="4485960" y="130500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278160" y="136692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852720" y="106668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3305160" y="236124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649680" y="319968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4197240" y="371736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4798800" y="326772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4868280" y="178740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177156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 flipH="1" flipV="1">
            <a:off x="5790960" y="34286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5334120" y="35053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 flipV="1">
            <a:off x="7848720" y="35053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5635080" y="3290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5571720" y="35193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7943760" y="4572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4782960" y="3367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7573680" y="635040"/>
            <a:ext cx="570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943760" y="1523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 flipV="1">
            <a:off x="7848720" y="1447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478296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5486400" y="29718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55260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205344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25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5410080" y="40384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478296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6642000" y="5816520"/>
            <a:ext cx="6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 flipV="1">
            <a:off x="6934320" y="403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5946840" y="4570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53676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3346920" y="472428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0 West Comme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4) 589-7221…June 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7010280" y="650700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Venti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A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5625000" y="382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5625000" y="27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1756080" y="3733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530760" y="635040"/>
            <a:ext cx="83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5642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5889960" y="1523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 flipV="1">
            <a:off x="6934320" y="1447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48006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5642280" y="22240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5562720" y="2438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20419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315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527-41A7-4B32-9932-ADFD166CC0D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0FE8E-0B44-40FD-9141-1D199917E5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0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00 Monfort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35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661-1406…Laura Bache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7238880" y="6526080"/>
            <a:ext cx="162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3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824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40B-E8A9-4406-8F00-048CA5D612E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B6221-B739-4BB1-B8B9-618BC459E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awar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11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73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10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7696080" y="650700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171360" y="171360"/>
            <a:ext cx="232272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6 Pittsburgh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io  43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63-1086…Tara Ku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376200" y="5226120"/>
            <a:ext cx="99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ELA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lawa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62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759-20B8-4718-8292-0951C15363D2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49C9D-A7E9-4EA9-8E6C-32C60BE749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ver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16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171360" y="171360"/>
            <a:ext cx="21909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695 E. 39th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lorado  802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3) 576-8433…David Dibl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63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689040" y="5334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F12-A6ED-4915-8961-2CF1874FFC43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18732-BFAD-4674-AAEB-D83930CE6B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lto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23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7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5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171360" y="171360"/>
            <a:ext cx="26481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50 Cottage Grove Avenu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  604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8) 849-1500…Milt Penenger x-3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153000" y="4038480"/>
            <a:ext cx="85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47628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EE0-0654-43DB-A3DB-D8F187468488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58C8E-3FDD-4639-9F6F-4AFE63D8DF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ver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29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171360" y="171360"/>
            <a:ext cx="31813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239760" y="249120"/>
            <a:ext cx="318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Perma Glas-Me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3 West Broadwa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  446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343-4441…Larry Embrey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7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744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3997440" y="51055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85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1E6-FAE1-430D-96B0-41E49667A40A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A4681-D602-4B96-ACBB-2FC9CCD0CB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nkirk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36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351036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68-63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351900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171360" y="171360"/>
            <a:ext cx="24195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4 E. Ce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diana  47336-1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68-7891…Kim Pr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nki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unki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155520" y="3809880"/>
            <a:ext cx="8920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38448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93E-F8BA-4138-949A-E6A2CE8E079C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015D3-FF77-4BCD-9B5B-AD4659D7ED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Monte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4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3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0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0 N. Arde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 Monte, California  91731-18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o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82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235440" y="403848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380880" y="522612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 Mon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A8D-2E6D-443B-B87D-1ED1907DAB72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10FB8-2AF3-4C87-AB7C-426D5DA8BE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9600" y="1690560"/>
            <a:ext cx="122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tructural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ton Comp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1960" y="21477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8720" y="16146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oron Nitr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7594560" y="16765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6765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5029200" y="22860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77600" y="16002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20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icroelectron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7594560" y="2209680"/>
          <a:ext cx="2667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94560" y="2209680"/>
                    <a:ext cx="2667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5029200" y="17524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45640" y="20718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29200" y="1752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DAB-DBA1-418B-B773-82CA9C3E3E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03925-2ECF-4961-8E03-354087E517F3}" type="datetime1">
              <a:rPr lang="en-US"/>
              <a:t>07/30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nis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4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1 N. Kaufman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exas  751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875-9661…Adell Fou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6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875-47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A42-1FA4-40E3-A8FD-6DA05A5ACD24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93C87-189B-4170-AB7E-12C7EE7BE1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od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5562720" y="6526080"/>
            <a:ext cx="325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odus (Ceramics Web Hos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4095360" y="31986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>
            <a:off x="4114800" y="32004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211212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11109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112248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893880" y="31986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97776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6858000" y="3259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eramics/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692460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2112840" y="3429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5008680" y="3429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15796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74674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70545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70866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4046400" y="41148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4114440" y="411300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4046400" y="592776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4113000" y="592596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606168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3720240" y="25909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4216320" y="213192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4157640" y="2133720"/>
            <a:ext cx="838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4551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155160" y="3946680"/>
            <a:ext cx="1421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GC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7559280" y="4038480"/>
            <a:ext cx="15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369520" y="1752480"/>
            <a:ext cx="159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Ex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8" name=""/>
          <p:cNvGraphicFramePr/>
          <p:nvPr/>
        </p:nvGraphicFramePr>
        <p:xfrm>
          <a:off x="4094280" y="1447920"/>
          <a:ext cx="9903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4280" y="1447920"/>
                    <a:ext cx="990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0" name=""/>
          <p:cNvSpPr/>
          <p:nvPr/>
        </p:nvSpPr>
        <p:spPr>
          <a:xfrm>
            <a:off x="4248720" y="1523880"/>
            <a:ext cx="62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45514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893880" y="13698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977760" y="13716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2112840" y="1676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1579680" y="1828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1023120" y="257508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cure      Tu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2932200" y="4038480"/>
            <a:ext cx="108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3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1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2927160" y="6080040"/>
            <a:ext cx="10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25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6552000" y="3657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5195880" y="419112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0-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5180040" y="606420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4-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6858000" y="21319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d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6942240" y="213372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7467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205740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205740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 flipH="1">
            <a:off x="2590560" y="6019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2590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 flipH="1">
            <a:off x="2590560" y="4495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25909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65530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655308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 flipH="1">
            <a:off x="518148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 flipH="1">
            <a:off x="518148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655308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2743200" y="50292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2877480" y="502740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V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4878720" y="4648320"/>
            <a:ext cx="160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Backkup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40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45720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4572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365652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4570920" y="569916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95400" y="152280"/>
            <a:ext cx="280008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171360" y="173160"/>
            <a:ext cx="2648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odus IDC - BO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 Winter Street (corner First A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tham, 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tion:  BO2, cage 607, colo 2, rack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er ID: 069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7) 393-7878…Response Ct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4162320" y="502740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41148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3886200" y="5257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1568160" y="3657600"/>
            <a:ext cx="148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29 (gateway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30 (admin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094-D459-4B2E-BE3E-C49492DF2D36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65A3D-8CC1-40AF-BDF1-80FD17247B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irfiel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95 Fermi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lifornia  94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863-4063…Cindy Stee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2216520" y="24526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0213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228492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51039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380520" y="5256360"/>
            <a:ext cx="94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AI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 flipH="1">
            <a:off x="2209320" y="2666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68508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670500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ai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C4F-02D9-42E0-B1B7-003263869C6C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BA961-5AC1-4FD6-B18B-6D6248FF76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mont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68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00 Stephens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lifornia  945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0) 490-0890…Frank Pickar x-22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203076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522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5019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32068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510-657-4748 / 510--657-48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89D-6351-4BCF-9931-4F6D9E264336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F3DAB-351D-491A-B7AF-AFBE13E3D3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sn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RES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20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s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8146080" y="6526080"/>
            <a:ext cx="69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s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550 South Wi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lifornia  937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265-4200…Shirley N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668-E662-4B97-9509-9E2FF3DAE260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894C9-9F7F-4E33-B1F4-5688CAA59C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. Collins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80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30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53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20 Weic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  805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0) 493-6101…Ken White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t. Colli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305280" y="522612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T_COLL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6EB-F026-477F-938D-AB3C7A931F1F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9FDC0-159C-49C3-A4A3-5A8E265D6D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er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8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ull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171360" y="190440"/>
            <a:ext cx="257184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227160" y="228600"/>
            <a:ext cx="246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nhall Diamon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45 South Acac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 926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Marietta Finney x-2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Doug Wade x-2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54-3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7696080" y="6508800"/>
            <a:ext cx="1189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AAC-6DC8-4DAB-99FE-ED0AC88598A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EBFEE-EF3F-4786-810F-0565AB82C8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ine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784800" y="3732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 flipV="1">
            <a:off x="1600200" y="32763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7642800" y="44942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aine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965-8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e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21456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293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2102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277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171360" y="17136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239760" y="22536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600 Cantre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owery Branch, GA 305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967-3954…Michael Durbin x-2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e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3161520" y="487692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70-844-9305 / 770-844-9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12211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0F8-3FD4-4923-B28C-96518F13BB1A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524FA-3432-4C88-8DF4-DCEB2C5D67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7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1317600" y="3032280"/>
            <a:ext cx="572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672840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171360" y="41904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239760" y="49680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IS Brook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47 West 16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io  441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6) 362-5614…John Karpins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CO (Brook Pa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2123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1295280" y="18288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2819520" y="18288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2331720" y="1676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9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1678320" y="3778200"/>
            <a:ext cx="72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 flipH="1">
            <a:off x="914040" y="464832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1295280" y="54864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1219320" y="54687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>
            <a:off x="16765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6127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47.174.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 flipH="1" flipV="1">
            <a:off x="14475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1219320" y="5029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152-F9D8-4207-87F2-109E69B70369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C32B0-55C2-4611-A5AC-302A924ED8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mon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>
            <a:off x="7277040" y="589284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589680" y="40384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6095880" y="32767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 flipH="1" flipV="1">
            <a:off x="1294920" y="426672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6609600" y="47228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 flipH="1" flipV="1">
            <a:off x="73911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4" name=""/>
          <p:cNvGrpSpPr/>
          <p:nvPr/>
        </p:nvGrpSpPr>
        <p:grpSpPr>
          <a:xfrm>
            <a:off x="3430440" y="2211480"/>
            <a:ext cx="2742840" cy="2055240"/>
            <a:chOff x="3430440" y="2211480"/>
            <a:chExt cx="2742840" cy="2055240"/>
          </a:xfrm>
        </p:grpSpPr>
        <p:sp>
          <p:nvSpPr>
            <p:cNvPr id="5075" name=""/>
            <p:cNvSpPr/>
            <p:nvPr/>
          </p:nvSpPr>
          <p:spPr>
            <a:xfrm>
              <a:off x="4879440" y="2343240"/>
              <a:ext cx="582840" cy="54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" y="8149"/>
                  </a:moveTo>
                  <a:arcTo wR="10800" hR="10800" stAng="-9947431" swAng="11191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" y="8149"/>
                  </a:moveTo>
                  <a:arcTo wR="10800" hR="10800" stAng="-9947431" swAng="111918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430440" y="2378160"/>
              <a:ext cx="75384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03" swAng="12450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03" swAng="12450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4119480" y="2211480"/>
              <a:ext cx="758520" cy="59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15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152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462480" y="2923560"/>
              <a:ext cx="7599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3" y="21189"/>
                  </a:moveTo>
                  <a:arcTo wR="10800" hR="10800" stAng="4448044" swAng="10183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3" y="21189"/>
                  </a:moveTo>
                  <a:arcTo wR="10800" hR="10800" stAng="4448044" swAng="101835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875040" y="3385440"/>
              <a:ext cx="7527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1" y="17462"/>
                  </a:moveTo>
                  <a:arcTo wR="10800" hR="10800" stAng="2285136" swAng="106116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1" y="17462"/>
                  </a:moveTo>
                  <a:arcTo wR="10800" hR="10800" stAng="2285136" swAng="1061168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4533840" y="3670920"/>
              <a:ext cx="753840" cy="59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1" y="5683"/>
                  </a:moveTo>
                  <a:arcTo wR="10800" hR="10800" stAng="-1696707" swAng="13044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1" y="5683"/>
                  </a:moveTo>
                  <a:arcTo wR="10800" hR="10800" stAng="-1696707" swAng="130440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253840" y="3424320"/>
              <a:ext cx="754560" cy="59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173" swAng="137746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173" swAng="137746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339880" y="2610000"/>
              <a:ext cx="833400" cy="84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4" y="3025"/>
                  </a:moveTo>
                  <a:arcTo wR="10800" hR="10800" stAng="-8037025" swAng="1345014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4" y="3025"/>
                  </a:moveTo>
                  <a:arcTo wR="10800" hR="10800" stAng="-8037025" swAng="134501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3" name=""/>
          <p:cNvSpPr/>
          <p:nvPr/>
        </p:nvSpPr>
        <p:spPr>
          <a:xfrm>
            <a:off x="3741840" y="2651040"/>
            <a:ext cx="2354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 XHGL 210664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uble Reporting: 518-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7620120" y="6507000"/>
            <a:ext cx="12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171360" y="190440"/>
            <a:ext cx="23432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Engineered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Wemp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ew York  120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26-3150…Mat Coon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BE5-E799-4799-A01C-AD082F244DA6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D23D8-CCC8-439F-80DB-AB591B8C41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18080" y="1766880"/>
            <a:ext cx="63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434960" y="441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441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4417920" y="2057400"/>
          <a:ext cx="47160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7920" y="2057400"/>
                    <a:ext cx="47160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4648320" y="22096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4400" y="4281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ST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10440" y="42051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06640" y="23763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505320" y="33526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3526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4204080" y="41832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44956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449568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4267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543800" y="44197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44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6915960" y="38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733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7543800" y="38862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3886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6915240" y="466236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7543800" y="49309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914880" y="5119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48720" y="5302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7543800" y="546408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43800" y="54640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0" y="4346640"/>
            <a:ext cx="144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4768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800600" y="21337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69320" y="19191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848720" y="19843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7543800" y="20574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20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J. &amp; O. Plast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24415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7543800" y="25909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25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7543800" y="150984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43800" y="1509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 flipH="1">
            <a:off x="5257800" y="26668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01640" y="237636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69320" y="13716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638680" y="3962520"/>
            <a:ext cx="19051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4724280"/>
            <a:ext cx="19810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4952880"/>
            <a:ext cx="2133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57800" y="2209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00600" y="22096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5780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257800" y="1600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2057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AAD-5CD6-4489-9EB0-75E66E7C4D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E9B97-CBEE-4105-B040-1408B894F094}" type="datetime1">
              <a:rPr lang="en-US"/>
              <a:t>07/30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wood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09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y. 27  &amp; Hwy. 8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kansas  719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0) 356-3423…Butch Cow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70) 356-46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E3B-030A-4C78-BF28-B83723A31FBC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05158-DD29-44A4-B683-030DA82725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 Rapid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1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 flipH="1">
            <a:off x="1219320" y="5638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6296400" y="4676760"/>
            <a:ext cx="87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and Rapi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70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286884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92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901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 Ra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209520" y="244440"/>
            <a:ext cx="23626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a Softwar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460 Corporate Grove Boulevard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  49512-5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974-8558…Kevin Kn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285-3311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 flipV="1">
            <a:off x="423216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4079880" y="464832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4156200" y="4664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ushah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3355200" y="510552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 flipH="1">
            <a:off x="45367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514656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48420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 flipV="1">
            <a:off x="468936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49942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4953960" y="5105520"/>
            <a:ext cx="718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8.224.1.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 flipV="1">
            <a:off x="407988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 flipH="1" flipV="1">
            <a:off x="484164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19051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2209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3962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3657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3429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31240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2514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91F-F51F-44A1-AB76-3C9DEF04E338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85ABE-DDA5-4A6E-8351-BA837AF542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nnell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2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inn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GRINN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20534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306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inn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inyl Build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ustria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owa  50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5) 236-7505…Dave Chizek x-3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>
            <a:off x="200232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5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63D-17F8-4D20-A756-98A334A1227B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E0B13-48DC-47DB-9310-6D6C8CD911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gerstown, Mary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30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gerstow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gerst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0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171360" y="190440"/>
            <a:ext cx="23241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190440" y="216000"/>
            <a:ext cx="2324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or Lane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state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aryland  217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1) 223-7900…Bill Fischer x-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227880" y="5181480"/>
            <a:ext cx="116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AGERS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323-BFDD-4B8C-9C47-782208920516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B0844-7993-4180-BA74-FB6295EE53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536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1961280" y="2522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BYNN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538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171360" y="190440"/>
            <a:ext cx="24764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214560" y="206280"/>
            <a:ext cx="2413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Beach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  L8L 7Y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Devlin x-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John Richards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Spencer x-2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i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6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93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6462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639900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5EE-8326-4E7D-8C0D-C4F912F3A495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D3816-591F-4AC4-BEFD-5FD6CC85E8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mond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43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0 Shef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diana  462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9) 937-2650…Mike Ragsd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D2C-5337-4A37-8C28-BC29609BD2BA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C660A-2BAC-4AAA-BB1E-31069BEF50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nder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550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430-8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421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nder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228600" y="525636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135000" y="4191120"/>
            <a:ext cx="10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Facet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  27536-54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430-3614…Jack Hep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nd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FDD-EC2C-4BD5-86BC-2A85B436FC24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71F43-CE3C-40DD-B504-F22A7D10F6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rmitage, Tennessee - cancelled 4/30/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7543800" y="6507000"/>
            <a:ext cx="12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>
            <a:off x="171360" y="190440"/>
            <a:ext cx="24004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"/>
          <p:cNvSpPr/>
          <p:nvPr/>
        </p:nvSpPr>
        <p:spPr>
          <a:xfrm>
            <a:off x="190440" y="216000"/>
            <a:ext cx="2400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16 Central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ennessee  37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89-2673…Kathy Kr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74-9170…Sandra Bennet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8" name=""/>
          <p:cNvSpPr/>
          <p:nvPr/>
        </p:nvSpPr>
        <p:spPr>
          <a:xfrm>
            <a:off x="2811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"/>
          <p:cNvSpPr/>
          <p:nvPr/>
        </p:nvSpPr>
        <p:spPr>
          <a:xfrm>
            <a:off x="427680" y="511344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RMI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"/>
          <p:cNvSpPr/>
          <p:nvPr/>
        </p:nvSpPr>
        <p:spPr>
          <a:xfrm>
            <a:off x="1301760" y="2590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>
            <a:off x="1375200" y="265284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2043360" y="28335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7009920" y="5936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7296120" y="9507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7666200" y="1447920"/>
            <a:ext cx="1825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9" name=""/>
          <p:cNvGrpSpPr/>
          <p:nvPr/>
        </p:nvGrpSpPr>
        <p:grpSpPr>
          <a:xfrm>
            <a:off x="3354480" y="1677960"/>
            <a:ext cx="2133000" cy="2742840"/>
            <a:chOff x="3354480" y="1677960"/>
            <a:chExt cx="2133000" cy="2742840"/>
          </a:xfrm>
        </p:grpSpPr>
        <p:sp>
          <p:nvSpPr>
            <p:cNvPr id="5600" name=""/>
            <p:cNvSpPr/>
            <p:nvPr/>
          </p:nvSpPr>
          <p:spPr>
            <a:xfrm>
              <a:off x="4480920" y="1852560"/>
              <a:ext cx="455760" cy="72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354480" y="1898640"/>
              <a:ext cx="586440" cy="80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3889440" y="1677960"/>
              <a:ext cx="5900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3379680" y="2628360"/>
              <a:ext cx="589680" cy="79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699000" y="3245760"/>
              <a:ext cx="587520" cy="80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4211640" y="3627000"/>
              <a:ext cx="58716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4773240" y="3293640"/>
              <a:ext cx="587520" cy="79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4838400" y="2206800"/>
              <a:ext cx="649080" cy="11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8" name=""/>
          <p:cNvSpPr/>
          <p:nvPr/>
        </p:nvSpPr>
        <p:spPr>
          <a:xfrm>
            <a:off x="5410080" y="26668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341136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47070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3708360" y="2087640"/>
            <a:ext cx="12002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6210720" y="1676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 flipV="1">
            <a:off x="7620120" y="13716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470700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1905120" y="3048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 flipH="1">
            <a:off x="5334120" y="32004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32400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 flipH="1">
            <a:off x="716256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593964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5878080" y="26668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7772400" y="161460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5867280" y="3186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601596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598536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519-8FA9-4D18-BD3A-00C26D3CA4E1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90C74-382D-4C08-B782-D647AA08ED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point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3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 flipH="1">
            <a:off x="175212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poi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7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8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11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208440" y="244440"/>
            <a:ext cx="231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41 Brev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 272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94…Bob Lodding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84…Brenda Drig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E69-35CA-4A5E-B74E-900231D14EBA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548E4-EED7-47D2-8151-FC2AC46097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9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1339920" y="2895480"/>
            <a:ext cx="52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6515640" y="365616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he 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496332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171360" y="419040"/>
            <a:ext cx="25527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239760" y="49680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ome 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55 Paces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eorgia  30339-40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Kevin Hsiao x-113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network ops x-825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5867280" y="6554880"/>
            <a:ext cx="29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nta (The Home De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202428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.3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1295280" y="182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2895480" y="1828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1830240" y="167652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1656360" y="38098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53352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53352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roduc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9907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116640" y="519588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4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 flipH="1" flipV="1">
            <a:off x="8380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609480" y="50292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10699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5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 flipH="1" flipV="1">
            <a:off x="19047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205740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2212200" y="5195880"/>
            <a:ext cx="83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0.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 flipH="1" flipV="1">
            <a:off x="299052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314316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268596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268596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Tes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160020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1523880" y="54687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anageme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CF1-E96E-4559-A44D-7292CE61AEBF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270AA-2E08-4DA0-AC42-C426296A2C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11680" y="3016080"/>
            <a:ext cx="13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320" y="1981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top, P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240" y="6095880"/>
            <a:ext cx="186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squehoning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320" y="595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 (Molded 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320" y="5653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Molded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81080" y="4797360"/>
          <a:ext cx="241560" cy="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7973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1981080" y="388296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829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1981080" y="4187880"/>
          <a:ext cx="24156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1878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2209680" y="45720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209680" y="4800240"/>
            <a:ext cx="198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6934320" y="44928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4492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6934320" y="571176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711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6934320" y="54072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5407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934320" y="510228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5102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934320" y="479736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4797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 flipV="1">
            <a:off x="2209680" y="4952520"/>
            <a:ext cx="198144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209680" y="5105160"/>
            <a:ext cx="205740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209680" y="5181120"/>
            <a:ext cx="213372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2880" y="5181480"/>
            <a:ext cx="198144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5105520"/>
            <a:ext cx="198144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4952880"/>
            <a:ext cx="182880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5181120" y="4800240"/>
            <a:ext cx="175284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181120" y="4568760"/>
            <a:ext cx="17528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5181120" y="4264200"/>
            <a:ext cx="175284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934320" y="35784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578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4419720" y="295128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9720" y="29512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0" y="457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hens, G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inton, IA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3959280"/>
            <a:ext cx="1905120" cy="30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029200" y="3654360"/>
            <a:ext cx="190512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30481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2209680" y="4264200"/>
            <a:ext cx="19051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23880" y="43736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235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235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983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3400" y="5715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10080" y="57387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097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09720" y="46782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09720" y="38401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9720" y="4419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657600" y="5407200"/>
            <a:ext cx="990720" cy="6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Bay Network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981080" y="4492800"/>
          <a:ext cx="24156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4492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3360" y="4433760"/>
            <a:ext cx="1841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llas, TX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320" y="7761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981080" y="5407200"/>
          <a:ext cx="241560" cy="98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5407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1981080" y="571176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57117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968480" y="601992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6848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7238880" y="56386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centia, C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53341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chmond, V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41148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934320" y="298944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2989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934320" y="3882960"/>
          <a:ext cx="24120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3882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7238880" y="38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co, TX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981080" y="2057400"/>
          <a:ext cx="24156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2057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7238880" y="47242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934320" y="4187880"/>
          <a:ext cx="24120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934320" y="41878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6309720" y="4114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23880" y="38401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9720" y="46782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209680" y="160020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93800" y="5745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097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182120" y="31384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320" y="3824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ffalo, NY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224840" y="59403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oria, IL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981080" y="2362320"/>
          <a:ext cx="24156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2362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76320" y="47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, KS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66880" y="61102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 (S-G Gla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416400" y="5999040"/>
          <a:ext cx="46980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416400" y="599904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4876920" y="5334120"/>
            <a:ext cx="205740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097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38880" y="5029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eoville, IL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981080" y="1752480"/>
          <a:ext cx="24156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17524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2423520" y="2011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320" y="5043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ke Charles, LA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6934320" y="601668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6016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6309720" y="3581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35053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209680" y="14479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209680" y="533376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038480" y="3807000"/>
          <a:ext cx="1219320" cy="17524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038480" y="380700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4204080" y="4332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84960" y="286380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32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105520" y="3959280"/>
            <a:ext cx="182880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29098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Ann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57280" y="268128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06760" y="5715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24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4800600" y="990720"/>
          <a:ext cx="1219320" cy="10666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800600" y="990720"/>
                    <a:ext cx="1219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 flipH="1">
            <a:off x="4724280" y="1981080"/>
            <a:ext cx="60984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998720" y="1139760"/>
          <a:ext cx="241200" cy="98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1998720" y="1139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1998720" y="530280"/>
          <a:ext cx="241200" cy="98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998720" y="530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2209680" y="914400"/>
            <a:ext cx="19051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0968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998720" y="144468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998720" y="1444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6951600" y="206856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951600" y="206856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6934320" y="1461960"/>
          <a:ext cx="241200" cy="9864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934320" y="1461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6951600" y="2678040"/>
          <a:ext cx="241200" cy="9864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951600" y="26780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6951600" y="237348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951600" y="2373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 flipV="1">
            <a:off x="2227320" y="1294920"/>
            <a:ext cx="19810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1371600"/>
            <a:ext cx="990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867280" y="1219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790960" y="91440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714640" y="60948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2209680" y="609480"/>
            <a:ext cx="1524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415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415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41160" y="1066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27360" y="2239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327720" y="10666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277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998720" y="835200"/>
          <a:ext cx="241200" cy="9828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1998720" y="835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7256520" y="26193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nks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256520" y="17049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951600" y="176364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6951600" y="17636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63277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62040" y="1706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320" y="1676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 (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256520" y="231444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320" y="25909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8384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56520" y="20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Tech Ce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67920" y="26812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981080" y="2666880"/>
          <a:ext cx="241560" cy="986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1981080" y="2666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17640" y="29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Unis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48320" y="548640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981080" y="2971800"/>
          <a:ext cx="241560" cy="982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1981080" y="2971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34920" y="2286000"/>
            <a:ext cx="187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Kansas City, MO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238880" y="44337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473800" y="6019920"/>
          <a:ext cx="241200" cy="9828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547380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76320" y="108108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138600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sno (I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56520" y="13860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6934320" y="1157400"/>
          <a:ext cx="241200" cy="9828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6934320" y="11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>
            <a:off x="7256520" y="10810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ggerstown, MD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6934320" y="852480"/>
          <a:ext cx="241200" cy="9828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6934320" y="852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7256520" y="7761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innell, Io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6934320" y="533520"/>
          <a:ext cx="241200" cy="9828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6934320" y="533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7256520" y="457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burn, 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276720" y="990720"/>
          <a:ext cx="1218960" cy="10666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3276720" y="990720"/>
                    <a:ext cx="12189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353592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14800" y="1828800"/>
            <a:ext cx="45720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80024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209680" y="1752120"/>
            <a:ext cx="129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133720" y="190512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133720" y="1904760"/>
            <a:ext cx="167616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393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39360" y="1477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39360" y="2286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9360" y="2514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55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43600" y="1523880"/>
            <a:ext cx="9907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5866920" y="167652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flipV="1">
            <a:off x="5714640" y="1752120"/>
            <a:ext cx="12193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5638320" y="1828800"/>
            <a:ext cx="1295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25920" y="19810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25920" y="17524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25920" y="1523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5C74-B1AA-4B56-8E12-489BDD72DE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D2673-3723-4107-BAC6-C8B7886D17CE}" type="datetime1">
              <a:rPr lang="en-US"/>
              <a:t>07/30/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uston, Texas (cancelled 4/24/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68508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609120" y="492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827880" y="4164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3) 840-89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7848720" y="6507000"/>
            <a:ext cx="99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171360" y="190440"/>
            <a:ext cx="240048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248040" y="223920"/>
            <a:ext cx="2208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20 Wood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9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 770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627-7667…Judy Webb x-6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608…Judy We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815…Rodney Al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768…Tom Po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198612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50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313128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3-843-9094 / 713-843-90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1755000" y="2986200"/>
            <a:ext cx="150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HST00-3203509 (12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579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25C-F155-4DB9-9802-B05F6973AADC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883AD-4CC1-4975-BC40-C72B470BCB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ersvill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4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5825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xtile 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te 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1 Commerce Cent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, North Carolina  280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875-7277…Valerie Jack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275-E37B-48BF-AB43-F6D0CE472C11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6178B-4A0F-4FF6-BF70-4B97BAB00D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s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1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5892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0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2208960" y="5027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 Cap Adki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  35803-97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883-5000 x-224…Scott Jezior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209268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6194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 flipH="1" flipV="1">
            <a:off x="1980720" y="4876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3165480" y="4738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256) 880-94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3165480" y="4495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256) 880-50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8A7-75D2-43CC-BC44-12BE95B9F5DB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08145-E3D3-4DF4-BC80-A148A744AB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anapolis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1" name=""/>
          <p:cNvGrpSpPr/>
          <p:nvPr/>
        </p:nvGrpSpPr>
        <p:grpSpPr>
          <a:xfrm>
            <a:off x="3657600" y="1295280"/>
            <a:ext cx="1905840" cy="2895120"/>
            <a:chOff x="3657600" y="1295280"/>
            <a:chExt cx="1905840" cy="2895120"/>
          </a:xfrm>
        </p:grpSpPr>
        <p:sp>
          <p:nvSpPr>
            <p:cNvPr id="5952" name=""/>
            <p:cNvSpPr/>
            <p:nvPr/>
          </p:nvSpPr>
          <p:spPr>
            <a:xfrm>
              <a:off x="466452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65760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413568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67992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96540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442332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492480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498384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398988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472428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5486400" y="28195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47242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5410080" y="3276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7543800" y="787320"/>
            <a:ext cx="88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37688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38098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3733920" y="4387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2133720" y="4952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 flipH="1" flipV="1">
            <a:off x="2971800" y="49525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57762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>
            <a:off x="57132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171360" y="171360"/>
            <a:ext cx="2552760" cy="135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239760" y="212760"/>
            <a:ext cx="250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P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diana  461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20…Steve Brad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09…Neil Culpe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03-6974…Steve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79-4259…Neil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44197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7) 839-19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3817440" y="4800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17-839-6857 / 317-839-68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312408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312408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17-839-8214 / 317-839-8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3355200" y="5257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249948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247068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57808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575208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106668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10695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1116000" y="254628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>
            <a:off x="165204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1116000" y="2851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172548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1116000" y="3079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142164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140256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2362320" y="2666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 flipV="1">
            <a:off x="144792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BC8-C10C-4114-8B08-73739602346E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79416-3ED1-4794-8E0B-7E9676698F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Quartz Interna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03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Quartz Interna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80 Tris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323-0442…Sharon Hamp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9-15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3365280" y="49672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972) 929-9887 / 972-929-44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187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24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5FF-CDCC-4C30-8D01-5CE09F39A601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E501A-2120-48DE-B831-C27C440933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"/>
          <p:cNvSpPr/>
          <p:nvPr/>
        </p:nvSpPr>
        <p:spPr>
          <a:xfrm>
            <a:off x="7467480" y="6512040"/>
            <a:ext cx="135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22860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213372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5024 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171360" y="399960"/>
            <a:ext cx="24004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231840" y="453960"/>
            <a:ext cx="2282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525 N, MacArthur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5…Barry Deram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3…Wesley 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5715000" y="1066680"/>
            <a:ext cx="288288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5956200" y="11271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8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 flipH="1">
            <a:off x="2057040" y="2743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5880240" y="1828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5880240" y="2133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5880240" y="1371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5880240" y="1523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588024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5880240" y="1981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5410080" y="30481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5410080" y="3336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5410080" y="3489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5638680" y="228600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 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5410080" y="32004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8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0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6141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3988440" y="1812960"/>
            <a:ext cx="11894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1399680" y="2362320"/>
            <a:ext cx="71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36910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213696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3359160" y="495288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2-756-9616 / 972--756-95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33A-FA41-4B18-8CE9-86EBD462AB8B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92CB6-94BC-42EB-9EE1-F16D838588EC}" type="datetime1">
              <a:rPr lang="en-US"/>
              <a:t>07/30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1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457200" y="5181480"/>
            <a:ext cx="96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1_JACK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B7E-E9DB-4AAD-B279-B75D0F6A4999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DEC59-C97D-4250-80E2-0B0FA54216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22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82080" y="4067280"/>
            <a:ext cx="114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4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606816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6934320" y="6526080"/>
            <a:ext cx="19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171360" y="190440"/>
            <a:ext cx="23241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304200" y="5181480"/>
            <a:ext cx="11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TECHC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061-13D5-4812-9227-24F853D03A29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24CB2-DB5D-473C-A179-E67F42F65C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ville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9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280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8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4) 413-56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7238880" y="652608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838080" y="585144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228600" y="52578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JACKSONV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2032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543 Canad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orida  32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4) 757-9600…Jan Mi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CD1-DD94-4E29-A702-5EF0BF7A643A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ADA00-8329-4165-A230-E3486C4337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5" name=""/>
          <p:cNvGrpSpPr/>
          <p:nvPr/>
        </p:nvGrpSpPr>
        <p:grpSpPr>
          <a:xfrm>
            <a:off x="3278160" y="1373040"/>
            <a:ext cx="2284200" cy="3350880"/>
            <a:chOff x="3278160" y="1373040"/>
            <a:chExt cx="2284200" cy="3350880"/>
          </a:xfrm>
        </p:grpSpPr>
        <p:sp>
          <p:nvSpPr>
            <p:cNvPr id="6336" name=""/>
            <p:cNvSpPr/>
            <p:nvPr/>
          </p:nvSpPr>
          <p:spPr>
            <a:xfrm>
              <a:off x="4487040" y="1587600"/>
              <a:ext cx="486360" cy="88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278160" y="1644480"/>
              <a:ext cx="627840" cy="97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852720" y="1373040"/>
              <a:ext cx="633240" cy="97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305160" y="2533320"/>
              <a:ext cx="633960" cy="97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649680" y="3288600"/>
              <a:ext cx="627840" cy="97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197240" y="3754080"/>
              <a:ext cx="628560" cy="96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798800" y="3350520"/>
              <a:ext cx="628560" cy="97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868280" y="2021040"/>
              <a:ext cx="694080" cy="137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4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109440" y="399096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124200" y="5342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 flipH="1">
            <a:off x="990720" y="50292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1905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5562720" y="2666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 flipV="1">
            <a:off x="7848720" y="2666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5635080" y="24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5571720" y="26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>
            <a:off x="8118720" y="41432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>
            <a:off x="7848720" y="4419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341136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>
            <a:off x="478296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171360" y="190440"/>
            <a:ext cx="26290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252360" y="216000"/>
            <a:ext cx="2567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3 Funs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ansas  661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3) 342-6624…Richard Charles x-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>
            <a:off x="19440" y="338148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5410080" y="3200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5635080" y="2986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5604480" y="326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478296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 flipV="1">
            <a:off x="6934320" y="32000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5691600" y="4219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212976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11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20977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5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4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>
            <a:off x="3866040" y="20113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227-9D6F-423B-BEC4-6B396C0B1E78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BD0B1-8543-411C-9CF4-DBCCF11195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6:38:45Z</dcterms:created>
  <dc:creator>Jerry Cormier</dc:creator>
  <dc:description/>
  <dc:language>en-US</dc:language>
  <cp:lastModifiedBy>Jerry Cormier</cp:lastModifiedBy>
  <cp:lastPrinted>2000-04-11T13:09:50Z</cp:lastPrinted>
  <dcterms:modified xsi:type="dcterms:W3CDTF">2001-04-20T13:30:42Z</dcterms:modified>
  <cp:revision>487</cp:revision>
  <dc:subject>Network Schematics</dc:subject>
  <dc:title>Network Hub - BENSENVILLE</dc:title>
</cp:coreProperties>
</file>