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67A-961F-471D-A09D-97FF3068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717-8965-43F3-B164-E216DF3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BAB-739E-4327-9A85-473B6228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676-4AA1-40B0-B447-DDCE760C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6CA-2FA2-434B-9B75-CED619FB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C58-41CC-4029-8CD3-29D5B8EE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788-8846-4082-8C7D-1491E7F0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B89-73B2-4CE1-B418-6480C678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E32-566F-4A5E-B16A-523A041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566-589D-427E-B408-F60E3C0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480-51A9-434D-AF46-3723852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E10-F852-40D3-A1B9-7271A9BE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832-E75C-4BBD-9AA9-A6CACFE95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0"/>
          <a:ext cx="7543800" cy="66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54380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514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05740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463 et pr0n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lancher dev/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n ti mot des intéressé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hacking</a:t>
            </a:r>
            <a:br>
              <a:rPr sz="4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( sploits and sec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2057400"/>
            <a:ext cx="723888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bablement à la st-valentin 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(cut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rrection individuelle (pas l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u moins 70%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intenant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concurrent : madquebec, LJNB: dead, essayer de remplacer en bouffant les articles via L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; design : 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diffé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 aboutus database exploits products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projects services doors ju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: submis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WiL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edied      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BSD, speed++, P3 500, 2 NS (NT+B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membres enh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as pyrof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438280"/>
            <a:ext cx="7620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xemple IGA / TSA (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as juste Mulder pis Patoff ( Nuclear, TheDamned pis un autre (si on aurait pas défacé le site on l’aurait su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ection phreak déficiante du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oyen d’aller chercher ça ailleu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321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13372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oublie la sod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e sont pas des f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T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va aller les voir pis les j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Times New Roman"/>
              </a:rPr>
              <a:t>T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643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r Wyzeman et LastCall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3" name="happy2003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h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as pyrofreak (fusio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mi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uxième eZine sept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oisième eZine déc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ext eZine ??? DEM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05740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4048200"/>
            <a:ext cx="397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22860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41960" y="4624560"/>
            <a:ext cx="3902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92468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46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4800600"/>
            <a:ext cx="3824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3-01-18T19:40:58Z</dcterms:modified>
  <cp:revision>24</cp:revision>
  <dc:subject/>
  <dc:title>Présentation PowerPoint</dc:title>
</cp:coreProperties>
</file>