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28.png" ContentType="image/png"/>
  <Override PartName="/ppt/media/image9.png" ContentType="image/png"/>
  <Override PartName="/ppt/media/image17.wmf" ContentType="image/x-wmf"/>
  <Override PartName="/ppt/media/image8.png" ContentType="image/png"/>
  <Override PartName="/ppt/media/image16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7.png" ContentType="image/png"/>
  <Override PartName="/ppt/media/image23.png" ContentType="image/png"/>
  <Override PartName="/ppt/media/voyborg2.wav" ContentType="audio/x-wav"/>
  <Override PartName="/ppt/media/image22.png" ContentType="image/png"/>
  <Override PartName="/ppt/media/image1.png" ContentType="image/png"/>
  <Override PartName="/ppt/media/image26.jpeg" ContentType="image/jpeg"/>
  <Override PartName="/ppt/media/image20.wmf" ContentType="image/x-wmf"/>
  <Override PartName="/ppt/media/image19.png" ContentType="image/png"/>
  <Override PartName="/ppt/media/image21.png" ContentType="image/png"/>
  <Override PartName="/ppt/media/image18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25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C62A-B0E3-4BC8-8986-7FFF656DF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BCA9-16E0-4194-A70A-713E7B796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6E60-2457-4AF5-99B4-5EC1E5175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9A8A-74D4-4A33-B444-82DE586FE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0C51-4352-4E65-A0E0-B7E7F6EED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78FE-CAD6-4D9A-A707-9195D3564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3A70-D769-4ADA-BED6-C3BA59A0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59C3-F835-4539-AFFB-17D083DE5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2197-5F85-42F3-965E-C39E360E5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229E-592A-42EA-9B9C-288F2918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3863-498A-4C94-AA42-2A7EF053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3441-5E7C-407E-9599-0141E1B7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54F50-191F-42AE-8E47-0FEA0B5C4F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vivelerock.espio.free.fr/ezines/tries/contenu.html" TargetMode="External"/><Relationship Id="rId2" Type="http://schemas.openxmlformats.org/officeDocument/2006/relationships/hyperlink" Target="http://vivelerock.espio.free.fr/ezines/tries/contenu.html" TargetMode="External"/><Relationship Id="rId3" Type="http://schemas.openxmlformats.org/officeDocument/2006/relationships/hyperlink" Target="http://vivelerock.espio.free.fr/ezines/tries/contenu.html" TargetMode="External"/><Relationship Id="rId4" Type="http://schemas.openxmlformats.org/officeDocument/2006/relationships/hyperlink" Target="http://vivelerock.espio.free.fr/ezines/tries/contenu.html" TargetMode="External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4.png"/><Relationship Id="rId3" Type="http://schemas.openxmlformats.org/officeDocument/2006/relationships/image" Target="../media/image22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audio" Target="../media/voyborg2.wav"/><Relationship Id="rId7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mindkind.org/" TargetMode="External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987800" y="4800600"/>
            <a:ext cx="4156200" cy="232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" name=""/>
          <p:cNvGraphicFramePr/>
          <p:nvPr/>
        </p:nvGraphicFramePr>
        <p:xfrm>
          <a:off x="0" y="0"/>
          <a:ext cx="9396360" cy="5194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396360" cy="519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219320" y="2057400"/>
            <a:ext cx="7238880" cy="22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Faudrait pas attendre 11 mois avant   dle releaser celui la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Toujours le seul eZine QC qui a de l’allure 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(voir « </a:t>
            </a:r>
            <a:r>
              <a:rPr b="0" lang="fr-CA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french</a:t>
            </a:r>
            <a:r>
              <a:rPr b="0" lang="fr-CA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</a:t>
            </a:r>
            <a:r>
              <a:rPr b="0" lang="fr-CA" sz="2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ezine</a:t>
            </a:r>
            <a:r>
              <a:rPr b="0" lang="fr-CA" sz="2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 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»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Arial"/>
              </a:rPr>
              <a:t>Futur eZ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219320" y="2057400"/>
            <a:ext cx="723888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vent principal au Québ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gnant l’année derniè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sibilité de participer en tant qu’organisateur pour l’édition à venir (radio31337, 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Arial"/>
              </a:rPr>
              <a:t>Hackf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mpi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Times New Roman"/>
              </a:rPr>
              <a:t>Insèrer arbre sans les nicks (le faire dans wor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484360" y="2349360"/>
            <a:ext cx="4159440" cy="33912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39640" y="-674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2556000" y="2421000"/>
            <a:ext cx="4014720" cy="32734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2484360" y="-531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1692360" y="-603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3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voyborg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5557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557"/>
                            </p:stCondLst>
                            <p:childTnLst>
                              <p:par>
                                <p:cTn id="1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4663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219320" y="2057400"/>
            <a:ext cx="7238880" cy="37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Coding : Wyze, SeriousMan, __2; design : __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Encore plus giga-powerful que l’aut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Hosting </a:t>
            </a:r>
            <a:r>
              <a:rPr b="0" lang="fr-CA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mindkind.org</a:t>
            </a: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 job a Wyze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, DNS de blk_ice,  emails ETS (Last), mkdwebdev machine dédié fourni par Last hoster job à Wy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Site web affilié hack.fr… ?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Arial"/>
              </a:rPr>
              <a:t>Futur site we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-541440" y="1844640"/>
            <a:ext cx="1029672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roj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90720" y="2133720"/>
            <a:ext cx="7238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1916280"/>
            <a:ext cx="76201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Mindkind Rally (chat/souri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MKD Kamar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MKDcrypt v2 (enfin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MKD echel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(MMM) Maz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KEEP ALL INFO HERE SEMI-PRIVAT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1173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79280" y="3141720"/>
            <a:ext cx="8964720" cy="1149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79280" y="4724280"/>
            <a:ext cx="8964720" cy="11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4181400" cy="4959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211640" y="1773360"/>
            <a:ext cx="522936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8893080" cy="48988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763640" y="1341360"/>
            <a:ext cx="6391440" cy="9623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411280" y="1125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1908000" y="0"/>
            <a:ext cx="5486400" cy="1663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484360" y="1773360"/>
            <a:ext cx="4329360" cy="4464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1763640" y="1773360"/>
            <a:ext cx="5326200" cy="4459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2124000" y="2133720"/>
            <a:ext cx="5327640" cy="3752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2916360" y="7101000"/>
            <a:ext cx="3246480" cy="3456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1763640" y="1989000"/>
            <a:ext cx="5686560" cy="417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2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219320" y="1523880"/>
            <a:ext cx="723888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Mindkind 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Quelques statist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Futur eZ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HackF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mp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Futur sites we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Running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Ordre du jou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219320" y="1600200"/>
            <a:ext cx="723888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Established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#sector_x 1999- 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#mindkind 2001 -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1er eZine mai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2ième sept. 2002, 3ième déc.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4ième déc.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5ième août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Arial"/>
              </a:rPr>
              <a:t>Mindkind 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219320" y="2057400"/>
            <a:ext cx="72388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eZine genre d’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Inflation des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Grosseur des eZ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NB articles et auteurs par eZ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Tailles des eZines (comparative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Quelques statisti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62000" y="0"/>
          <a:ext cx="9142200" cy="485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00" y="0"/>
                    <a:ext cx="914220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896000" y="3673440"/>
            <a:ext cx="424800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0" y="169920"/>
          <a:ext cx="10044000" cy="483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9920"/>
                    <a:ext cx="10044000" cy="48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643280" y="4816440"/>
            <a:ext cx="381024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5060880"/>
            <a:ext cx="3824280" cy="240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539640" y="0"/>
          <a:ext cx="9144000" cy="5672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0"/>
                    <a:ext cx="9144000" cy="567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609480" y="0"/>
          <a:ext cx="7925040" cy="679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0"/>
                    <a:ext cx="7925040" cy="67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638680" y="5697360"/>
            <a:ext cx="2595600" cy="11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5T22:24:08Z</dcterms:created>
  <dc:creator>LastCall_</dc:creator>
  <dc:description/>
  <dc:language>en-US</dc:language>
  <cp:lastModifiedBy>LastCall_</cp:lastModifiedBy>
  <dcterms:modified xsi:type="dcterms:W3CDTF">2004-11-06T02:10:03Z</dcterms:modified>
  <cp:revision>45</cp:revision>
  <dc:subject/>
  <dc:title>Présentation PowerPoint</dc:title>
</cp:coreProperties>
</file>